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whoosh.wav" ContentType="audio/x-wav"/>
  <Override PartName="/ppt/media/image10.jpeg" ContentType="image/jpeg"/>
  <Override PartName="/ppt/media/image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18.jpeg" ContentType="image/jpe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3.png" ContentType="image/png"/>
  <Override PartName="/ppt/media/image1.jpeg" ContentType="image/jpeg"/>
  <Override PartName="/ppt/media/image2.jpeg" ContentType="image/jpeg"/>
  <Override PartName="/ppt/media/camera.wav" ContentType="audio/x-wav"/>
  <Override PartName="/ppt/media/image7.jpeg" ContentType="image/jpeg"/>
  <Override PartName="/ppt/media/image11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C5F-BC51-40C3-8BAC-F8CABD92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EEE-262A-42BD-8004-64EF8796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B46-ADEC-4E92-9451-C6D07A47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2FB-1566-4205-8FAF-86DA6D75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C5D0-0DF4-408F-B036-12907EDE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E8D4-8518-42AB-A603-DFA17A81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DEB0-A960-449C-9487-CE0BC03A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174A-5666-41A8-8843-9DEC88EA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AD9F-D6DE-4D1B-A789-C4710119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0189-350F-4DF8-9BEA-036B9E0B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2CA9-62A5-4473-94A9-4C64C90C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C12-3069-47F3-A6F8-D3252A65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06BB-9602-45E6-84DB-6ED59ADE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53E3-8B79-402A-BB53-12BA611A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0330-42C0-45EA-9450-2ED17EB9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C3BF-5608-43B8-A45E-84511A21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D774-8968-41F2-9F8E-E050AFA7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DDE-1099-4EA1-82A8-40E3A430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427-9208-4EBC-B42A-4A9CE9E0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46F-6977-43C2-B671-7A94376F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3DC0-42C1-4C4B-9D11-829E4971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6A3-42A4-43BB-9A68-1A6B7D4B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674-BBA4-424A-8B8C-FA70B0C6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98B-2F62-4F5A-B6B2-8C4585AA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D7E4-0331-467A-9BE4-35917336551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F2AE-D3AD-4F7F-8751-D792C5E802B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67518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219320"/>
            <a:ext cx="1066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人形象礼仪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910440" y="304920"/>
            <a:ext cx="2009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华文新魏"/>
                <a:ea typeface="华文新魏"/>
              </a:rPr>
              <a:t>第二章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三节 服饰礼仪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着装的基本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服饰的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着装原则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．着装与色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服装与体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服饰的搭配技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16480" y="1600200"/>
            <a:ext cx="3827520" cy="49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19560" y="0"/>
            <a:ext cx="41497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二、西装穿着礼仪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648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拆除服装商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长短肥瘦合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整洁平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正式场合着西装必须系领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西装钮扣的扣法很讲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西装的口袋，只起装饰作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慎穿毛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鞋袜与西服的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4267080" cy="5194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饰物佩戴礼仪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5029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佩戴饰物的基本规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地精良、一致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少而精为佳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与场合、身材、脸型、服装、身份相协调。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懂得饰物的寓意，避免尴尬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．不可忽略小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整理仪容仪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衣不外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3120" y="1116000"/>
            <a:ext cx="4430880" cy="574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案例分析：略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5715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四节 仪态礼仪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62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面部表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眼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眼神的礼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眼神应用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公务注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社交注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亲密注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微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微笑的动作要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27640" y="1295280"/>
            <a:ext cx="3816360" cy="518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2185920" cy="6095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00600" y="609480"/>
            <a:ext cx="2494080" cy="6248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840360" y="695160"/>
            <a:ext cx="2303640" cy="61628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二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举止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2743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站姿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要求：站如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正目平，嘴唇微闭，下颌微收，面容平和自然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肩放松，稍向下沉，人体有向上的感觉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躯干挺直，做到挺胸、收腹、立腰；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腿立直，并拢，脚跟相靠，脚掌分开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6360" y="4495680"/>
            <a:ext cx="91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前腹式站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42640" y="4267080"/>
            <a:ext cx="91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侧放式站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3440" y="4191120"/>
            <a:ext cx="9118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背式站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应避免的不良站姿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探脖、斜肩、驼背、挺腹、撅臀、耸肩、双腿弯曲或不停颤抖、双手插兜等。以上无论哪种姿态都是不美的，影响个人的风度和交际形象，必须加以克服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坐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坐姿的标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座位的左侧人坐，轻稳坐下。入座时要轻、要稳，女土入座前要先整理衣裙下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双目平视，嘴唇微闭，下颌微收。双肩平正放松，两臂自然弯曲平放在腿上，也可以掌心向下放在椅子或沙发扶手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坐姿要求挺胸、提臀、立腰。上体自然挺直。双膝自然并拢，双脚尖正前方或交叠。男士双脚可平行打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注意小于肩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81760" y="609480"/>
            <a:ext cx="4062240" cy="54104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52578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坐姿礼仪要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入座顺序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要让客人、长辈、领导先入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女士优先入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讲究方法：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入座后坐满椅子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轻靠椅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任何时候入座离座，养成左进左出的习惯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要把舒适宽敞的座位让给受尊敬的人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45756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一节 仪表礼仪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什么叫仪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仪表指的是人的外表，包括容貌、姿态、服饰和风度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仪表美包括三个层次的含义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然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修饰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心灵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4895640" cy="579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．步姿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5029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姿规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头正，双目平视前方，微收下颌，面容平和自然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双肩平稳，双臂前后自然摆动，摆幅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0-3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度为宜，双肩不要过于僵硬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上身挺直，挺胸，收腹，立腰，重心稍前倾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意步位，双脚的内侧脚掌落地时应在一条直线上，行走线迹应是一条直线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943600" y="0"/>
            <a:ext cx="2951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5410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正确的步姿及其矫正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八字步、外八字步、走路时弯腰驼背、摇肩晃膀、扭臀摆胯、上下颠动、脚底擦地走等等。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意识地走直线，可以沿着马路沿或砖缝练习行走；平时注意正确步姿要领，克服自身不良习惯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行进中的礼仪规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05520" y="0"/>
            <a:ext cx="29512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、手势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使用手势的礼仪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使用手势应注意其力度的大小和幅度，要少而精，大小力度适中，不宜单调重复，上界不超过头顶，下界不低于胸部，左右不超过肩宽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然亲切，多用柔和曲线的手势，避免生硬的直线的手势，不单调重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4343400" cy="389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(2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用几种引导手势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3809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横摆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斜摆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直臂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曲臂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双臂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应当避免的不良举止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24480" y="1295280"/>
            <a:ext cx="408600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活中有些手势举止令人非常反感，而且严重影响个人的交际形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洁不雅的举止：如当众挠痒痒、搓泥儿、搔头皮、抖头皮屑、掏耳朵、抠鼻孔、拭眼屎、剔牙齿、嘬手指、咬指甲、修指甲、揉衣角、与人交谈时用手指在桌上乱写乱画等等，这些举止都是不洁不雅的，在交际场合应当禁忌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除此之外，应当控制体声，如：打嗝、打哈欠、咳嗽、打喷嚏等，避免发出大声，要用手或手帕捂住口鼻，面向一侧，完事后要向周围的人道对不起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案例分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]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略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题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职业工作者应如何维护个人形象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化装应注意的礼节有哪些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着装应该注意哪些基本原则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简述着装的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TP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原则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学习礼仪，结合本人实际，谈谈在良好行为习惯的养成方面，有哪些改进和提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今后工作、生活中如何提高自身基本素质和修养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问答题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仪表礼仪的作用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仪表决定第一印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仪表影响社会环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注重仪表会扼杀就业机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良好的仪表是成功的象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加强修养，塑造形象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-175320"/>
            <a:ext cx="807732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6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与教养可以给人聪明才智和高尚的情操，能极大地弥补外在美的缺陷，从而使人具有脱俗的气质和优雅的风度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880240" y="0"/>
            <a:ext cx="3263760" cy="7305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节 仪容礼仪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发型礼仪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型与职业相协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型与脸型相协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型与年龄相协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型与性别相协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型与服饰相协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面容礼仪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029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面容清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面容保健常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克服面部不良习惯性小动作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化妆礼仪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8800" y="762120"/>
            <a:ext cx="380520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76920" y="1066680"/>
            <a:ext cx="426708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145440"/>
            <a:ext cx="426708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装步骤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洁肤和润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上粉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描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画眼影眼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画唇线，涂口红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妆时应注意的礼节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妆的浓淡要视时间场合而定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妆或修饰面妆，应在卧室或洗手间，当众化妆，是非常失礼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他人的化妆不可评头论足，讥笑非议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何人，任何情况下，不可借用他人的化妆用品。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颈部的美化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手部的美化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、脚部的卫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14:39:5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7:31Z</dcterms:modified>
  <cp:revision>25</cp:revision>
  <dc:subject>主题班会课件(分28大类): http://shop62905894.taobao.com</dc:subject>
  <dc:title>主题班会课件(分28大类): http://shop62905894.taobao.com</dc:title>
</cp:coreProperties>
</file>