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4.png" ContentType="image/png"/>
  <Override PartName="/ppt/media/image24.gif" ContentType="image/gif"/>
  <Override PartName="/ppt/media/image22.gif" ContentType="image/gif"/>
  <Override PartName="/ppt/media/image14.png" ContentType="image/png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6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CA1-58E9-47F3-B02E-6BDB551B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0CA-33AD-49F7-A84B-D467FBD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FC9-5D23-4F22-9609-CFFDBCE6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211-F715-4A28-AAD2-E1D0A1D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4C8-1209-4A44-9F55-A05F4DC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400-AF4F-4432-A7B0-5B0D6ACD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E03-876C-4EE1-809E-7FF5993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81A-AB9A-4ED5-815E-737E8308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67A-DD61-44B2-8F3D-2768A7D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5F2-A147-41C4-87E4-A7603FE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A65-92BB-47D5-A3C5-19EC101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BF1-E7FC-41AA-B41F-80BC920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1ED0-FF6C-47CE-A146-D61DAE839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6.gif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4280"/>
            <a:ext cx="165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91628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美丽女生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63200" y="530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主讲：唐文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95640" y="260280"/>
            <a:ext cx="6918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清水出芙蓉  天然去雕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青春无敌－－享受自然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5003640" y="1989000"/>
            <a:ext cx="37134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误区一：整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5580000" y="4365720"/>
            <a:ext cx="33530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误区二：化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4427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03160" y="764640"/>
            <a:ext cx="6972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化妆：青春美的天敌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你化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你的班上有涂脂抹粉、浓妆艳抹的女同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你会用什么眼光去看待学生化妆一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70880" y="476280"/>
            <a:ext cx="12222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47280" y="404280"/>
            <a:ext cx="741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说说你的装扮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华文新魏"/>
                <a:ea typeface="华文新魏"/>
              </a:rPr>
              <a:t>——</a:t>
            </a:r>
            <a:r>
              <a:rPr b="1" lang="zh-CN" sz="5400" spc="-1" strike="noStrike">
                <a:solidFill>
                  <a:srgbClr val="9900cc"/>
                </a:solidFill>
                <a:latin typeface="华文新魏"/>
                <a:ea typeface="华文新魏"/>
              </a:rPr>
              <a:t>怎样的装扮才最好看，最适合现在的你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 rot="5400000">
            <a:off x="-497520" y="2894760"/>
            <a:ext cx="6094440" cy="87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的女生最美丽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205080" y="1270080"/>
            <a:ext cx="432000" cy="374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1440" y="981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外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7440" y="404640"/>
            <a:ext cx="216000" cy="18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156360" y="47628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172200" y="201312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装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4653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内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407844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6156360" y="3714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5730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067280" y="2349360"/>
            <a:ext cx="15555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1484280"/>
            <a:ext cx="676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女生的相貌不是最重要的，最重要的是素质，男生一致欣赏的是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落落大方，举止高雅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的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高雅的素质需要从小的培养，是从心里透出来的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从容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淡定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，是在乱世中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出淤泥而不染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，是在一大群人中仍然可以被辨认出来，因为只有她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眼神清澈，谈吐自然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04640"/>
            <a:ext cx="3960720" cy="863640"/>
          </a:xfrm>
          <a:prstGeom prst="flowChartPreparati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关于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72320" y="189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9600" y="56610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79640" y="1305000"/>
            <a:ext cx="655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彩云"/>
              </a:rPr>
              <a:t>请对照自己比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彩云"/>
              </a:rPr>
              <a:t>男生心目中最讨厌的女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d1515"/>
                </a:solidFill>
                <a:latin typeface="Arial"/>
                <a:ea typeface="华文彩云"/>
              </a:rPr>
              <a:t>   “</a:t>
            </a:r>
            <a:r>
              <a:rPr b="1" lang="zh-CN" sz="4400" spc="-1" strike="noStrike">
                <a:solidFill>
                  <a:srgbClr val="fd1515"/>
                </a:solidFill>
                <a:latin typeface="Arial"/>
                <a:ea typeface="华文彩云"/>
              </a:rPr>
              <a:t>十大最没素质的表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9640" y="4148280"/>
            <a:ext cx="12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48360" y="47772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549360"/>
            <a:ext cx="7056360" cy="122400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一：不会好好讲话的女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老是嗲声嗲气的 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060640"/>
            <a:ext cx="6264000" cy="1224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二：随手乱丢垃圾的女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没有一丁点环保意识 无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573360"/>
            <a:ext cx="568800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三：以貌取人 见钱眼开的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令人鄙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1749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63640" y="333360"/>
            <a:ext cx="7056360" cy="122400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四：不会尊重自己和他人的朋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自以为了不起的女生 可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1773360"/>
            <a:ext cx="6264360" cy="1224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五：不懂得孝敬和关心自己的父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总以自己为中心的女生 可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3357720"/>
            <a:ext cx="5400720" cy="122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六：盲目追星 哈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尤其是哈日的女生 可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869000"/>
            <a:ext cx="446400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七：抽烟的女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3640" y="404640"/>
            <a:ext cx="7056360" cy="122400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八：十句话中带九句脏话的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2349360"/>
            <a:ext cx="5977080" cy="1224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九：浓妆艳抹 尤其是打扮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际年龄不协调的女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149720"/>
            <a:ext cx="5256000" cy="1224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现十：而最最不可忍受的则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无知肤浅 没有内涵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12492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33"/>
                </a:solidFill>
                <a:latin typeface="Arial"/>
              </a:rPr>
              <a:t>高雅素质从何而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628640"/>
            <a:ext cx="4176720" cy="129564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一个受过高等教育的女生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一个没有受过高等教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女生素质是不一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916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素质来源于她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幼圆"/>
              </a:rPr>
              <a:t>修养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357012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           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她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幼圆"/>
              </a:rPr>
              <a:t>品质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3284640"/>
            <a:ext cx="4178520" cy="1296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一个宽容、善良、亲切，通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达理的女生和贪婪自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女生会完全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08464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           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她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幼圆"/>
              </a:rPr>
              <a:t>见识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幼圆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869000"/>
            <a:ext cx="4105440" cy="129528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一个见识短浅的女生和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胸怀宽阔的女生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会完全不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07280" y="11592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050920" y="306864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你自己是一个美丽女生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美丽的女生应该是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4720" y="1123920"/>
            <a:ext cx="540072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你心目中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0014" descr=""/>
          <p:cNvPicPr/>
          <p:nvPr/>
        </p:nvPicPr>
        <p:blipFill>
          <a:blip r:embed="rId3"/>
          <a:stretch/>
        </p:blipFill>
        <p:spPr>
          <a:xfrm>
            <a:off x="7866000" y="4451400"/>
            <a:ext cx="954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00360" y="1413000"/>
            <a:ext cx="62294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气质最重要的来源是自信。自信，所以美丽。做一个自信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不是傲慢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)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的女生，她的素质就会立刻散发出来。我们都可以做一个有吸引力的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著名影星索菲亚罗兰在《女性与美》中，这样谈到：“</a:t>
            </a: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如果你自信，你就美丽。一旦相信自己有自信的充分理由，真正美丽的潜力便属于你所有</a:t>
            </a:r>
            <a:r>
              <a:rPr b="1" lang="zh-CN" sz="2800" spc="-1" strike="noStrike">
                <a:solidFill>
                  <a:srgbClr val="6600cc"/>
                </a:solidFill>
                <a:latin typeface="幼圆"/>
                <a:ea typeface="幼圆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04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幼圆"/>
              </a:rPr>
              <a:t>她的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幼圆"/>
              </a:rPr>
              <a:t>自信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幼圆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195280" y="228600"/>
            <a:ext cx="6298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愿我们的女生都能拥有高雅的气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活泼而不放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单纯而不呆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大方而不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自信而不自负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80360" y="1125360"/>
            <a:ext cx="1468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5400000">
            <a:off x="-497520" y="2894760"/>
            <a:ext cx="6094440" cy="87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的女生最美丽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1270080"/>
            <a:ext cx="432000" cy="374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1440" y="981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外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7440" y="404640"/>
            <a:ext cx="216000" cy="18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7628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01312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装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4653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内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407844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3714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5730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15555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32000" y="476280"/>
            <a:ext cx="3961080" cy="863640"/>
          </a:xfrm>
          <a:prstGeom prst="flowChartPreparation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关于人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1773360"/>
            <a:ext cx="5184720" cy="93636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一、与人交往应具备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2997360"/>
            <a:ext cx="5184720" cy="93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二、交往五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363920"/>
            <a:ext cx="5185080" cy="936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三、如何处理与异性的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1052640"/>
            <a:ext cx="5472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学会欣赏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276640"/>
            <a:ext cx="71294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常见这样的人：自己有了成绩，有了荣誉，就欢呼雀跃，神采飞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别人有了成绩，有了进步，或者比自己漂亮却视而不见、充耳不闻，甚至冷嘲热讽、挖苦、嫉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学会欣赏别人，是一种人格修养，一种气质提升，有助于自己逐渐走向完美。</a:t>
            </a:r>
            <a:r>
              <a:rPr b="1" lang="zh-CN" sz="2400" spc="-1" strike="noStrike">
                <a:solidFill>
                  <a:srgbClr val="9900cc"/>
                </a:solidFill>
                <a:latin typeface="幼圆"/>
                <a:ea typeface="幼圆"/>
              </a:rPr>
              <a:t>一个人总能在某一方面胜过别人，但在这一方面也总会有人比他强。所谓 一山还有一山高，就是这个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0920" y="333360"/>
            <a:ext cx="5185080" cy="93672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与人交往应具备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8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顾全大局，为别人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21000"/>
            <a:ext cx="6337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顾全大局，善于观颜察色，善于设身处地为别人着想，注意别人需要什么，善于处理问题，让大家能在一个融洽的氛围中相处。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这样，就能受到大家的喜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260280"/>
            <a:ext cx="5184720" cy="93672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与人交往应具备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8000" y="1052280"/>
            <a:ext cx="58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热情、大方、善解人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1828800"/>
            <a:ext cx="6842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《少男少女》杂志，从全国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60000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份调查表中得出统计结果——最让男生欣赏的女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经常脸上有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微笑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，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温柔大方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的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活泼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而不疯癫，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稳重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而不呆板的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清纯秀丽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，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笑起来甜甜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的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心直口快，朴素善良、随和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的女孩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聪颖、善解人意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的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纯真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不做作、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有性格</a:t>
            </a:r>
            <a:r>
              <a:rPr b="1" lang="zh-CN" sz="2400" spc="-1" strike="noStrike">
                <a:solidFill>
                  <a:srgbClr val="9900ff"/>
                </a:solidFill>
                <a:latin typeface="幼圆"/>
                <a:ea typeface="幼圆"/>
              </a:rPr>
              <a:t>的女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8000" y="333360"/>
            <a:ext cx="5185080" cy="93672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与人交往应具备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宽     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751040"/>
            <a:ext cx="604980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幼圆"/>
                <a:ea typeface="幼圆"/>
              </a:rPr>
              <a:t>你曾经因为别人的过失而生气吗？你曾经因为某一件事而和好朋友吵架吗？你曾经因为某次公车上一位陌生人不小心将你撞倒而大骂出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学会宽容别人，也是善待自已的一种方式</a:t>
            </a:r>
            <a:r>
              <a:rPr b="1" lang="zh-CN" sz="2800" spc="-1" strike="noStrike">
                <a:solidFill>
                  <a:srgbClr val="3333ff"/>
                </a:solidFill>
                <a:latin typeface="幼圆"/>
                <a:ea typeface="幼圆"/>
              </a:rPr>
              <a:t>。</a:t>
            </a:r>
            <a:r>
              <a:rPr b="1" lang="zh-CN" sz="2800" spc="-1" strike="noStrike">
                <a:solidFill>
                  <a:srgbClr val="9900ff"/>
                </a:solidFill>
                <a:latin typeface="幼圆"/>
                <a:ea typeface="幼圆"/>
              </a:rPr>
              <a:t>生活，是在宽容中越走越宽广的；朋友，也会因为你的宽容而越来越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67640" y="333360"/>
            <a:ext cx="12762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11280" y="260280"/>
            <a:ext cx="5185080" cy="93672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与人交往应具备的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66"/>
              </a:solidFill>
              <a:latin typeface="华文新魏"/>
              <a:ea typeface="华文新魏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1052640"/>
            <a:ext cx="460836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一 忌心胸狭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二 忌疑神疑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三 忌妒火中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四 忌贪小便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五 忌要求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24720" y="11667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8360" y="476280"/>
            <a:ext cx="4464360" cy="936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交往五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异性交往关系之准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916280"/>
            <a:ext cx="669600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自然地、落落大方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地进行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、要学会</a:t>
            </a: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尊重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对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、要学会</a:t>
            </a: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自爱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。特别是女同学，要有自我保护意识，不与不三不四的异性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适度交往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。异性交往的程度和方式要恰到好处，做到自然适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99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96120" y="4471920"/>
            <a:ext cx="1884240" cy="238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50920" y="404640"/>
            <a:ext cx="5185080" cy="936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三、如何处理与异性的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请从下列词语中挑出五个你觉得美丽女生最应该具备的条件</a:t>
            </a:r>
            <a:r>
              <a:rPr b="0" lang="zh-CN" sz="3600" spc="-1" strike="noStrike">
                <a:solidFill>
                  <a:srgbClr val="9900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1701720"/>
            <a:ext cx="24494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脸蛋漂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0480" y="4017960"/>
            <a:ext cx="2514600" cy="647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成绩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0480" y="3294000"/>
            <a:ext cx="2442960" cy="6476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打扮时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79736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清新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0480" y="2494080"/>
            <a:ext cx="2442960" cy="64764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身材健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2514600" cy="647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善于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07664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典雅大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01040" y="765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76720" y="1701720"/>
            <a:ext cx="236232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独立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3284640"/>
            <a:ext cx="2362320" cy="6476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乐观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2494080"/>
            <a:ext cx="2362320" cy="64764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宽容温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08000" y="549360"/>
            <a:ext cx="6193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总之：女生在与异性相处时，一定要保持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自尊、自爱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的美德，既要有女性的荣誉感，又要善于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自我保护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在异性同学的交往中，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注意言行谨慎，注意把握分寸，</a:t>
            </a:r>
            <a:r>
              <a:rPr b="1" lang="zh-CN" sz="3200" spc="-1" strike="noStrike">
                <a:solidFill>
                  <a:srgbClr val="9900ff"/>
                </a:solidFill>
                <a:latin typeface="幼圆"/>
                <a:ea typeface="幼圆"/>
              </a:rPr>
              <a:t>是可以存在真诚的友谊的，真诚的朋友是不分性别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59760" y="4471920"/>
            <a:ext cx="18842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00200" y="380880"/>
            <a:ext cx="75438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美丽女生          女生美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让我们从现在开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树立正确的美丽理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由内至外修塑自己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愿大家都成为人群中最闪亮的美丽女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67080" y="20520"/>
            <a:ext cx="15796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233440" y="2057400"/>
            <a:ext cx="4776840" cy="2286000"/>
            <a:chOff x="2233440" y="2057400"/>
            <a:chExt cx="4776840" cy="2286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3090600" y="2057400"/>
              <a:ext cx="81936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519440" y="2133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"/>
            <p:cNvGrpSpPr/>
            <p:nvPr/>
          </p:nvGrpSpPr>
          <p:grpSpPr>
            <a:xfrm>
              <a:off x="2233440" y="2209680"/>
              <a:ext cx="4776840" cy="2133720"/>
              <a:chOff x="2233440" y="2209680"/>
              <a:chExt cx="4776840" cy="213372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3440" y="2209680"/>
                <a:ext cx="9907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76400" y="2305080"/>
                <a:ext cx="81936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81560" y="22860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4520" y="3504960"/>
                <a:ext cx="838440" cy="83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76640" y="365760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6120" y="3504960"/>
                <a:ext cx="76212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24560" y="3516120"/>
                <a:ext cx="585720" cy="67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517760" y="304920"/>
            <a:ext cx="1149120" cy="1149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2736720" y="29844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956040" y="29844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5175360" y="298440"/>
            <a:ext cx="1149120" cy="1149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6394320" y="29844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7259760" y="3124080"/>
            <a:ext cx="1884240" cy="2386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2895480" y="554976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4114800" y="554976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5334120" y="5549760"/>
            <a:ext cx="1149120" cy="114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6553080" y="5549760"/>
            <a:ext cx="1149480" cy="1149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0"/>
          <a:stretch/>
        </p:blipFill>
        <p:spPr>
          <a:xfrm>
            <a:off x="7772400" y="555624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-497520" y="2894760"/>
            <a:ext cx="6094440" cy="87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的女生最美丽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1270080"/>
            <a:ext cx="432000" cy="374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1440" y="981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外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7440" y="404640"/>
            <a:ext cx="216000" cy="18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6156360" y="404640"/>
            <a:ext cx="1463760" cy="57816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172200" y="201312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装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46530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内在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407844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156360" y="3714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6156360" y="5730840"/>
            <a:ext cx="1463760" cy="577800"/>
          </a:xfrm>
          <a:prstGeom prst="roundRect">
            <a:avLst>
              <a:gd name="adj" fmla="val 16667"/>
            </a:avLst>
          </a:prstGeom>
          <a:solidFill>
            <a:srgbClr val="fd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5555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95640" y="333000"/>
            <a:ext cx="691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清水出芙蓉  天然去雕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青春无敌－－享受自然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5003640" y="1989000"/>
            <a:ext cx="37134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误区一：整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580000" y="4365720"/>
            <a:ext cx="3353040" cy="6476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误区二：化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4427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33720" y="457200"/>
            <a:ext cx="61833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案例一：人造美女的悲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1484280"/>
            <a:ext cx="67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悲剧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手术失败－健康不在－后患无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美容医疗事故在我们身边比比皆是，轻则容颜尽毁，重责猝死在手术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这个险，值得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92360" y="260280"/>
            <a:ext cx="6912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悲剧二：手术成功了， 为什么还是没有为自己的人生带来“喜剧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让我们看看两个真实的小故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一、关于中国第一人造美女手术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必须面临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——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身上留下难看的疤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——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即使是最好的材料，也不能保证日后不会出现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——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周围的压力、可畏的人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24720" y="4724280"/>
            <a:ext cx="119232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282600"/>
            <a:ext cx="7056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二、人造美女的婚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某省一对夫妇生子后婚姻触礁，原因是丈夫怀疑小孩非自己亲生，他怎么也不相信漂亮迷人的妻子生出的孩子如此丑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在向法院递交离婚申请后，事情真相大白，原来与自己朝夕相对的美丽妻子竟是个后天造就的人造美女。外表的变动无法左右内在的基因，所以自然无法生育漂亮可爱的宝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知道真相后，丈夫仍然要求离婚，因为不能忍受妻子的另一种欺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05840" y="152280"/>
            <a:ext cx="10760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09680" y="476280"/>
            <a:ext cx="62499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案例二：独爱自己小虎牙的巩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19800" y="1413000"/>
            <a:ext cx="3112920" cy="48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1341360"/>
            <a:ext cx="36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在明星整容成风的今天，巩俐不但没有强求改变自己本身的特点，反而大胆宣布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自己最满意的部位正是这口特别的小虎牙</a:t>
            </a: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。原因很简单，因为它是最自然，最独特的巩俐特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保持本色，甚至把自身的不足当成特点去珍爱、去欣赏</a:t>
            </a: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，也许这也正是大明星巩俐的过人之处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35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0:32Z</dcterms:modified>
  <cp:revision>1</cp:revision>
  <dc:subject>主题班会课件(分28大类): http://shop62905894.taobao.com</dc:subject>
  <dc:title>主题班会课件(分28大类): http://shop62905894.taobao.com</dc:title>
</cp:coreProperties>
</file>