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EE3-F438-489C-B35E-2DB7B81D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1EF-192B-4FE1-91CB-5FFB8AED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993-0D87-42EC-B418-4CB4E45E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BE8-32AC-4B8B-8017-F96A1E51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9A8-3B76-4FEA-B21E-D7F96255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E66-0334-4FCB-AE86-B8C20427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5E4-DAF6-4604-9D4F-C09CF060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B63-953F-4DA2-93D7-F112FB0B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36B-2DFE-46EF-8344-5D8A0C85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2B1-92B6-4315-8B4C-5EA9BD84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A6D-9D1E-41B5-A7CC-A2CCCDC8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D9A-C34A-48E6-8B0B-B60E99CA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3010-38EB-402C-B23B-90C3C93DCC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06112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000000"/>
                </a:solidFill>
                <a:uFillTx/>
                <a:latin typeface="Arial"/>
              </a:rPr>
              <a:t>践行日常行为规范</a:t>
            </a:r>
            <a:br>
              <a:rPr sz="7200"/>
            </a:br>
            <a:r>
              <a:rPr b="1" lang="zh-CN" sz="7200" spc="-1" strike="noStrike" u="sng">
                <a:solidFill>
                  <a:srgbClr val="000000"/>
                </a:solidFill>
                <a:uFillTx/>
                <a:latin typeface="Arial"/>
              </a:rPr>
              <a:t>做文明学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5516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高一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19640" y="6165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deli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59280" y="549360"/>
            <a:ext cx="5545080" cy="604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3959280" cy="597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68360" y="833400"/>
            <a:ext cx="637200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三 上网现象严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随着科技的不断发展，信息技术的普及，越来越多的同学走进了网吧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64200" y="549360"/>
            <a:ext cx="3979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3754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网络的四大危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一、网络游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二、网上垃圾信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三、聊天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BBS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四、网络消极文化的侵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5079960" cy="5734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59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四   破坏公物现象僂禁不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损坏公物的现象也时有发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572292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实生活中的我们又做得怎么样呢？细心观察就会发现，校园里破坏公物的现象比比皆是：有同学为求近路而不惜践踏草坪；踢球时不小心打碎了教室的门窗；户外运动中弄坏了校园里的公共桌椅、栏杆和垃圾桶；课桌椅上经常会看见各式各样的涂鸦……你有没有想过，不论是有意还是无意，这些行为都对公物造成了损坏，也给其他同学的学习和生活带来了不必要的麻烦，还会增加学校对公物的维修费用，这可是一笔不小的开支。 </a:t>
            </a:r>
            <a:br>
              <a:rPr sz="3200"/>
            </a:br>
            <a:br>
              <a:rPr sz="800"/>
            </a:b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940000" y="1628280"/>
            <a:ext cx="274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735280" cy="4681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64000" y="692280"/>
            <a:ext cx="39895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21044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学校多次强调的卫生间用脚踹水龙头现象也屡禁不止，对公共设施不爱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92720" y="0"/>
            <a:ext cx="4751280" cy="71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8930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每每看到这些不文明行为，你也许会皱着眉头嘟囔一句：缺德！是的，这些人所缺少的正是“公德心”，不讲社会公德，不遵规守纪。他们从来也不曾意识到原来自己也是这些公物的“主人”，不知道公物是大家公用的物品，每一个人都有爱护公物的义务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497800" cy="61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友好三中学生坚决抵制不文明行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上网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说脏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不卫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无礼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古人云：“勿以善小而不为，勿以恶小而为之。”其实爱护公物做起来也很简单，只要拥有一颗公德之心，处处遵守学校的各项规章制度，就能保证公共设施的完好无损与正常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705120" y="0"/>
            <a:ext cx="54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人生因什么而精彩？答案很多，但有一个答案一定正确合理——人生因文明而精彩。 </a:t>
            </a:r>
            <a:br>
              <a:rPr sz="4000"/>
            </a:b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校园因什么而文明？校园因你、我的文明而文明。我们的校园如果没有与之相适应的精神状态、环境氛围和文明行为，就不会有校园的文明，文明校园既包含物质的校园，更包括精神的校园，精神的校园需要我们全体师生共同、长期的努力</a:t>
            </a: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次主题班会到此即将结束，通过今天的学习我们明确了作为一名三中学生的行为准则，希望在今后的学习生活中我们能切实履行该准则，用行动与不良习惯告别，用行动与不文明行为做斗争，用行动拭去人生的尘埃，建三中和谐校园，现三中晴朗天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1800720" y="0"/>
            <a:ext cx="10944360" cy="65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00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人无德不立，国无德不兴”。公民道德的好坏，体现着一个民族的精神状态，影响着一个民族事业的兴衰。一个人的言行，往往表现出个人素质的高低，进而影响整个集体的总体素质状况。一个公民是否爱护公共设施，从小处讲可以反映出一个人道德素质的高低，一个学校校风的好坏；从大处讲也反映了一个国家文明程度及民族素质的高低。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争做文明学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我们同学成长发展的现实，需要呼唤文明的回归、重建和发展，环顾四同不文明的现象仍然频繁地出现我们身边。 </a:t>
            </a:r>
            <a:br>
              <a:rPr sz="4400"/>
            </a:b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学生讨论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我们身边存在哪些不文明现象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一  语言不文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51280" y="260280"/>
            <a:ext cx="3035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例如：语言不文明，有些同学出口成脏，打架骂人的事件还偶有发生；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环境不整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731520"/>
            <a:ext cx="84358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例如：环境不整洁，伴随着值日劳动的是一些同学对环境的破坏，饮料杯、面巾纸、塑料袋、纸屑随处丢弃，甚至不辞劳苦将这些东西到处藏，四处塞，有的将垃圾偷偷扫近床底下，有的将整袋垃圾放在公共楼道上，有的将垃圾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楼作“高空投掷”，这些都映衬了我们卫生习惯差、卫生意识薄弱；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05:09:2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8:14Z</dcterms:modified>
  <cp:revision>7</cp:revision>
  <dc:subject>主题班会课件(分28大类): http://shop62905894.taobao.com</dc:subject>
  <dc:title>主题班会课件(分28大类): http://shop62905894.taobao.com</dc:title>
</cp:coreProperties>
</file>