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E488-1674-4C5C-A48E-BA013C049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CCF9-D5CE-4603-90F1-FFEE1BF9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D8BB-FF46-4ACC-83F7-DB41399F9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04B3-6AC5-4582-96E6-9842A2FE2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F424-42D9-42B3-B1F7-1813C550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AFCB-75D8-432E-8EB8-2ABD4A0D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9B78-40AF-448D-85B0-FD34337B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183C-BB2D-43C2-856F-EA9B4554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FA92-7B24-44D0-A5BA-308826FD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CBA6-9FE7-4820-B6B2-937DBB47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407E-5B16-48D2-882D-8D8230D3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5262-B57D-4E5A-89C5-76EA3A80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EF17-C842-4A77-8833-216C023163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Arial"/>
                <a:ea typeface="隶书"/>
              </a:rPr>
              <a:t>做一个文明有礼的中学生</a:t>
            </a:r>
            <a:br>
              <a:rPr sz="4800"/>
            </a:br>
            <a:br>
              <a:rPr sz="48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a50021"/>
                </a:solidFill>
                <a:latin typeface="Arial"/>
                <a:ea typeface="黑体"/>
              </a:rPr>
              <a:t>文明用语、礼貌待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看到老师、长辈时该怎么做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如果上课迟到，进入课室时要怎样做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向老师、同学求教后，该怎么做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a50021"/>
                </a:solidFill>
                <a:latin typeface="Arial"/>
              </a:rPr>
              <a:t>仪容仪表问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985080" cy="47750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066680" y="1447920"/>
            <a:ext cx="6985080" cy="4800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80880" y="380880"/>
            <a:ext cx="8382240" cy="13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认为这几个学生的仪容仪表有什么问题？他们给你的印象如何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2895480"/>
            <a:ext cx="914400" cy="533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2057400"/>
            <a:ext cx="1371600" cy="685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67080" y="4038480"/>
            <a:ext cx="1371600" cy="762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7631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者艺术家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精神饱满，气宇轩昂，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决不拖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军人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注重仪表，谈吐文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农民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出言不逊，衣冠不整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行如匪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暴发户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气冲牛斗，咋咋呼呼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旁若无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流氓渣滓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憨厚老实，勤劳俭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19520" y="1447920"/>
            <a:ext cx="1218960" cy="1143000"/>
          </a:xfrm>
          <a:prstGeom prst="line">
            <a:avLst/>
          </a:prstGeom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590920" y="1523520"/>
            <a:ext cx="1295280" cy="1143000"/>
          </a:xfrm>
          <a:prstGeom prst="line">
            <a:avLst/>
          </a:prstGeom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3886200"/>
            <a:ext cx="1981080" cy="2286000"/>
          </a:xfrm>
          <a:prstGeom prst="line">
            <a:avLst/>
          </a:prstGeom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4952880"/>
            <a:ext cx="1904760" cy="0"/>
          </a:xfrm>
          <a:prstGeom prst="line">
            <a:avLst/>
          </a:prstGeom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286000" y="3886200"/>
            <a:ext cx="1676520" cy="2209680"/>
          </a:xfrm>
          <a:prstGeom prst="line">
            <a:avLst/>
          </a:prstGeom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04920" y="152280"/>
            <a:ext cx="213336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察言观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2743200"/>
            <a:ext cx="70866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做完这道题，你有何想法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Arial"/>
                <a:ea typeface="黑体"/>
              </a:rPr>
              <a:t>言行举止，仪容仪表有何作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言行举止能够反映一个人的身份地位、道德品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仪容仪表是一个人精神面貌的外观体现，良好的仪容仪表会给人以朝气蓬勃热情好客感觉，反之则会给人不美不礼貌的感觉，甚至使人望而生厌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0" y="0"/>
            <a:ext cx="160020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大家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你认为什么样的言行穿着才是符合中学生的身份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文明用语，待人有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2.</a:t>
            </a: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衣着、发行符合中学生身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不佩戴饰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4.</a:t>
            </a: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自觉遵守《中学生日常行为规范》和学校有关规章制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课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追逐打闹、大声喧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课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随意插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自习课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随意讨论、动作粗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仪容仪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头发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0" y="0"/>
            <a:ext cx="22096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文明倡议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21337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3505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48320" y="48769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19520" y="617220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175248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黑体"/>
              </a:rPr>
              <a:t>共建和谐课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434340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黑体"/>
              </a:rPr>
              <a:t>保持课堂安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3048120"/>
            <a:ext cx="449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黑体"/>
              </a:rPr>
              <a:t>遵守上课纪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563868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黑体"/>
              </a:rPr>
              <a:t>认真、规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33520" y="1828800"/>
            <a:ext cx="79246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戒掉陋习，争当文明学生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89154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位中国记者和法国友人到罗浮宫参观。正在大家屏息凝视着一幅幅精美绝伦的绘画时，记者突然听到一句汉语：“蒙娜丽莎就在前面那个厅！快走啊！”顺着声音望去，是一个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多人的中国旅游团。名画近在咫尺，这无疑是一个“振奋人心”的消息。于是，这个团瞬间炸开了锅！大家你一言，我一语，满心欢喜，迈着“急行军”的脚步冲向挂着这幅名画的展厅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这堆中国人把画围了个里三层外三层，别的游客根本别想靠近这幅名画。他们相互招呼着，轮流与蒙娜丽莎合影。由于他们招呼的声音太大，博物馆的管理员走过去，提醒他们不要喧哗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14600" y="2209680"/>
            <a:ext cx="3886200" cy="16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看故事，齐思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当时一位负责接待中国旅客的法国导游说：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“他们（中国人）并不都很有文化，他们刚开始赚了些钱，表现得像个暴发户。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533520"/>
            <a:ext cx="2971800" cy="10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外国人的评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240" y="4572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韩国延世大学负责人说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：“现在中国留学生不断增多，带来一系列管理的问题。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如该校国际研究院有两间对研究生开放的公共电脑房。开学不久，毗邻的韩国语学院来了一批赴韩留学的中国高中生，成了电脑房常客，玩游戏、聊天、下载图片之类。他们往往成群结队地去，一面上网一面大声说笑。管理员几次提醒无效。其他学生群起抗议，院方干脆删掉了多数电脑里的中文系统。该校一名韩国学生说道：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“能够支付得起昂贵学费的中国留学生，多半家庭条件不错，但自私无礼的行为屡见不鲜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看完这两个事例，我们的同胞在哪些方面做得不好？你能谈谈自己的看法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如果你到外国旅游，你会怎样做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880" y="533520"/>
            <a:ext cx="1981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畅所欲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可以说在国外你就代表着自己的祖国，一言一行都关系到国家、民族的荣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那么在广州，你的行为代表着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那么在学校，你的行为代表着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600" y="152280"/>
            <a:ext cx="1447920" cy="12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推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Arial"/>
              </a:rPr>
              <a:t>荣誉由你我共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目前我们班存哪些不文明行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课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课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自习课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两操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其他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541008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随意插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追逐打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随意讨论、动作粗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动作变形、不认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523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文明行为严重损害班级荣誉、个人形象，甚至危及他人安全，所以当我们面对不文明行为时，该怎么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057400"/>
            <a:ext cx="81536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案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当你看到同学甲与同学乙在课间追逐打闹时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案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自习课上，同学甲向你请教问题时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案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上课时，你对前面所学知识不理解，想问老师，但老师正在讲课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学校，除了行为举止，我们还要注意哪些方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1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、文明用语、礼貌待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2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、仪容仪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4T05:17:0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47:52Z</dcterms:modified>
  <cp:revision>16</cp:revision>
  <dc:subject>主题班会课件(分28大类): http://shop62905894.taobao.com</dc:subject>
  <dc:title>主题班会课件(分28大类): http://shop62905894.taobao.com</dc:title>
</cp:coreProperties>
</file>