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BBE-9300-4994-9DC4-5D9B045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D5B-BB20-4F71-AB54-29E65A12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D94-C4A2-4216-8BE0-66B3D157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8A2-A140-4CE2-A456-6212F38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16D-4379-43E5-AF24-C7ADF53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C45-37DB-4A2A-8418-FF6BC16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E61-A3D9-444D-B677-40190E1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C9E-2E41-4CEE-8720-9A63C6C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692-D860-4F0A-9F22-96B7F51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62B-EC47-4632-B678-810A8C67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963-EEFE-464A-8DE6-FD4F86EF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91D-96F0-4AE0-8593-D5D6E26E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EE3C-1223-4995-9145-1CCFD4B066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28891;&#20809;&#37324;&#30340;&#22920;&#22920;.wma" TargetMode="External"/><Relationship Id="rId2" Type="http://schemas.openxmlformats.org/officeDocument/2006/relationships/hyperlink" Target="C:\Documents and Settings\Administrator\&#26700;&#38754;\&#28891;&#20809;&#37324;&#30340;&#22920;&#22920;.wma" TargetMode="External"/><Relationship Id="rId3" Type="http://schemas.openxmlformats.org/officeDocument/2006/relationships/hyperlink" Target="C:\Documents and Settings\Administrator\&#26700;&#38754;\&#28891;&#20809;&#37324;&#30340;&#22920;&#22920;.wma" TargetMode="External"/><Relationship Id="rId4" Type="http://schemas.openxmlformats.org/officeDocument/2006/relationships/hyperlink" Target="C:\Documents and Settings\Administrator\&#26700;&#38754;\&#29238;&#20146;&#65288;&#21016;&#21644;&#21018;&#65289;.wma" TargetMode="External"/><Relationship Id="rId5" Type="http://schemas.openxmlformats.org/officeDocument/2006/relationships/hyperlink" Target="C:\Documents and Settings\Administrator\&#26700;&#38754;\&#29238;&#20146;&#65288;&#21016;&#21644;&#21018;&#65289;.wma" TargetMode="External"/><Relationship Id="rId6" Type="http://schemas.openxmlformats.org/officeDocument/2006/relationships/hyperlink" Target="C:\Documents and Settings\Administrator\&#26700;&#38754;\&#29238;&#20146;&#65288;&#21016;&#21644;&#21018;&#65289;.wma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crying.mp3" TargetMode="External"/><Relationship Id="rId2" Type="http://schemas.openxmlformats.org/officeDocument/2006/relationships/hyperlink" Target="C:\Documents and Settings\Administrator\&#26700;&#38754;\&#28891;&#20809;&#37324;&#30340;&#22920;&#22920;.wma" TargetMode="External"/><Relationship Id="rId3" Type="http://schemas.openxmlformats.org/officeDocument/2006/relationships/hyperlink" Target="C:\Documents and Settings\Administrator\&#26700;&#38754;\&#28891;&#20809;&#37324;&#30340;&#22920;&#22920;.wma" TargetMode="External"/><Relationship Id="rId4" Type="http://schemas.openxmlformats.org/officeDocument/2006/relationships/hyperlink" Target="C:\Documents and Settings\Administrator\&#26700;&#38754;\&#28891;&#20809;&#37324;&#30340;&#22920;&#22920;.wma" TargetMode="External"/><Relationship Id="rId5" Type="http://schemas.openxmlformats.org/officeDocument/2006/relationships/hyperlink" Target="C:\Documents and Settings\Administrator\&#26700;&#38754;\&#29238;&#20146;.wma" TargetMode="External"/><Relationship Id="rId6" Type="http://schemas.openxmlformats.org/officeDocument/2006/relationships/hyperlink" Target="C:\Documents and Settings\Administrator\&#26700;&#38754;\&#29238;&#20146;.wma" TargetMode="External"/><Relationship Id="rId7" Type="http://schemas.openxmlformats.org/officeDocument/2006/relationships/hyperlink" Target="C:\Documents and Settings\Administrator\&#26700;&#38754;\&#29238;&#20146;.wm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特别的“冠礼”仪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2920" y="189000"/>
            <a:ext cx="324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主题班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5877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09.10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449280"/>
            <a:ext cx="5410080" cy="397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7620120" cy="5010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8381880" cy="715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133720"/>
            <a:ext cx="59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《礼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冠义》有云：成人之者，将责成人礼焉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0"/>
            <a:ext cx="63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漫漫中华千古，悠悠礼仪之邦。上下五千年的文明，凝聚在中华文化中的缩影中乃可谓历代传颂的传统美德和礼义涵养。正是这样一种礼义感染着千秋万代的炎黄子孙，给我们的为人起定一个道德的准则。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“礼义之始，在于正容体、齐颜色、顺辞令”，而作为一种标志着人成年并正式开始承担社会责任的“冠礼”更是“其始”之前提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故“冠者礼之始也”也是这样深刻的反映着“成人”这一概念在人一生中会有多么重要。古代人正是坚持了如此的传统，让每一个茁壮者在人生的关键时刻清醒自己的意义和责任，以引导其终生孜孜于社会贡献之思想，明礼达观，自强不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大家分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我们随着两首歌的旋律回忆我们成长的点点滴滴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133720"/>
            <a:ext cx="5111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烛光里的妈妈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》 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父亲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誓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今天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十八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个大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肩负起成年的责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信心对自己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诚心对他人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爱心对家庭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热心对社会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赤心对国家负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勇敢 不要鲁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理智 不要冷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谦和 要宽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坚强 要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珍惜生命 珍惜情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坦荡处事 真善待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做一个大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十八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今天起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285264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引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1280" y="380520"/>
            <a:ext cx="65534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冬季里的一天，一个男孩呱呱坠地。在他降临人世的那一刻，他只是哭，大声拼命地哭。妈妈将他包裹在小棉被中，为他唱歌，哄他睡觉。从此，除了哭，他还学会了笑。不到一岁他便开始学习走路，无数次跌倒又无数次爬起。终于有一天，他能够顺利地在房子里走来走去，不再依赖大人的搀扶。日子一天天过去，他也一天天长大。一岁，两岁，三岁，四岁……他上了幼儿园，迈进了小学，有了许多朋友。他开始学习文化知识，学习唱歌跳舞；他开始参加社会活动，游览世界各地。后来，他上了初中，毕了业，又来到高中。他的个子长高了，肩膀变宽了，声音低沉了。走过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花季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雨季，这一天，他终于迎来了他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229360"/>
            <a:ext cx="5111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烛光里的妈妈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》 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父亲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00200"/>
            <a:ext cx="7467840" cy="5319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34040" cy="577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10360" y="2971800"/>
            <a:ext cx="2720880" cy="3627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86440" y="22096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394080" cy="508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87720" y="609480"/>
            <a:ext cx="417168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2120" y="152280"/>
            <a:ext cx="4435200" cy="591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924680" cy="5583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327320"/>
            <a:ext cx="7391520" cy="5302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4846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83080" y="228600"/>
            <a:ext cx="443232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0:30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46Z</dcterms:modified>
  <cp:revision>16</cp:revision>
  <dc:subject>主题班会课件(分28大类): http://shop62905894.taobao.com</dc:subject>
  <dc:title>主题班会课件(分28大类): http://shop62905894.taobao.com</dc:title>
</cp:coreProperties>
</file>