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1951-905A-48DF-BD38-79E6AC49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BE9-00DC-4207-934A-FA83878F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ED17-1135-46D5-A524-3FF2A692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9D81-B96D-49DD-AC9E-9782D8D2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332B-213B-4EA9-AB66-B71631CF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57AE-8584-43A1-ADA7-1681FC18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8677-A3B0-4EE6-A504-8E9271A9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28DD-4F1C-44E1-9EA5-D0E5AEC1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9B19-69C5-4869-87BD-0CC60778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8ED3-777A-4AA3-8CA9-EAE049E1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701D-DC11-4255-B71E-38F81B38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BB0B-A8A3-4F4C-8183-AADA7E7D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99CB-1DBD-4BC1-A93A-054D0D06D2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28891;&#20809;&#37324;&#30340;&#22920;&#22920;.mp3" TargetMode="External"/><Relationship Id="rId2" Type="http://schemas.openxmlformats.org/officeDocument/2006/relationships/hyperlink" Target="file:///&#28891;&#20809;&#37324;&#30340;&#22920;&#22920;.mp3" TargetMode="External"/><Relationship Id="rId3" Type="http://schemas.openxmlformats.org/officeDocument/2006/relationships/hyperlink" Target="file:///&#23828;&#20140;&#28009;-&#29238;&#20146;.mp3" TargetMode="External"/><Relationship Id="rId4" Type="http://schemas.openxmlformats.org/officeDocument/2006/relationships/hyperlink" Target="file:///&#23828;&#20140;&#28009;-&#29238;&#20146;.mp3" TargetMode="External"/><Relationship Id="rId5" Type="http://schemas.openxmlformats.org/officeDocument/2006/relationships/hyperlink" Target="file:///&#23828;&#20140;&#28009;-&#29238;&#20146;.mp3" TargetMode="External"/><Relationship Id="rId6" Type="http://schemas.openxmlformats.org/officeDocument/2006/relationships/hyperlink" Target="file:///&#23828;&#20140;&#28009;-&#29238;&#20146;.mp3" TargetMode="Externa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istrator/&#26700;&#38754;/crying.mp3" TargetMode="External"/><Relationship Id="rId2" Type="http://schemas.openxmlformats.org/officeDocument/2006/relationships/hyperlink" Target="file:///C:/Documents%20and%20Settings/Administrator/&#26700;&#38754;/&#28891;&#20809;&#37324;&#30340;&#22920;&#22920;.wma" TargetMode="External"/><Relationship Id="rId3" Type="http://schemas.openxmlformats.org/officeDocument/2006/relationships/hyperlink" Target="file:///C:/Documents%20and%20Settings/Administrator/&#26700;&#38754;/&#28891;&#20809;&#37324;&#30340;&#22920;&#22920;.wma" TargetMode="External"/><Relationship Id="rId4" Type="http://schemas.openxmlformats.org/officeDocument/2006/relationships/hyperlink" Target="file:///C:/Documents%20and%20Settings/Administrator/&#26700;&#38754;/&#28891;&#20809;&#37324;&#30340;&#22920;&#22920;.wma" TargetMode="External"/><Relationship Id="rId5" Type="http://schemas.openxmlformats.org/officeDocument/2006/relationships/hyperlink" Target="file:///C:/Documents%20and%20Settings/Administrator/&#26700;&#38754;/&#29238;&#20146;.wma" TargetMode="External"/><Relationship Id="rId6" Type="http://schemas.openxmlformats.org/officeDocument/2006/relationships/hyperlink" Target="file:///C:/Documents%20and%20Settings/Administrator/&#26700;&#38754;/&#29238;&#20146;.wma" TargetMode="External"/><Relationship Id="rId7" Type="http://schemas.openxmlformats.org/officeDocument/2006/relationships/hyperlink" Target="file:///C:/Documents%20and%20Settings/Administrator/&#26700;&#38754;/&#29238;&#20146;.wma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特别的“冠礼”仪式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02920" y="189000"/>
            <a:ext cx="3241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主题班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12000" y="587700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09.10.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843120"/>
            <a:ext cx="7619760" cy="51717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449280"/>
            <a:ext cx="5410080" cy="3970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7620120" cy="5010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50920" y="476280"/>
            <a:ext cx="8381880" cy="7155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56000" y="2133720"/>
            <a:ext cx="59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《礼记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·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冠义》有云：成人之者，将责成人礼焉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0"/>
            <a:ext cx="63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漫漫中华千古，悠悠礼仪之邦。上下五千年的文明，凝聚在中华文化中的缩影中乃可谓历代传颂的传统美德和礼义涵养。正是这样一种礼义感染着千秋万代的炎黄子孙，给我们的为人起定一个道德的准则。</a:t>
            </a:r>
            <a:r>
              <a:rPr b="0" lang="zh-CN" sz="2800" spc="-1" strike="noStrike">
                <a:solidFill>
                  <a:srgbClr val="990033"/>
                </a:solidFill>
                <a:latin typeface="Times New Roman"/>
                <a:ea typeface="隶书"/>
              </a:rPr>
              <a:t>“礼义之始，在于正容体、齐颜色、顺辞令”，而作为一种标志着人成年并正式开始承担社会责任的“冠礼”更是“其始”之前提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故“冠者礼之始也”也是这样深刻的反映着“成人”这一概念在人一生中会有多么重要。古代人正是坚持了如此的传统，让每一个茁壮者在人生的关键时刻清醒自己的意义和责任，以引导其终生孜孜于社会贡献之思想，明礼达观，自强不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大家分享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让我们随着两首歌的旋律回忆我们成长的点点滴滴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00360" y="2133720"/>
            <a:ext cx="51116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1"/>
              </a:rPr>
              <a:t>烛光里的妈妈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2"/>
              </a:rPr>
              <a:t>.mp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3284640"/>
            <a:ext cx="3600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3"/>
              </a:rPr>
              <a:t>崔京浩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4"/>
              </a:rPr>
              <a:t>-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5"/>
              </a:rPr>
              <a:t>父亲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6"/>
              </a:rPr>
              <a:t>.mp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誓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从今天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十八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做一个大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肩负起成年的责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信心对自己负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诚心对他人负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爱心对家庭负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热心对社会负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赤心对国家负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要勇敢 不要鲁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理智 不要冷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要谦和 要宽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要坚强 要诚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珍惜生命 珍惜情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坦荡处事 真善待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做一个大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十八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从今天起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285264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33"/>
                </a:solidFill>
                <a:latin typeface="Times New Roman"/>
                <a:ea typeface="隶书"/>
              </a:rPr>
              <a:t>谢谢观看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引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11280" y="380520"/>
            <a:ext cx="65534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8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冬季里的一天，一个男孩呱呱坠地。在他降临人世的那一刻，他只是哭，大声拼命地哭。妈妈将他包裹在小棉被中，为他唱歌，哄他睡觉。从此，除了哭，他还学会了笑。不到一岁他便开始学习走路，无数次跌倒又无数次爬起。终于有一天，他能够顺利地在房子里走来走去，不再依赖大人的搀扶。日子一天天过去，他也一天天长大。一岁，两岁，三岁，四岁……他上了幼儿园，迈进了小学，有了许多朋友。他开始学习文化知识，学习唱歌跳舞；他开始参加社会活动，游览世界各地。后来，他上了初中，毕了业，又来到高中。他的个子长高了，肩膀变宽了，声音低沉了。走过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岁的花季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岁的雨季，这一天，他终于迎来了他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岁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5229360"/>
            <a:ext cx="511164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2"/>
              </a:rPr>
              <a:t>《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3"/>
              </a:rPr>
              <a:t>烛光里的妈妈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4"/>
              </a:rPr>
              <a:t>》        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5"/>
              </a:rPr>
              <a:t>《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6"/>
              </a:rPr>
              <a:t>父亲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7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700200"/>
            <a:ext cx="7467840" cy="5319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3257640" cy="4343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267080" y="990720"/>
            <a:ext cx="4334040" cy="5776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9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210360" y="2971800"/>
            <a:ext cx="2720880" cy="3627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86440" y="2209680"/>
            <a:ext cx="3200400" cy="4267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962520" y="1219320"/>
            <a:ext cx="3394080" cy="5089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2187720" y="609480"/>
            <a:ext cx="4171680" cy="5562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762120" y="152280"/>
            <a:ext cx="4435200" cy="5913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trips dir="l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7924680" cy="5583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3880" y="1327320"/>
            <a:ext cx="7391520" cy="53020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315200" cy="48466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483080" y="228600"/>
            <a:ext cx="4432320" cy="6553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00:30:11Z</dcterms:created>
  <dc:creator/>
  <dc:description/>
  <dc:language>en-US</dc:language>
  <cp:lastModifiedBy>User</cp:lastModifiedBy>
  <dcterms:modified xsi:type="dcterms:W3CDTF">2013-04-13T11:53:26Z</dcterms:modified>
  <cp:revision>17</cp:revision>
  <dc:subject/>
  <dc:title>特别的“冠礼”仪式 </dc:title>
</cp:coreProperties>
</file>