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jpeg" ContentType="image/jpeg"/>
  <Override PartName="/ppt/media/image27.jpeg" ContentType="image/jpeg"/>
  <Override PartName="/ppt/media/image17.gif" ContentType="image/gif"/>
  <Override PartName="/ppt/media/image24.jpeg" ContentType="image/jpeg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5.jpeg" ContentType="image/jpeg"/>
  <Override PartName="/ppt/media/image8.gif" ContentType="image/gif"/>
  <Override PartName="/ppt/media/image36.png" ContentType="image/png"/>
  <Override PartName="/ppt/media/image22.gif" ContentType="image/gif"/>
  <Override PartName="/ppt/media/image18.jpeg" ContentType="image/jpeg"/>
  <Override PartName="/ppt/media/image9.gif" ContentType="image/gif"/>
  <Override PartName="/ppt/media/image10.gif" ContentType="image/gif"/>
  <Override PartName="/ppt/media/image20.gif" ContentType="image/gif"/>
  <Override PartName="/ppt/media/image12.jpeg" ContentType="image/jpeg"/>
  <Override PartName="/ppt/media/image41.gif" ContentType="image/gif"/>
  <Override PartName="/ppt/media/image34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35.png" ContentType="image/png"/>
  <Override PartName="/ppt/media/image5.png" ContentType="image/png"/>
  <Override PartName="/ppt/media/image4.gif" ContentType="image/gif"/>
  <Override PartName="/ppt/media/image37.png" ContentType="image/png"/>
  <Override PartName="/ppt/media/image7.png" ContentType="image/png"/>
  <Override PartName="/ppt/media/image6.wmf" ContentType="image/x-wmf"/>
  <Override PartName="/ppt/media/image32.gif" ContentType="image/gif"/>
  <Override PartName="/ppt/media/image2.gif" ContentType="image/gif"/>
  <Override PartName="/ppt/media/image19.jpeg" ContentType="image/jpeg"/>
  <Override PartName="/ppt/media/image31.png" ContentType="image/png"/>
  <Override PartName="/ppt/media/image1.png" ContentType="image/png"/>
  <Override PartName="/ppt/media/image21.gif" ContentType="image/gif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50A-B3E3-4085-AF1A-6FE87CCB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14-40B9-4D3F-A91C-5890BAF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56B-E61D-4763-A6DE-63BD6B4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F10-8678-43E7-A356-8976C85C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62E-71F1-4051-95B4-0DB82CA7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4F8-48DA-497B-ADCB-14F9945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9F4-B602-4B53-9BF2-A5BC04AD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825-CF66-4C5D-B7FE-946436E5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D01-DEDA-402A-8538-D76738E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CBF-9D26-4053-A6C5-60C6021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55D-8A8E-4AAE-91D8-DC0E1115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5C6-A65E-4FED-9435-A69171F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2A0-B89E-43F8-A39C-122646CD1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" Target="slide8.xml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hyperlink" Target="file:///../../&#19971;&#24180;&#35838;&#20214;/&#20844;&#24320;&#35838;&#25991;&#26126;&#31036;&#20202;/&#25991;&#26126;&#31036;&#20202;/zjl&#23380;&#34701;&#35753;&#21033;.flv" TargetMode="External"/><Relationship Id="rId9" Type="http://schemas.openxmlformats.org/officeDocument/2006/relationships/hyperlink" Target="file:///../../&#19971;&#24180;&#35838;&#20214;/&#20844;&#24320;&#35838;&#25991;&#26126;&#31036;&#20202;/&#25991;&#26126;&#31036;&#20202;/zjl&#23380;&#34701;&#35753;&#21033;.flv" TargetMode="External"/><Relationship Id="rId10" Type="http://schemas.openxmlformats.org/officeDocument/2006/relationships/hyperlink" Target="file:///../../&#19971;&#24180;&#35838;&#20214;/&#20844;&#24320;&#35838;&#25991;&#26126;&#31036;&#20202;/&#25991;&#26126;&#31036;&#20202;/zjl&#23380;&#34701;&#35753;&#21033;.flv" TargetMode="External"/><Relationship Id="rId11" Type="http://schemas.openxmlformats.org/officeDocument/2006/relationships/hyperlink" Target="file:///../../&#19971;&#24180;&#35838;&#20214;/&#20844;&#24320;&#35838;&#25991;&#26126;&#31036;&#20202;/&#25991;&#26126;&#31036;&#20202;/zjl&#23380;&#34701;&#35753;&#21033;.flv" TargetMode="External"/><Relationship Id="rId12" Type="http://schemas.openxmlformats.org/officeDocument/2006/relationships/hyperlink" Target="file:///../../&#19971;&#24180;&#35838;&#20214;/&#20844;&#24320;&#35838;&#25991;&#26126;&#31036;&#20202;/&#25991;&#26126;&#31036;&#20202;/&#31243;&#38376;&#31435;&#38634;.mp4" TargetMode="External"/><Relationship Id="rId13" Type="http://schemas.openxmlformats.org/officeDocument/2006/relationships/hyperlink" Target="file:///../../&#19971;&#24180;&#35838;&#20214;/&#20844;&#24320;&#35838;&#25991;&#26126;&#31036;&#20202;/&#25991;&#26126;&#31036;&#20202;/&#31243;&#38376;&#31435;&#38634;.mp4" TargetMode="External"/><Relationship Id="rId14" Type="http://schemas.openxmlformats.org/officeDocument/2006/relationships/hyperlink" Target="file:///../../&#19971;&#24180;&#35838;&#20214;/&#20844;&#24320;&#35838;&#25991;&#26126;&#31036;&#20202;/&#25991;&#26126;&#31036;&#20202;/&#31243;&#38376;&#31435;&#38634;.mp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1.gi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01760" y="2692440"/>
            <a:ext cx="709596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明礼仪伴我行主题班会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000" y="36180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439120" y="39132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75320" y="1743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84280" y="384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164360" y="5121360"/>
            <a:ext cx="1700280" cy="1736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36480" y="696960"/>
            <a:ext cx="820908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告别不良行为，争做文明中学生</a:t>
            </a:r>
            <a:endParaRPr b="1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613400" y="622476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0" y="4254480"/>
            <a:ext cx="3117960" cy="260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8040600" y="345960"/>
            <a:ext cx="478080" cy="47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201080" y="5219640"/>
            <a:ext cx="1547640" cy="133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080" y="87156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3200" y="169380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曲《歌声与微笑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8400" y="2371680"/>
            <a:ext cx="755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女：这就是来自内心的美，它不需要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言，只要一个眼神、一个微笑、就让阳光普照、春回大地。歌声与微笑是我们欢快的语言，歌声与微笑是我们友谊的桥梁。让文明礼仪的歌声充满校园的每个角落！下面请欣赏黄琪灵和陈艺的合唱《歌声与微笑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歌声与微笑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请把我的歌带回你的家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请把你的微笑留下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请把我的歌带回你的家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请把你的微笑留下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明天明天这歌声飞遍海角天涯飞遍海角天涯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明天明天这微笑将是遍野春花将是遍野春花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39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9187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3360" y="5460840"/>
            <a:ext cx="1603440" cy="111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4600" y="5533920"/>
            <a:ext cx="1677960" cy="1324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295280" y="533520"/>
            <a:ext cx="54000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3520" y="103680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男：今天我们班来了一个小记者，现在有请她为我们进行现场采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语言是心灵的一扇窗户、一面镜子，能映照出你的修养与文明程度。俗语说得好：“良言一句三冬暖，恶语伤人六月寒。”让我们都学会说一声：请、您好、谢谢、对不起、没关系、再见，让温暖的人际新风，吹遍神州大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6480" y="1700280"/>
            <a:ext cx="17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场采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981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2781360"/>
            <a:ext cx="574560" cy="503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848720" y="5029200"/>
            <a:ext cx="129528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4280" y="5079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6120" y="1303200"/>
            <a:ext cx="8541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1080" y="194796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小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文明礼仪三句半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1800" y="3060720"/>
            <a:ext cx="712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女：刚才的礼仪知识学习大家记住了多少呢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有四位同学把它们编成了一个“三句半”方便大家记忆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现在看他们的表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《文明礼仪三句半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67480" y="520704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457200" cy="399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45720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341360"/>
            <a:ext cx="8540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23840" y="1913040"/>
            <a:ext cx="11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朗诵《手拉手，为文明歌唱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3197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男：我看了三句半后，不得不引用一句广告词：精彩！真精彩！下面由我们两位主持人为大家朗诵诗歌《手拉手，为文明歌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919240" y="0"/>
            <a:ext cx="1397160" cy="814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527960" y="5346720"/>
            <a:ext cx="1390680" cy="1511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627440" y="4643280"/>
            <a:ext cx="1390680" cy="151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28120" y="321120"/>
            <a:ext cx="4874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手拉手，为文明歌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让我们手拉手，让我们手拉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一起为文明歌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文明给心灵吹来清风，唱文明给青春增加活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文明给生活留下意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让我们手拉手，一起为礼仪歌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礼仪为语言抹上蜜糖，唱礼仪为行为保驾护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礼仪为前进插上翅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让我们手拉手，一起为文明歌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心中规划的瑰丽蓝图，唱梦中向往的美好前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诗中营造的深刻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让我们手拉手，一起为文明歌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唱文明的大潮流奔涌激荡，唱文明的道路一天天宽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让我们把文明礼貌、礼仪道德永记在心间。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16000" y="63374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5393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95280" y="1243080"/>
            <a:ext cx="6782040" cy="54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考试作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校园内抽烟、酗酒、聚众赌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教室等学习场所喧哗吵闹，影响他人学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休息时间吵闹，影响他人休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给老师、同学起绰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随意吐痰，乱扔果皮纸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课堂不文明，不尊重老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破坏校内公共设施、设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桌椅、图书和教室、宿舍墙上乱涂乱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买饭菜时随意插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880" y="114480"/>
            <a:ext cx="464832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生不文明行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4200" y="0"/>
            <a:ext cx="34725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文明礼仪标兵光荣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1428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4520" y="1247760"/>
            <a:ext cx="387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评选文明礼仪标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806560"/>
            <a:ext cx="755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从我校开展文明礼仪各项活动以来，我们班同学能积极参与，取得了很好的效果，现在我宣布这次我们班荣获文明礼仪标兵的同学名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接下来由班主任为他们颁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320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7156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全体宣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960" y="1562040"/>
            <a:ext cx="750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我们宣誓：向不文明现象宣战，争做文明学生，创建文明校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——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七年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班全体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693440" y="1752480"/>
            <a:ext cx="17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、礼仪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3886200" y="3124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0384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不是       ，是提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0292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</a:t>
            </a:r>
            <a:r>
              <a:rPr b="1" i="1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礼仪是无时不在，无处不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15200" y="1143000"/>
            <a:ext cx="15476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3581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不是       ，是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038480"/>
            <a:ext cx="27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培训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40384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3429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8954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、尊重——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忍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35812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不是       ，是双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743440" y="0"/>
            <a:ext cx="3400560" cy="95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8077320" y="576252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82600" y="614520"/>
            <a:ext cx="1396800" cy="81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86280" y="533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59092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581280" y="4572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1016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114800" y="5335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9360" y="3975120"/>
            <a:ext cx="8699400" cy="13737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67ffac"/>
                </a:solidFill>
                <a:latin typeface="Times New Roman"/>
                <a:ea typeface="隶书"/>
              </a:rPr>
              <a:t>文明礼仪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是一粒最有生命力的种子，它会在我们的精神世界里发芽、开花、结果，指导我们的人生观、世界观，让把文明之花播撒到生活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258840"/>
            <a:ext cx="160020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束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105520" y="487692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6324480" y="51055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390680" cy="151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094520" y="0"/>
            <a:ext cx="139068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52600" y="4467240"/>
            <a:ext cx="139068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3963960" y="2620800"/>
            <a:ext cx="1390680" cy="151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284880" y="4924440"/>
            <a:ext cx="139068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120" y="107964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中国自古以来就是礼仪之邦，文明礼貌是中华民族的优良传统，作为新一代的青少年，我们更不能忘记传统，应该力争做一个讲文明、懂礼礼仪的好学生，让文明之花常开心中，把文明之美到处传播！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412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01760" y="117648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77960" y="6041880"/>
            <a:ext cx="3200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行楷简体"/>
              </a:rPr>
              <a:t>主持人对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行楷简体"/>
              <a:ea typeface="方正行楷简体"/>
            </a:endParaRPr>
          </a:p>
        </p:txBody>
      </p:sp>
      <p:sp>
        <p:nvSpPr>
          <p:cNvPr id="90" name=""/>
          <p:cNvSpPr/>
          <p:nvPr/>
        </p:nvSpPr>
        <p:spPr>
          <a:xfrm>
            <a:off x="2356920" y="202896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演讲《校园文明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50800" y="279396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男：文明，使人举止文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女：礼仪，使人风度翩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男：中华民族有五千年悠久的历史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素有“礼仪之邦”的美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女：她不但创造了灿烂的文化，而且也形成了古老民族的传统美德。 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男：在改革开放的今天，我们应该弘扬民族优良传统。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女：从小学礼仪，用礼仪，做一个讲文明，懂礼貌的中学生。 </a:t>
            </a:r>
            <a:br>
              <a:rPr sz="2000"/>
            </a:b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男：那作为一名中学生，应该如何去做呢？下面有让我们以热烈的掌声有请郑林妍同学为我们演讲《校园礼仪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8320" y="0"/>
            <a:ext cx="5432760" cy="11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68600" y="4395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礼仪故事大比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267680" y="304920"/>
            <a:ext cx="1326960" cy="1326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12880" y="1730520"/>
            <a:ext cx="3203640" cy="321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64160" y="4035600"/>
            <a:ext cx="2338560" cy="2577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62120" y="609480"/>
            <a:ext cx="539640" cy="6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341360"/>
            <a:ext cx="8540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3000" y="20289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文明礼仪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" y="2828880"/>
            <a:ext cx="7556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中国是一个有着几千年文明历史的古国，文化源远流长。作为礼仪之邦，中国历史上有很多故事至今仍深深的教育着我们，下面请观看历史故事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孔融让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》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程门立雪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3360" y="5460840"/>
            <a:ext cx="1603440" cy="111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4600" y="5533920"/>
            <a:ext cx="1677960" cy="132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295280" y="533520"/>
            <a:ext cx="540000" cy="64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3520" y="103680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1520" y="1700280"/>
            <a:ext cx="12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声表演《讲文明，懂礼貌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2880" y="2752560"/>
            <a:ext cx="755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男：文明，是璀璨明珠的辉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女：礼仪，是民族孕育的希望。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男：文明，是沟通情感的桥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女：礼仪，是社会腾飞的翅膀。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男：下面请欣赏由陈进伟，郑奇严同学表演的相声《讲文明，懂礼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413400" y="5651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8505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201080" y="5219640"/>
            <a:ext cx="1547640" cy="1339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080" y="87156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节目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5320" y="169380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舞蹈《娃哈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960" y="2460600"/>
            <a:ext cx="783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男：我们是祖国的花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女：我们是祖国的希望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男：继承和发扬中华民族的优良传统，要靠我们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女：建设社会主义文明祖国，也要靠我们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男：学校有了文明礼仪，我们生活才能愉快，祖国有了文明礼仪，我们民族才能发展壮大。接下来欣赏张璐带来的新疆舞《娃哈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6:33:4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44Z</dcterms:modified>
  <cp:revision>27</cp:revision>
  <dc:subject>主题班会课件(分28大类): http://shop62905894.taobao.com</dc:subject>
  <dc:title>主题班会课件(分28大类): http://shop62905894.taobao.com</dc:title>
</cp:coreProperties>
</file>