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2.gif" ContentType="image/gif"/>
  <Override PartName="/ppt/media/image9.jpeg" ContentType="image/jpeg"/>
  <Override PartName="/ppt/media/image11.jpeg" ContentType="image/jpeg"/>
  <Override PartName="/ppt/media/image8.gif" ContentType="image/gif"/>
  <Override PartName="/ppt/media/image6.gif" ContentType="image/gif"/>
  <Override PartName="/ppt/media/image10.gif" ContentType="image/gif"/>
  <Override PartName="/ppt/media/image22.gif" ContentType="image/gif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.gif" ContentType="image/gif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ACD-5783-44E3-82D1-7C8DF073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510-A0E8-4732-94F8-8101DD1A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7D5-5766-445C-8FDB-368FA9C7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A9E-73CC-4F76-B9DB-FFDE78F9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050-EF95-4EEA-BF60-2DBF2CAB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EC7-1C5B-4746-BEBA-6D90D0A3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66E-B74A-4495-9474-9244EC73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BC2-8864-4CE8-813E-861F3B27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6C1-ABE0-402E-A430-ABB5A571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C02-575B-4EBF-8678-27808A1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062-024A-44D9-99FF-264F6EF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511-E9CC-461A-BE86-8CF3B607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B6C1-6F8D-4ED2-B0FE-1F2B82FA42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12.gif"/><Relationship Id="rId40" Type="http://schemas.openxmlformats.org/officeDocument/2006/relationships/image" Target="../media/image12.gif"/><Relationship Id="rId41" Type="http://schemas.openxmlformats.org/officeDocument/2006/relationships/image" Target="../media/image12.gif"/><Relationship Id="rId42" Type="http://schemas.openxmlformats.org/officeDocument/2006/relationships/image" Target="../media/image12.gif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12.gif"/><Relationship Id="rId40" Type="http://schemas.openxmlformats.org/officeDocument/2006/relationships/image" Target="../media/image12.gif"/><Relationship Id="rId41" Type="http://schemas.openxmlformats.org/officeDocument/2006/relationships/image" Target="../media/image12.gif"/><Relationship Id="rId42" Type="http://schemas.openxmlformats.org/officeDocument/2006/relationships/image" Target="../media/image12.gif"/><Relationship Id="rId4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12.gif"/><Relationship Id="rId40" Type="http://schemas.openxmlformats.org/officeDocument/2006/relationships/image" Target="../media/image12.gif"/><Relationship Id="rId41" Type="http://schemas.openxmlformats.org/officeDocument/2006/relationships/image" Target="../media/image12.gif"/><Relationship Id="rId42" Type="http://schemas.openxmlformats.org/officeDocument/2006/relationships/image" Target="../media/image12.gif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12.gif"/><Relationship Id="rId40" Type="http://schemas.openxmlformats.org/officeDocument/2006/relationships/image" Target="../media/image12.gif"/><Relationship Id="rId41" Type="http://schemas.openxmlformats.org/officeDocument/2006/relationships/image" Target="../media/image12.gif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757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67280" y="836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初一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班主题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0"/>
            <a:ext cx="326736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挑战不良班风！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56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设班集体需要大家同心同德，群策群力。“团结就是力量”，它可以培养我们的集体感，荣誉感和责任感。时刻以集体利益为重，以集体的荣誉为先，集中精力，全力以赴。“同心协力，则磐石之固，未可图也。”只要大家戮力齐心，班集体就会蒸蒸日上，在这种氛围下学习生活怎能不事半功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19640" y="1052640"/>
            <a:ext cx="114300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团结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须进取。严于律己，力争上游，赶超自我，便是进取。抓紧每秒时间，把我每次机会，凝聚每份热情，向困难挑战，向明天宣言。进取铸就辉煌。唯有进取，天下无难事；唯有进取，方能获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5640" y="836640"/>
            <a:ext cx="18572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进取：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4000" y="-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8"/>
            <a:stretch/>
          </p:blipFill>
          <p:spPr>
            <a:xfrm>
              <a:off x="453996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3"/>
            <a:stretch/>
          </p:blipFill>
          <p:spPr>
            <a:xfrm>
              <a:off x="72831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5"/>
            <a:stretch/>
          </p:blipFill>
          <p:spPr>
            <a:xfrm>
              <a:off x="677520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9"/>
            <a:stretch/>
          </p:blipFill>
          <p:spPr>
            <a:xfrm>
              <a:off x="7515000" y="304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91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8"/>
            <a:stretch/>
          </p:blipFill>
          <p:spPr>
            <a:xfrm>
              <a:off x="95868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3"/>
            <a:stretch/>
          </p:blipFill>
          <p:spPr>
            <a:xfrm>
              <a:off x="37018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5"/>
            <a:stretch/>
          </p:blipFill>
          <p:spPr>
            <a:xfrm>
              <a:off x="319392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9"/>
            <a:stretch/>
          </p:blipFill>
          <p:spPr>
            <a:xfrm>
              <a:off x="3933720" y="6604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1979640" y="1125360"/>
            <a:ext cx="5905440" cy="3743640"/>
          </a:xfrm>
          <a:prstGeom prst="cloudCallout">
            <a:avLst>
              <a:gd name="adj1" fmla="val -52041"/>
              <a:gd name="adj2" fmla="val -53861"/>
            </a:avLst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1989000"/>
            <a:ext cx="46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隶书"/>
              </a:rPr>
              <a:t>让我们一起培养良好的班风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7993080" cy="3671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最欣赏的一句话：</a:t>
            </a:r>
            <a:br>
              <a:rPr sz="6000"/>
            </a:b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勤能补缺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224000" y="-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8"/>
            <a:stretch/>
          </p:blipFill>
          <p:spPr>
            <a:xfrm>
              <a:off x="453996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3"/>
            <a:stretch/>
          </p:blipFill>
          <p:spPr>
            <a:xfrm>
              <a:off x="72831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5"/>
            <a:stretch/>
          </p:blipFill>
          <p:spPr>
            <a:xfrm>
              <a:off x="677520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9"/>
            <a:stretch/>
          </p:blipFill>
          <p:spPr>
            <a:xfrm>
              <a:off x="7515000" y="304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242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8"/>
            <a:stretch/>
          </p:blipFill>
          <p:spPr>
            <a:xfrm>
              <a:off x="95868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3"/>
            <a:stretch/>
          </p:blipFill>
          <p:spPr>
            <a:xfrm>
              <a:off x="37018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5"/>
            <a:stretch/>
          </p:blipFill>
          <p:spPr>
            <a:xfrm>
              <a:off x="319392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9"/>
            <a:stretch/>
          </p:blipFill>
          <p:spPr>
            <a:xfrm>
              <a:off x="3933720" y="6604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395280" y="765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隶书"/>
              </a:rPr>
              <a:t>昨日的习惯，已经造就了今日的我们；今日的习惯，决定明天的我们。好习惯，益终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33400" y="2514600"/>
            <a:ext cx="567720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向不良的习惯</a:t>
            </a:r>
            <a:r>
              <a:rPr b="0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SAY NO </a:t>
            </a: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105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44000" y="404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03280" y="333360"/>
            <a:ext cx="6562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养成良好习惯，创建文明班风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082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是班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班还存在哪些不良的班风现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如何杜绝这些不良班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良好的班风哪些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共同确定本班班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380360" y="4597560"/>
            <a:ext cx="1268280" cy="2260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908840" y="5989680"/>
            <a:ext cx="12351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788000"/>
            <a:ext cx="2268360" cy="186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214280" cy="13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1280" cy="71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79480" y="836640"/>
            <a:ext cx="700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一个班的班风是关系到每一个同学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因此我们要自觉维护班级体的荣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每一个人出自己的一份力，每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都不损害集体的利益，那班风便会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到改善，成为一个优秀的班级！记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下面一句话：千人同心，则得千人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万人异心，则无一人之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淮南子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兵略训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295280"/>
            <a:ext cx="7010280" cy="3733920"/>
          </a:xfrm>
          <a:prstGeom prst="cloudCallout">
            <a:avLst>
              <a:gd name="adj1" fmla="val -55523"/>
              <a:gd name="adj2" fmla="val 42643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637000"/>
            <a:ext cx="590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人一组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回忆不良班风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29163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24000" y="-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453996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3"/>
            <a:stretch/>
          </p:blipFill>
          <p:spPr>
            <a:xfrm>
              <a:off x="72831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5"/>
            <a:stretch/>
          </p:blipFill>
          <p:spPr>
            <a:xfrm>
              <a:off x="677520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9"/>
            <a:stretch/>
          </p:blipFill>
          <p:spPr>
            <a:xfrm>
              <a:off x="7515000" y="304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84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8"/>
            <a:stretch/>
          </p:blipFill>
          <p:spPr>
            <a:xfrm>
              <a:off x="95868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3"/>
            <a:stretch/>
          </p:blipFill>
          <p:spPr>
            <a:xfrm>
              <a:off x="37018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5"/>
            <a:stretch/>
          </p:blipFill>
          <p:spPr>
            <a:xfrm>
              <a:off x="319392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9"/>
            <a:stretch/>
          </p:blipFill>
          <p:spPr>
            <a:xfrm>
              <a:off x="3933720" y="6604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079640" y="1844640"/>
            <a:ext cx="68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告诉小组的同学，你有哪些还没有做好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指出小组内同学做得不够好的地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请一位同学做你的监督人，一起努力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836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我做好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49360"/>
            <a:ext cx="3672000" cy="1079280"/>
          </a:xfrm>
          <a:prstGeom prst="cloudCallout">
            <a:avLst>
              <a:gd name="adj1" fmla="val -79745"/>
              <a:gd name="adj2" fmla="val -30148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4000" y="-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4292640" y="2286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6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7"/>
            <a:stretch/>
          </p:blipFill>
          <p:spPr>
            <a:xfrm>
              <a:off x="453996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8"/>
            <a:stretch/>
          </p:blipFill>
          <p:spPr>
            <a:xfrm>
              <a:off x="5040360" y="236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9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72831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7027920" y="2793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4"/>
            <a:stretch/>
          </p:blipFill>
          <p:spPr>
            <a:xfrm>
              <a:off x="677520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5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6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7"/>
            <a:stretch/>
          </p:blipFill>
          <p:spPr>
            <a:xfrm>
              <a:off x="6086520" y="263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8"/>
            <a:stretch/>
          </p:blipFill>
          <p:spPr>
            <a:xfrm>
              <a:off x="7515000" y="304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9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0"/>
            <a:stretch/>
          </p:blipFill>
          <p:spPr>
            <a:xfrm>
              <a:off x="7985160" y="307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1"/>
            <a:stretch/>
          </p:blipFill>
          <p:spPr>
            <a:xfrm>
              <a:off x="774864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30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7"/>
            <a:stretch/>
          </p:blipFill>
          <p:spPr>
            <a:xfrm>
              <a:off x="95868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2"/>
            <a:stretch/>
          </p:blipFill>
          <p:spPr>
            <a:xfrm>
              <a:off x="37018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4"/>
            <a:stretch/>
          </p:blipFill>
          <p:spPr>
            <a:xfrm>
              <a:off x="319392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8"/>
            <a:stretch/>
          </p:blipFill>
          <p:spPr>
            <a:xfrm>
              <a:off x="3933720" y="6604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2771640" y="620640"/>
            <a:ext cx="5400720" cy="3672000"/>
          </a:xfrm>
          <a:prstGeom prst="cloudCallout">
            <a:avLst>
              <a:gd name="adj1" fmla="val -52851"/>
              <a:gd name="adj2" fmla="val 65564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134136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除了养成良好的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个人习惯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之外，我们还要养成良好的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班风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黑体"/>
              </a:rPr>
              <a:t>确定本班的班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4203720"/>
            <a:ext cx="888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云，“学而不思则罔。”思考会使我们走出困惑，迈向成功。在周密的思考过程中，我们提炼出了严谨的思维方法；在深入的思考过程中，激发了我们无尽的创新意识；在持续不断的思考过程中，我们更能体会到学习的无穷乐趣。思考使人思维敏捷，治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谨；使人辨伪去妄，用存真知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0"/>
            <a:ext cx="185724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深思：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山有路，学海无涯。”漫漫求学路，一个“乐”字照亮了我们前进的道路。学习须“乐意”，兴趣爱好是成功的另一要诀，积极地学习才能有所得；学习须“快乐”，在成功中体验快乐，在挫折中回味甘甜，愉快的学习方能有所成；学习须“乐观”，成功已是过去，失败尚是未知数，面对坎坷，不应徘徊，而应向前迈开踏实的每一步，笑看学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能有所收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71640" y="765000"/>
            <a:ext cx="102852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乐学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57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1:52:03Z</dcterms:modified>
  <cp:revision>61</cp:revision>
  <dc:subject>主题班会课件(分28大类): http://shop62905894.taobao.com</dc:subject>
  <dc:title>主题班会课件(分28大类): http://shop62905894.taobao.com</dc:title>
</cp:coreProperties>
</file>