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2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30.jpeg" ContentType="image/jpeg"/>
  <Override PartName="/ppt/media/image5.png" ContentType="image/png"/>
  <Override PartName="/ppt/media/image35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" Target="slide46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" Target="slide1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" Target="slide35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幻灯封面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1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08960" y="1624680"/>
            <a:ext cx="850680" cy="390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可以做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548120" y="-469440"/>
            <a:ext cx="911520" cy="59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封面或者穿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5799240" y="3830040"/>
            <a:ext cx="546120" cy="193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它文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626160" y="1084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幻灯荷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dd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808200" cy="808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幻灯no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Fude &amp; Fudetat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661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幻灯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99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96360" y="5661000"/>
            <a:ext cx="83808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幻灯梅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dd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96080" y="5791320"/>
            <a:ext cx="77796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幻灯封面no3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幻灯封面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34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708960" y="1624680"/>
            <a:ext cx="850680" cy="390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可以做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7548120" y="-469440"/>
            <a:ext cx="911520" cy="59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封面或者穿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799240" y="3830040"/>
            <a:ext cx="546120" cy="193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它文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6626160" y="1084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3.iecool.com/show/65/5560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f130.com/song1111/6941/88002.htm" TargetMode="External"/><Relationship Id="rId2" Type="http://schemas.openxmlformats.org/officeDocument/2006/relationships/hyperlink" Target="file:///C:/Documents%20and%20Settings/Administrator/Local%20Settings/Temp/Rar$DI00.563/&#24494;&#31505;&#35828;&#20320;&#22909;%20-%20&#32993;&#28789;&#65286;&#37011;&#23425;.mp3" TargetMode="External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7.xml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gi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>
            <a:hlinkClick r:id="rId1"/>
          </p:cNvPr>
          <p:cNvPicPr/>
          <p:nvPr/>
        </p:nvPicPr>
        <p:blipFill>
          <a:blip r:embed="rId2"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28480" y="1460160"/>
            <a:ext cx="5833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微笑与礼貌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87600" y="3260880"/>
            <a:ext cx="565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文明礼貌的传递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高一（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班 主题班会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形象的美不仅在外在，更重要的是在内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132000" y="162864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看了几幅图后，请你想想，在我们生活中、校园里还有什么不文明的现象？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好了，下面让我们来看看身边的“高”人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5440" cy="6919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不管不顾，丢格十足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你是舒服了，可却污染了别人的眼睛与心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6348240"/>
            <a:ext cx="914400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姿势不错，但表演场地不正确，出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3195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395960" y="0"/>
            <a:ext cx="4748040" cy="685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0" y="4095720"/>
            <a:ext cx="4284720" cy="2762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328464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艺  高   胆  大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位小哥，您这样的形象谁会“看上”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609264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武功不错，但这不是展示运动天赋的地方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59280" y="119664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一、请听诗歌朗诵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微笑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0560" y="5714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这也不是展示您雕刻水平的地方</a:t>
            </a:r>
            <a:br>
              <a:rPr sz="4000"/>
            </a:b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7708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988760" y="0"/>
            <a:ext cx="115524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水在滴，资源正流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你的修养也在流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8920" y="5714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举手之劳，校园可以更美好</a:t>
            </a:r>
            <a:br>
              <a:rPr sz="4000"/>
            </a:b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不是涂鸦艺术，而是你道德低下的证据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5960880"/>
            <a:ext cx="91440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伤痕累累的门板在控诉无良的行为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640" y="99036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中学生“十个文明形象” </a:t>
            </a:r>
            <a:br>
              <a:rPr sz="4000"/>
            </a:b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-108000" y="1307880"/>
            <a:ext cx="91440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升降国旗，奏唱国歌时肃立行礼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与人相处，语言文明，友善宽容，明礼诚信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公共场合，轻声交谈，举止文雅，着装得体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孝敬父母，尊敬师长，乐于助人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乘车购物，不拥不挤，座位让给有困难的人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行车走路，遵守交通规则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-108360" y="1668600"/>
            <a:ext cx="939636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保护环境，垃圾废物不乱扔，绿地草坪不践踏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爱护公用设施，节约公用资源，遵守公共秩序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爱护公用设施，节约公用资源，遵守公共秩序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爱护公用设施，节约公用资源，遵守公共秩序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⑩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情趣健康，远离不利于身心健康的场所。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48000" y="126792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文明行为</a:t>
            </a:r>
            <a:br>
              <a:rPr sz="5400"/>
            </a:b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从细节做起！</a:t>
            </a:r>
            <a:br>
              <a:rPr sz="5400"/>
            </a:b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从我做起！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76720" y="2276640"/>
            <a:ext cx="568800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二）齐来当“作家”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03280" y="-360"/>
            <a:ext cx="534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文明标语怎带来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文明行为？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59280" y="151128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标语本是一种倡导文明行为的形式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但在中国的许多地方却使用生硬、粗暴的标语。这样不仅不能达到宣传效果，反而容易引起别人的反感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32000" y="105228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二、活动环节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一）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小品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《玛丽的微笑》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03280" y="-360"/>
            <a:ext cx="534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文明标语怎带来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文明行为？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60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而且，这也不符合我们文明、和谐社会的发展趋势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下面，首先我们来看看霸王标语标语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132000" y="160020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爱护公共卫生长命百岁，随地乱丢垃圾断子绝孙” 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重庆洋人街出现的标语）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宁可血流成河，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不准超生一个”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江苏农村多处可见）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飞车抢劫，就地枪决！”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在某交叉路口的标语）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放火烧山，牢底坐穿”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在江西某处林场）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132000" y="160020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俗话说：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良言一句三冬暖，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恶语伤人六月寒 ”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下面再让我们先看看几个文明标语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059280" y="549000"/>
            <a:ext cx="608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上帝并不是十全十十美的，它为汽车准备了备件，而人没有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交通安全广告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果你的汽车会游泳的话，请照直开，不必刹车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某公路交通广告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987280" y="189000"/>
            <a:ext cx="615636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饿了，喂喂我吧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岛垃圾箱上的广告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草木成荫多好看，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乱扔垃圾是添乱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请你近距离投篮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垃圾箱）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是否乱吐痰，体现你的修养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03640" y="1600200"/>
            <a:ext cx="56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好了，请大家发挥自己的聪明才智，来拟写一条文明、幽默标语吧！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两个大组来个比赛吧！！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03640" y="2565000"/>
            <a:ext cx="52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三）猜迷语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814040" y="8503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双胞胎赖被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50280" y="785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对不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77320" y="14266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叶落花也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58120" y="136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90360" y="207432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无可奈何花落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2166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感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29360" y="2679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愿花常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50280" y="2657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不用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77320" y="321480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辛苦了司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58120" y="3252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劳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87280" y="38030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放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8280" y="430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单人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35080" y="492372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第二次会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31200" y="3757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不要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16280" y="449100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对不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27960" y="5019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再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21360" y="56527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行为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27960" y="5573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走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814040" y="8503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双胞胎赖被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50280" y="785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对不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77320" y="14266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叶落花也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58120" y="136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90360" y="207432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无可奈何花落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2166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感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29360" y="2679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愿花常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50280" y="2657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不用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77320" y="321480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辛苦了司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58120" y="3252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劳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87280" y="38030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放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8280" y="430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单人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35080" y="492372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第二次会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31200" y="3757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不要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16280" y="449100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对不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27960" y="5019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再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21360" y="56527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行为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27960" y="5573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走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32000" y="1557000"/>
            <a:ext cx="60120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（二）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相声</a:t>
            </a:r>
            <a:br>
              <a:rPr sz="5400"/>
            </a:b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《绿色》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132000" y="263664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五、齐齐来唱歌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03280" y="1600200"/>
            <a:ext cx="594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为我们的生活更文明，为我们的生活更美好，让我们一起来唱歌：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130.com/song1111/6941/88002.htm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歌曲点播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微笑说你好 </a:t>
            </a:r>
            <a:br>
              <a:rPr sz="4000"/>
            </a:b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学礼 无以立 人无礼 则不生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无礼 则不成 国无礼 则不宁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学礼 无以立 人无礼 则不生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无礼 则不成 国无礼 则不宁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个微笑的神奇就要发酵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更美的城市由你我来打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个拥抱的美丽出乎意料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更深的情谊拉近彼此坐标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快乐希望零距离 因为你在这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春节奏一起跳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Right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2.3.4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见面微笑说你好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张开手 把陌生全都抛掉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2.3.4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见面微笑说你好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伸出手 爱把梦想围绕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读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&gt;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不学礼 无以立 人无礼 则不生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事无礼 则不成 国无礼 则不宁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欢迎你 要微笑 说谢谢 多周到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让让座 有礼貌 排排队 秩序好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先给孔子的问声好 教育我们要懂礼貌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见面友善握握手 千万别忘了说开口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Hello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早安 说你好 发自内心 我多周到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请问这城市哪里好 有礼处处有风貌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个微笑的神奇就要发酵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更美的城市由你我来打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个拥抱的美丽出乎意料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更深的情谊拉近彼此坐标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快乐希望零距离 因为你在这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春节奏一起跳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Right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2.3.4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见面微笑说你好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张开手 把陌生全都抛掉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2.3.4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见面微笑说你好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伸出手 爱把梦想围绕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2.3.4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见面微笑说你好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张开手 把陌生全都抛掉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2.3.4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见面微笑说你好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伸出手 爱把梦想围绕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211640" y="2408400"/>
            <a:ext cx="4562640" cy="19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微笑，生活之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明礼，民族之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rId2" action="ppaction://hlinksldjump"/>
          </p:cNvPr>
          <p:cNvSpPr/>
          <p:nvPr/>
        </p:nvSpPr>
        <p:spPr>
          <a:xfrm>
            <a:off x="3886200" y="3124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756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7315200" y="1143000"/>
            <a:ext cx="1547640" cy="3429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219320" y="4952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34290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5743440" y="0"/>
            <a:ext cx="3400560" cy="958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8077320" y="5762520"/>
            <a:ext cx="1066680" cy="10954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>
            <a:off x="1374840" y="115920"/>
            <a:ext cx="1396800" cy="814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9320" y="1015920"/>
            <a:ext cx="71866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文明礼仪是一粒最有生命力的种子，它会在我们的精神世界里发芽、开花、结果，指导我们的人生观、世界观，让把文明之花播撒到生活中！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76360" y="24919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谢谢各位指导！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916000" y="0"/>
            <a:ext cx="6227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（三）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游戏</a:t>
            </a:r>
            <a:br>
              <a:rPr sz="44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游戏规则：两个小组，每组二人，依次进行。其中一人用布蒙住眼睛，扮演盲人，另一人扮演哑巴，“哑巴”作为拐杖，扶“盲人”在教室内按指定路线行走，两人均不准出声，班上其他同学扮各种器物，不动声色地在他们行进的过程中设置障碍，“哑巴”用身体语言引导“盲人”通过障碍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50920" y="256500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三、总结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34920" y="2276280"/>
            <a:ext cx="49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四、文明与细节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132000" y="249192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一）当回“福尔摩斯”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58053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当你旁若无人发出炮弹的时候，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你丢的不是一个人的脸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0:59:2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9:52Z</dcterms:modified>
  <cp:revision>14</cp:revision>
  <dc:subject>主题班会课件(分28大类): http://shop62905894.taobao.com</dc:subject>
  <dc:title>主题班会课件(分28大类): http://shop62905894.taobao.com</dc:title>
</cp:coreProperties>
</file>