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094-B8D4-47AB-AC9B-B3561176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C12-4B9F-4FF8-9706-5A9E9F97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096-1987-4F72-AA09-1A353A47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32A-4B1E-41E6-B082-24049FA4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3A7-75A4-462F-8580-38F3B746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10C-127D-43B9-8490-D58F836B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EC0-83F3-41ED-885F-D0575C8A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C5C-B806-4235-B8D6-6715F743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8D4-E704-4926-A598-9C9107BD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B0A-D308-4EF4-8216-5E9E7DA6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8D4-8B56-42B8-B5BC-C6007190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012-19D2-48BC-801E-F67B4674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4794-84FE-4FC1-B8BC-B9934C75A7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ff"/>
                </a:solidFill>
                <a:latin typeface="Times New Roman"/>
              </a:rPr>
              <a:t>学习“四养成”，做文明学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620640"/>
            <a:ext cx="92296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新要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注重自身修养，做到知行统一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勤勤恳恳，老老实实，学会做人；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热爱体育，增强体质，学会健体；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志趣高雅，情趣高尚，学会审美；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开发智力，培养能力，学会求知；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读死书，不死读书，学会创新。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95421"/>
                </a:solidFill>
                <a:latin typeface="Times New Roman"/>
              </a:rPr>
              <a:t>养成不随地丢弃杂物</a:t>
            </a:r>
            <a:br>
              <a:rPr sz="5400"/>
            </a:br>
            <a:r>
              <a:rPr b="1" lang="zh-CN" sz="5400" spc="-1" strike="noStrike">
                <a:solidFill>
                  <a:srgbClr val="f95421"/>
                </a:solidFill>
                <a:latin typeface="Times New Roman"/>
              </a:rPr>
              <a:t>的良好习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3933360"/>
            <a:ext cx="6400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建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、每天做好教室、辖区的清洁、保洁工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、不准随地乱丢杂物（特别是包装袋、盒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、不准随地吐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、做到墙上无脚印、无污损，课桌椅上无乱刻画，公共财物无损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3049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ff66"/>
                </a:solidFill>
                <a:latin typeface="Times New Roman"/>
              </a:rPr>
              <a:t>养成在教学区保持</a:t>
            </a:r>
            <a:br>
              <a:rPr sz="5400"/>
            </a:br>
            <a:r>
              <a:rPr b="1" lang="zh-CN" sz="5400" spc="-1" strike="noStrike">
                <a:solidFill>
                  <a:srgbClr val="ccff66"/>
                </a:solidFill>
                <a:latin typeface="Times New Roman"/>
              </a:rPr>
              <a:t>宁静的遵纪行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58920" y="2971800"/>
            <a:ext cx="561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建议（在教学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不准喧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不准追逐嬉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不准进行球类等体育运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-11448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84692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Times New Roman"/>
              </a:rPr>
              <a:t>养成遇见老师主动问好</a:t>
            </a:r>
            <a:br>
              <a:rPr sz="5400"/>
            </a:br>
            <a:r>
              <a:rPr b="1" lang="zh-CN" sz="5400" spc="-1" strike="noStrike">
                <a:solidFill>
                  <a:srgbClr val="00ff00"/>
                </a:solidFill>
                <a:latin typeface="Times New Roman"/>
              </a:rPr>
              <a:t>让路的礼貌行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8960" y="2420640"/>
            <a:ext cx="662940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建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一、老师上课时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同学听口令应迅速起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二、遇见师长、嘉宾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应以礼相待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亲切问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、升旗仪式出旗和升旗时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不准走动或有其它不恭的行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Times New Roman"/>
              </a:rPr>
              <a:t>养成守时的文明习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32000" y="3141360"/>
            <a:ext cx="691200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建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一、预备铃响后准时进入课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二、充分利用自修时间学习文化知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9933"/>
                </a:solidFill>
                <a:latin typeface="Times New Roman"/>
              </a:rPr>
              <a:t>校风建设五个方面的要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一、清洁—养成卫生习惯，保持校园整洁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二、宁静—形成良好的环境气氛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三、礼貌—尊敬师长，尊重他人，团结同学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四、守时—珍惜时光，传统美德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五、端庄—正衣冠，整仪容，培养新中精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07:38:0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7:40Z</dcterms:modified>
  <cp:revision>19</cp:revision>
  <dc:subject>主题班会课件(分28大类): http://shop62905894.taobao.com</dc:subject>
  <dc:title>主题班会课件(分28大类): http://shop62905894.taobao.com</dc:title>
</cp:coreProperties>
</file>