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98A8-A23E-4F7D-9EAC-49AB3DEC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F337-660B-41F6-8153-982E35DB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9F89-20E1-43C2-8010-E0DD3D570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1E3A-C11B-4577-A7A3-6471783E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7759-7B2A-499E-B59B-5CE11C0E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E4A8-9604-438B-A7C9-10D8CD89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FDC2-A811-46C8-A483-D6E782B1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F850-FA0B-4610-A06E-C6D062AE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A037-4C23-4C7D-936E-1347E1DB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3C88-85B0-4123-B268-4410F598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AA1C-E4EB-4719-AE8F-AA93F7CA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0AAA-11C0-4089-98BC-19DBC393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ED7D-7CBE-4DFC-B17D-E4A6D79E9F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gif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144000" cy="760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55640" y="1916280"/>
            <a:ext cx="748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做文明学生  建和谐校园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995640" y="3141720"/>
            <a:ext cx="2160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主题班会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10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10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244160" y="1818360"/>
            <a:ext cx="64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明：选择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，选择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，选择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2655000"/>
            <a:ext cx="777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数为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30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：你是个讲文明，懂礼貌的人。举止言谈文明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与老师、父母、同学相处融洽，人际关系好，是个受欢迎的人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3572280"/>
            <a:ext cx="75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数为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22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：一般情况下，你是个文明的人，但有时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没有认真对待一些事情，特别是一些小事，人际关系一般，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比较受欢迎的人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467100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数为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14—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：许多情况下，你是个不文明的人，人际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定很差，是个不受欢迎的人。要注意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250" autoRev="1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2" dur="250" autoRev="1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" dur="250" autoRev="1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25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7" dur="25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" dur="25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250" autoRev="1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2" dur="250" autoRev="1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" dur="250" autoRev="1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331280" y="63324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猜谜大比拼（礼貌用语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26120" y="1411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双胞胎赖被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56680" y="1413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对不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67800" y="198792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叶落花也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95480" y="1987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谢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18200" y="263592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无可奈何花落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263700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感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04440" y="3306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愿花常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56680" y="3284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不用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67800" y="386064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辛苦了司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95480" y="387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劳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87280" y="436464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放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54320" y="4867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单人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35080" y="54853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二次会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37600" y="4384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不要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16280" y="4960800"/>
            <a:ext cx="12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对不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65320" y="5608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再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4480" y="60616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行为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65320" y="6111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走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39640" y="1484280"/>
            <a:ext cx="4969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文明礼仪建议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050920" y="3284640"/>
            <a:ext cx="597708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欣赏三句半表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628640" y="1955160"/>
            <a:ext cx="3228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做一个讲文明，知礼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的中学生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，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以小我铸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大我，共同构建我们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和谐校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867280" y="836640"/>
            <a:ext cx="28116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523880" y="22860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24000" y="260280"/>
            <a:ext cx="8569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Times New Roman"/>
                <a:ea typeface="华文彩云"/>
              </a:rPr>
              <a:t>共 创 新 邨 学 校 和谐校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3870360"/>
            <a:ext cx="4724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2124000" y="2349360"/>
            <a:ext cx="4467240" cy="16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！再见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1268280"/>
            <a:ext cx="4137840" cy="4038480"/>
            <a:chOff x="0" y="1268280"/>
            <a:chExt cx="4137840" cy="4038480"/>
          </a:xfrm>
        </p:grpSpPr>
        <p:sp>
          <p:nvSpPr>
            <p:cNvPr id="45" name=""/>
            <p:cNvSpPr/>
            <p:nvPr/>
          </p:nvSpPr>
          <p:spPr>
            <a:xfrm>
              <a:off x="321840" y="2822400"/>
              <a:ext cx="3470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800000"/>
                  </a:solidFill>
                  <a:latin typeface="Times New Roman"/>
                </a:rPr>
                <a:t>诠释文明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0" y="3017520"/>
              <a:ext cx="44928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3677400" y="1268280"/>
              <a:ext cx="460440" cy="4038480"/>
            </a:xfrm>
            <a:custGeom>
              <a:avLst/>
              <a:gdLst>
                <a:gd name="textAreaLeft" fmla="*/ 294120 w 460440"/>
                <a:gd name="textAreaRight" fmla="*/ 460800 w 46044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156"/>
                  </a:lnTo>
                  <a:cubicBezTo>
                    <a:pt x="10800" y="9056"/>
                    <a:pt x="5400" y="9956"/>
                    <a:pt x="0" y="9956"/>
                  </a:cubicBezTo>
                  <a:cubicBezTo>
                    <a:pt x="5400" y="9956"/>
                    <a:pt x="10800" y="10856"/>
                    <a:pt x="10800" y="1175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4284720" y="1125360"/>
            <a:ext cx="2362320" cy="609840"/>
            <a:chOff x="4284720" y="1125360"/>
            <a:chExt cx="2362320" cy="609840"/>
          </a:xfrm>
        </p:grpSpPr>
        <p:sp>
          <p:nvSpPr>
            <p:cNvPr id="49" name=""/>
            <p:cNvSpPr/>
            <p:nvPr/>
          </p:nvSpPr>
          <p:spPr>
            <a:xfrm>
              <a:off x="4284720" y="1125360"/>
              <a:ext cx="1600200" cy="609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284720" y="1139760"/>
              <a:ext cx="236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心理文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284720" y="2421000"/>
            <a:ext cx="2734920" cy="609480"/>
            <a:chOff x="4284720" y="2421000"/>
            <a:chExt cx="2734920" cy="609480"/>
          </a:xfrm>
        </p:grpSpPr>
        <p:sp>
          <p:nvSpPr>
            <p:cNvPr id="52" name=""/>
            <p:cNvSpPr/>
            <p:nvPr/>
          </p:nvSpPr>
          <p:spPr>
            <a:xfrm>
              <a:off x="4284720" y="2421000"/>
              <a:ext cx="16408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284720" y="2435040"/>
              <a:ext cx="273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行为文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284720" y="3645000"/>
            <a:ext cx="2133720" cy="609480"/>
            <a:chOff x="4284720" y="3645000"/>
            <a:chExt cx="2133720" cy="609480"/>
          </a:xfrm>
        </p:grpSpPr>
        <p:sp>
          <p:nvSpPr>
            <p:cNvPr id="55" name=""/>
            <p:cNvSpPr/>
            <p:nvPr/>
          </p:nvSpPr>
          <p:spPr>
            <a:xfrm>
              <a:off x="4284720" y="364500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284720" y="364500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语言文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724280" y="46483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4284720" y="4869000"/>
            <a:ext cx="2133720" cy="609480"/>
            <a:chOff x="4284720" y="4869000"/>
            <a:chExt cx="2133720" cy="609480"/>
          </a:xfrm>
        </p:grpSpPr>
        <p:sp>
          <p:nvSpPr>
            <p:cNvPr id="59" name=""/>
            <p:cNvSpPr/>
            <p:nvPr/>
          </p:nvSpPr>
          <p:spPr>
            <a:xfrm>
              <a:off x="4284720" y="486900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284720" y="486900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网络文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>
            <a:hlinkClick r:id="rId3" action="ppaction://hlinksldjump"/>
          </p:cNvPr>
          <p:cNvSpPr/>
          <p:nvPr/>
        </p:nvSpPr>
        <p:spPr>
          <a:xfrm>
            <a:off x="8381880" y="62485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0"/>
            <a:ext cx="9144000" cy="2209680"/>
            <a:chOff x="0" y="0"/>
            <a:chExt cx="9144000" cy="2209680"/>
          </a:xfrm>
        </p:grpSpPr>
        <p:grpSp>
          <p:nvGrpSpPr>
            <p:cNvPr id="63" name=""/>
            <p:cNvGrpSpPr/>
            <p:nvPr/>
          </p:nvGrpSpPr>
          <p:grpSpPr>
            <a:xfrm>
              <a:off x="0" y="0"/>
              <a:ext cx="9144000" cy="1295280"/>
              <a:chOff x="0" y="0"/>
              <a:chExt cx="9144000" cy="1295280"/>
            </a:xfrm>
          </p:grpSpPr>
          <p:pic>
            <p:nvPicPr>
              <p:cNvPr id="6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"/>
              <p:cNvSpPr/>
              <p:nvPr/>
            </p:nvSpPr>
            <p:spPr>
              <a:xfrm>
                <a:off x="685800" y="304920"/>
                <a:ext cx="1981080" cy="838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295280" y="76320"/>
                <a:ext cx="8384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000000"/>
                    </a:solidFill>
                    <a:latin typeface="Times New Roman"/>
                  </a:rPr>
                  <a:t>？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"/>
            <p:cNvSpPr txBox="1"/>
            <p:nvPr/>
          </p:nvSpPr>
          <p:spPr>
            <a:xfrm>
              <a:off x="2209680" y="1523880"/>
              <a:ext cx="38102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54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latin typeface="宋体"/>
                </a:rPr>
                <a:t>文明礼仪知多少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  <a:ea typeface="宋体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33520" y="2514600"/>
            <a:ext cx="2590560" cy="685800"/>
            <a:chOff x="533520" y="2514600"/>
            <a:chExt cx="2590560" cy="685800"/>
          </a:xfrm>
        </p:grpSpPr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533520" y="266688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" name=""/>
            <p:cNvGrpSpPr/>
            <p:nvPr/>
          </p:nvGrpSpPr>
          <p:grpSpPr>
            <a:xfrm>
              <a:off x="1066680" y="2514600"/>
              <a:ext cx="2057400" cy="685800"/>
              <a:chOff x="1066680" y="2514600"/>
              <a:chExt cx="2057400" cy="685800"/>
            </a:xfrm>
          </p:grpSpPr>
          <p:sp>
            <p:nvSpPr>
              <p:cNvPr id="71" name=""/>
              <p:cNvSpPr/>
              <p:nvPr/>
            </p:nvSpPr>
            <p:spPr>
              <a:xfrm>
                <a:off x="1066680" y="2514600"/>
                <a:ext cx="1447920" cy="6858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ff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066680" y="2552760"/>
                <a:ext cx="2057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990000"/>
                    </a:solidFill>
                    <a:latin typeface="Times New Roman"/>
                  </a:rPr>
                  <a:t>称谓篇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" name=""/>
          <p:cNvGrpSpPr/>
          <p:nvPr/>
        </p:nvGrpSpPr>
        <p:grpSpPr>
          <a:xfrm>
            <a:off x="533520" y="3505320"/>
            <a:ext cx="7162560" cy="581400"/>
            <a:chOff x="533520" y="3505320"/>
            <a:chExt cx="7162560" cy="581400"/>
          </a:xfrm>
        </p:grpSpPr>
        <p:sp>
          <p:nvSpPr>
            <p:cNvPr id="74" name=""/>
            <p:cNvSpPr/>
            <p:nvPr/>
          </p:nvSpPr>
          <p:spPr>
            <a:xfrm>
              <a:off x="533520" y="3505320"/>
              <a:ext cx="716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古时称同学为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038480" y="3962520"/>
              <a:ext cx="2743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33520" y="4419720"/>
            <a:ext cx="6933960" cy="581400"/>
            <a:chOff x="533520" y="4419720"/>
            <a:chExt cx="6933960" cy="581400"/>
          </a:xfrm>
        </p:grpSpPr>
        <p:sp>
          <p:nvSpPr>
            <p:cNvPr id="77" name=""/>
            <p:cNvSpPr/>
            <p:nvPr/>
          </p:nvSpPr>
          <p:spPr>
            <a:xfrm>
              <a:off x="533520" y="4419720"/>
              <a:ext cx="6933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古时称老师为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38480" y="4876920"/>
              <a:ext cx="2743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33520" y="5257800"/>
            <a:ext cx="6476760" cy="581400"/>
            <a:chOff x="533520" y="5257800"/>
            <a:chExt cx="6476760" cy="581400"/>
          </a:xfrm>
        </p:grpSpPr>
        <p:sp>
          <p:nvSpPr>
            <p:cNvPr id="80" name=""/>
            <p:cNvSpPr/>
            <p:nvPr/>
          </p:nvSpPr>
          <p:spPr>
            <a:xfrm>
              <a:off x="533520" y="5257800"/>
              <a:ext cx="647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古时称学生为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38480" y="5715000"/>
              <a:ext cx="2743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419720" y="33210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同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42670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先生 恩师  夫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14800" y="51055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门生  受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533520" y="1859040"/>
            <a:ext cx="7010280" cy="581400"/>
            <a:chOff x="533520" y="1859040"/>
            <a:chExt cx="7010280" cy="581400"/>
          </a:xfrm>
        </p:grpSpPr>
        <p:sp>
          <p:nvSpPr>
            <p:cNvPr id="86" name=""/>
            <p:cNvSpPr/>
            <p:nvPr/>
          </p:nvSpPr>
          <p:spPr>
            <a:xfrm>
              <a:off x="533520" y="1859040"/>
              <a:ext cx="647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古时称对方母亲为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00600" y="2362320"/>
              <a:ext cx="2743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533520" y="2925720"/>
            <a:ext cx="7010280" cy="581400"/>
            <a:chOff x="533520" y="2925720"/>
            <a:chExt cx="7010280" cy="581400"/>
          </a:xfrm>
        </p:grpSpPr>
        <p:sp>
          <p:nvSpPr>
            <p:cNvPr id="89" name=""/>
            <p:cNvSpPr/>
            <p:nvPr/>
          </p:nvSpPr>
          <p:spPr>
            <a:xfrm>
              <a:off x="533520" y="2925720"/>
              <a:ext cx="647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古时称岳父为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00600" y="3352680"/>
              <a:ext cx="2743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492360" y="4797360"/>
            <a:ext cx="4843080" cy="581400"/>
            <a:chOff x="3492360" y="4797360"/>
            <a:chExt cx="4843080" cy="581400"/>
          </a:xfrm>
        </p:grpSpPr>
        <p:sp>
          <p:nvSpPr>
            <p:cNvPr id="92" name=""/>
            <p:cNvSpPr/>
            <p:nvPr/>
          </p:nvSpPr>
          <p:spPr>
            <a:xfrm>
              <a:off x="3492360" y="4797360"/>
              <a:ext cx="181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回答为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21800" y="5300640"/>
              <a:ext cx="3113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33520" y="3992400"/>
            <a:ext cx="7772400" cy="581400"/>
            <a:chOff x="533520" y="3992400"/>
            <a:chExt cx="7772400" cy="581400"/>
          </a:xfrm>
        </p:grpSpPr>
        <p:sp>
          <p:nvSpPr>
            <p:cNvPr id="95" name=""/>
            <p:cNvSpPr/>
            <p:nvPr/>
          </p:nvSpPr>
          <p:spPr>
            <a:xfrm>
              <a:off x="533520" y="3992400"/>
              <a:ext cx="586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请问对方姓什么，应说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62720" y="4419720"/>
              <a:ext cx="2743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33520" y="944640"/>
            <a:ext cx="7010280" cy="581400"/>
            <a:chOff x="533520" y="944640"/>
            <a:chExt cx="7010280" cy="581400"/>
          </a:xfrm>
        </p:grpSpPr>
        <p:sp>
          <p:nvSpPr>
            <p:cNvPr id="98" name=""/>
            <p:cNvSpPr/>
            <p:nvPr/>
          </p:nvSpPr>
          <p:spPr>
            <a:xfrm>
              <a:off x="533520" y="944640"/>
              <a:ext cx="647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古时称对方父亲为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800600" y="1447920"/>
              <a:ext cx="2743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410080" y="762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令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1644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令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10080" y="2635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泰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3778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贵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458136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免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33520" y="228600"/>
            <a:ext cx="2590560" cy="685800"/>
            <a:chOff x="533520" y="228600"/>
            <a:chExt cx="2590560" cy="68580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533520" y="38088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" name=""/>
            <p:cNvGrpSpPr/>
            <p:nvPr/>
          </p:nvGrpSpPr>
          <p:grpSpPr>
            <a:xfrm>
              <a:off x="1066680" y="228600"/>
              <a:ext cx="2057400" cy="685800"/>
              <a:chOff x="1066680" y="228600"/>
              <a:chExt cx="2057400" cy="685800"/>
            </a:xfrm>
          </p:grpSpPr>
          <p:sp>
            <p:nvSpPr>
              <p:cNvPr id="108" name=""/>
              <p:cNvSpPr/>
              <p:nvPr/>
            </p:nvSpPr>
            <p:spPr>
              <a:xfrm>
                <a:off x="1066680" y="228600"/>
                <a:ext cx="1447920" cy="6858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ff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066680" y="266760"/>
                <a:ext cx="2057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990000"/>
                    </a:solidFill>
                    <a:latin typeface="Times New Roman"/>
                  </a:rPr>
                  <a:t>称谓篇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228600" y="228600"/>
            <a:ext cx="2590560" cy="685800"/>
            <a:chOff x="228600" y="228600"/>
            <a:chExt cx="2590560" cy="68580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228600" y="38088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" name=""/>
            <p:cNvGrpSpPr/>
            <p:nvPr/>
          </p:nvGrpSpPr>
          <p:grpSpPr>
            <a:xfrm>
              <a:off x="761760" y="228600"/>
              <a:ext cx="2057400" cy="685800"/>
              <a:chOff x="761760" y="228600"/>
              <a:chExt cx="2057400" cy="685800"/>
            </a:xfrm>
          </p:grpSpPr>
          <p:sp>
            <p:nvSpPr>
              <p:cNvPr id="113" name=""/>
              <p:cNvSpPr/>
              <p:nvPr/>
            </p:nvSpPr>
            <p:spPr>
              <a:xfrm>
                <a:off x="761760" y="228600"/>
                <a:ext cx="1447920" cy="6858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ff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1760" y="266760"/>
                <a:ext cx="2057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990000"/>
                    </a:solidFill>
                    <a:latin typeface="Times New Roman"/>
                  </a:rPr>
                  <a:t>绅士篇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"/>
          <p:cNvSpPr/>
          <p:nvPr/>
        </p:nvSpPr>
        <p:spPr>
          <a:xfrm>
            <a:off x="304920" y="10666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男士陪同女士上街时，女士行走在男士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100476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1800" y="18288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上楼时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先行；下楼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先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17524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女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1752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男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26668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旅行时，靠窗口的座位都是让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2666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女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4191120"/>
            <a:ext cx="8686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男女结伴外出，男士应帮助女士，如帮拿行李等，但只有一样东西男士永远不能拿，那就是女士手上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5181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小提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505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男女握手时，应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先伸出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43400" y="34434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男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11280" y="156780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小品欣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46560" y="472428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演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钱雨婧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556000" y="2781360"/>
            <a:ext cx="424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校园文明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420200" y="1413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揪出校园不文明行为</a:t>
            </a:r>
            <a:r>
              <a:rPr b="0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36960" y="2636640"/>
            <a:ext cx="487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小组讨论并列举身边的不文明行为，然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组竞答，并记录积分（每找出一种，记一分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816920" y="805680"/>
            <a:ext cx="460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文明人”自测：你是一个文明的人吗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1482840"/>
            <a:ext cx="650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升国旗时，你能肃立，行注目礼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能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时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1981080" y="2430720"/>
            <a:ext cx="821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你平时说脏话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说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很少说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常说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3397320"/>
            <a:ext cx="637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路上见到老师，你会主动上前问好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时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426096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你有过破坏公物、乱扔粉笔的行为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没有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过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6560" y="5104080"/>
            <a:ext cx="626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你能和同学友好相处、并互相帮助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的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很少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没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39800" y="1152720"/>
            <a:ext cx="620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你会乱扔垃圾吗？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没有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偶尔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160720"/>
            <a:ext cx="78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看见校园有垃圾，你会捡起来并扔进垃圾桶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会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时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410544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你能按时独立完成作业，不抄袭别人作业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能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时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3097440"/>
            <a:ext cx="78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你能够做到上课认真听讲，不讲话做小动作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会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时     　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5042160"/>
            <a:ext cx="744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参加各种集会能准时到达，安静听讲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能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时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3:07:05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49:24Z</dcterms:modified>
  <cp:revision>22</cp:revision>
  <dc:subject>主题班会课件(分28大类): http://shop62905894.taobao.com</dc:subject>
  <dc:title>主题班会课件(分28大类): http://shop62905894.taobao.com</dc:title>
</cp:coreProperties>
</file>