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4.jpeg" ContentType="image/jpeg"/>
  <Override PartName="/ppt/media/image21.gif" ContentType="image/gif"/>
  <Override PartName="/ppt/media/image19.png" ContentType="image/png"/>
  <Override PartName="/ppt/media/image16.jpeg" ContentType="image/jpeg"/>
  <Override PartName="/ppt/media/image9.gif" ContentType="image/gif"/>
  <Override PartName="/ppt/media/image35.wmf" ContentType="image/x-wmf"/>
  <Override PartName="/ppt/media/image28.jpeg" ContentType="image/jpeg"/>
  <Override PartName="/ppt/media/image27.gif" ContentType="image/gif"/>
  <Override PartName="/ppt/media/image6.gif" ContentType="image/gif"/>
  <Override PartName="/ppt/media/image11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30.jpeg" ContentType="image/jpeg"/>
  <Override PartName="/ppt/media/image32.jpeg" ContentType="image/jpeg"/>
  <Override PartName="/ppt/media/image5.gif" ContentType="image/gif"/>
  <Override PartName="/ppt/media/image33.jpeg" ContentType="image/jpeg"/>
  <Override PartName="/ppt/media/image34.jpeg" ContentType="image/jpeg"/>
  <Override PartName="/ppt/media/image15.gif" ContentType="image/gif"/>
  <Override PartName="/ppt/media/image12.jpeg" ContentType="image/jpeg"/>
  <Override PartName="/ppt/media/image37.jpeg" ContentType="image/jpeg"/>
  <Override PartName="/ppt/media/camera.wav" ContentType="audio/x-wav"/>
  <Override PartName="/ppt/media/image38.gif" ContentType="image/gif"/>
  <Override PartName="/ppt/media/image8.gif" ContentType="image/gif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22F-3747-4AE3-9266-EFD7CFF2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305-5B6B-4528-AF56-58DF867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C63-9B75-4541-A022-A142482F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2E9-57DB-4105-89E0-137D09AC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E64-3C03-4266-96CF-9A759AB3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DB2-3982-4310-AAFA-AD713BBB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A4B-3357-491D-991C-FD9F4596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8FF-E8FB-4727-B854-4E0BBDC0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E8F-EDC1-461F-A32C-792EDD74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E4D-95E5-494F-B684-BAD72AFB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ABD-5D7B-4D44-B5A4-FD566BC7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060-DFD7-48F4-8575-80824D4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B87A-96C1-4EBC-BFDF-82B6DCF9F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" Target="slide3.xml"/><Relationship Id="rId5" Type="http://schemas.openxmlformats.org/officeDocument/2006/relationships/image" Target="../media/image21.gif"/><Relationship Id="rId6" Type="http://schemas.openxmlformats.org/officeDocument/2006/relationships/slide" Target="slide3.xml"/><Relationship Id="rId7" Type="http://schemas.openxmlformats.org/officeDocument/2006/relationships/image" Target="../media/image21.gif"/><Relationship Id="rId8" Type="http://schemas.openxmlformats.org/officeDocument/2006/relationships/slide" Target="slide3.xml"/><Relationship Id="rId9" Type="http://schemas.openxmlformats.org/officeDocument/2006/relationships/image" Target="../media/image21.gif"/><Relationship Id="rId10" Type="http://schemas.openxmlformats.org/officeDocument/2006/relationships/slide" Target="slide3.xml"/><Relationship Id="rId11" Type="http://schemas.openxmlformats.org/officeDocument/2006/relationships/image" Target="../media/image21.gif"/><Relationship Id="rId12" Type="http://schemas.openxmlformats.org/officeDocument/2006/relationships/slide" Target="slide3.xml"/><Relationship Id="rId13" Type="http://schemas.openxmlformats.org/officeDocument/2006/relationships/image" Target="../media/image21.gif"/><Relationship Id="rId14" Type="http://schemas.openxmlformats.org/officeDocument/2006/relationships/slide" Target="slide3.xml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5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981000"/>
            <a:ext cx="6696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做个优秀的</a:t>
            </a:r>
            <a:r>
              <a:rPr b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班人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4005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二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24000" y="-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71136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95868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1459080" y="6535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2"/>
            <a:stretch/>
          </p:blipFill>
          <p:spPr>
            <a:xfrm>
              <a:off x="37018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44664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4"/>
            <a:stretch/>
          </p:blipFill>
          <p:spPr>
            <a:xfrm>
              <a:off x="319392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7"/>
            <a:stretch/>
          </p:blipFill>
          <p:spPr>
            <a:xfrm>
              <a:off x="2505240" y="6562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8"/>
            <a:stretch/>
          </p:blipFill>
          <p:spPr>
            <a:xfrm>
              <a:off x="3933720" y="6604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0"/>
            <a:stretch/>
          </p:blipFill>
          <p:spPr>
            <a:xfrm>
              <a:off x="4403880" y="66070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1"/>
            <a:stretch/>
          </p:blipFill>
          <p:spPr>
            <a:xfrm>
              <a:off x="416736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395280" y="54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昨日的习惯，已经造就了今日的我们；今日的习惯，决定明天的我们。好习惯，益终生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1640" y="1268280"/>
            <a:ext cx="770580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第二乐章：夯实基础，讲究方法</a:t>
            </a:r>
            <a:endParaRPr b="0" lang="en-US" sz="1800" spc="-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66168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0920" y="2637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51640" y="5877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4581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627280" y="57340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956720" y="2781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740720" y="46530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332000" y="476280"/>
            <a:ext cx="662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班级调查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3357720"/>
            <a:ext cx="78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觉得学习快乐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404640"/>
            <a:ext cx="83516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0ce3"/>
                </a:solidFill>
                <a:latin typeface="华文彩云"/>
                <a:ea typeface="华文彩云"/>
              </a:rPr>
              <a:t>       </a:t>
            </a:r>
            <a:r>
              <a:rPr b="1" lang="zh-CN" sz="2400" spc="-1" strike="noStrike">
                <a:solidFill>
                  <a:srgbClr val="f40ce3"/>
                </a:solidFill>
                <a:latin typeface="华文彩云"/>
                <a:ea typeface="华文彩云"/>
              </a:rPr>
              <a:t>一年春节前夕，清代书画家、文学家郑板桥去郊外办事，路过一家门前，看见门上贴着一副对联：</a:t>
            </a:r>
            <a:br>
              <a:rPr sz="2400"/>
            </a:br>
            <a:r>
              <a:rPr b="1" lang="zh-CN" sz="2400" spc="-1" strike="noStrike">
                <a:solidFill>
                  <a:srgbClr val="f40ce3"/>
                </a:solidFill>
                <a:latin typeface="华文彩云"/>
                <a:ea typeface="华文彩云"/>
              </a:rPr>
              <a:t>    </a:t>
            </a:r>
            <a:r>
              <a:rPr b="1" lang="zh-CN" sz="3200" spc="-1" strike="noStrike">
                <a:solidFill>
                  <a:srgbClr val="f40ce3"/>
                </a:solidFill>
                <a:latin typeface="黑体"/>
                <a:ea typeface="黑体"/>
              </a:rPr>
              <a:t>上联是：二三四五</a:t>
            </a:r>
            <a:br>
              <a:rPr sz="3200"/>
            </a:br>
            <a:r>
              <a:rPr b="1" lang="zh-CN" sz="3200" spc="-1" strike="noStrike">
                <a:solidFill>
                  <a:srgbClr val="f40ce3"/>
                </a:solidFill>
                <a:latin typeface="黑体"/>
                <a:ea typeface="黑体"/>
              </a:rPr>
              <a:t>   下联是：六七八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465300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2060640"/>
            <a:ext cx="5616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郑板桥读后，掉头就往自己家里跑。不一会儿，他扛来一袋粮食，还拿着几件衣服和一块肉，急匆匆地走进那户人家。只见屋里的人缺吃少穿，愁眉苦脸，送来的粮食、衣物正好救了他们的急，一家老小十分感激郑板桥。</a:t>
            </a:r>
            <a:br>
              <a:rPr sz="2800"/>
            </a:b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 奇怪的是，郑板桥和这家人素不相识，却从门前的对联里看出了这家人的贫困和急需。聪明的同学们，你知道是怎么回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791280" y="3680640"/>
            <a:ext cx="431964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Down">
              <a:avLst>
                <a:gd name="adj" fmla="val 15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0">
                  <a:solidFill>
                    <a:srgbClr val="ffff00"/>
                  </a:solidFill>
                  <a:custDash>
                    <a:ds d="100000" sp="1000"/>
                  </a:custDash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语文篇</a:t>
            </a:r>
            <a:endParaRPr b="0" lang="en-US" sz="1800" spc="1" strike="noStrike">
              <a:ln cap="rnd" w="0">
                <a:solidFill>
                  <a:srgbClr val="ffff00"/>
                </a:solidFill>
                <a:custDash>
                  <a:ds d="100000" sp="1000"/>
                </a:custDash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6936480" y="63381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衣（一）少食（十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55640" y="1268280"/>
            <a:ext cx="705816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文课上，小明想去厕所，对老师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y I go to W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o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坐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说：你不是想去厕所，怎么不去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说：您不是说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74960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11280" y="5373720"/>
            <a:ext cx="36003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8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宋体"/>
              </a:rPr>
              <a:t>英语篇</a:t>
            </a:r>
            <a:endParaRPr b="0" lang="en-US" sz="1800" spc="1" strike="noStrike">
              <a:ln cap="rnd"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052640"/>
            <a:ext cx="896472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0c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f40ce3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一天，乔治邮箱中看到这样一个标题：令人吃惊的足球比赛预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好奇地点开它，里边写着：亲爱的球迷，我们知道你是个怀疑论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凡事不会轻易相信，可我们确实已经设计出了绝对准确的预报足球比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果的奇妙方法。今天下午，对垒的是考文垂队和谢菲尔德联队，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预报 考文垂队将会取得胜利。 乔治没有当回事，但考文垂队果然势如破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赢了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三个星期后，乔治又收到了那个人的一封电子邮件：亲爱的球迷，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否还记得，在上一轮比赛中，我们曾事先准确 地预报了考文垂队获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今天考文垂队要和密德斯堡队交手了，我们的预测是，密德斯堡队获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果密德斯堡队真的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比分胜出。这回乔治有点惊讶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了几天，那个人的电子邮件又来了，预测密德斯堡队将在第五轮比赛中失利，特伦密尔队将会打败它，结果果然如此。而在四分之一决赛之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那封电子邮件又告诉乔治：特伦密尔队将老老 实实地输给陶顿亨队。事实果然如此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052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0ce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次预报，四次全都说中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着，那个人在电子邮件中对乔治说：我们买断了一个数学家最新的研究成果。现在你大概相信，我们能够料事如神。亲爱的球迷，你已经体验了我们神奇的足球预报，现在你信服了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 们已经做出了四次正确的预报，四发四中，你一定会同意它绝非运气。现在我们和你做一笔特殊的交易：在一个月的时间内，我们向你提供比赛预报，你只需支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镑的 定金。然后，发一封电子邮件，把参赛的两个队告诉我们，我们就会 将预报结果通知你。我们殷切地盼望收到你的订单。 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镑的要价确实不低，但如果事先能知道哪一个队会赢，就完全可 以从彩票商的手中赢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英镑。于是，乔治掏 出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镑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聪明的同学们，想想看，那个人为什么会屡猜屡中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5400000">
            <a:off x="5868720" y="1989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Down">
              <a:avLst>
                <a:gd name="adj" fmla="val 15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0">
                  <a:solidFill>
                    <a:srgbClr val="ffff00"/>
                  </a:solidFill>
                  <a:custDash>
                    <a:ds d="100000" sp="1000"/>
                  </a:custDash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数学篇</a:t>
            </a:r>
            <a:endParaRPr b="0" lang="en-US" sz="1800" spc="1" strike="noStrike">
              <a:ln cap="rnd" w="0">
                <a:solidFill>
                  <a:srgbClr val="ffff00"/>
                </a:solidFill>
                <a:custDash>
                  <a:ds d="100000" sp="1000"/>
                </a:custDash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620640"/>
            <a:ext cx="597708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0ce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开始，他们向球迷发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封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件，一半是预报甲队获胜，另一半是 预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队获胜，于是就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得到的预报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准确的，另一半人则会把 它当成一个笑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忘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下一次，他们只给得到“正确预报”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发送邮件，一半是预报丙方获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另一半是预报丁方获胜……依此类推，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谓的预测者总是给得到“正确预报”的一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人发送新邮件，最后，剩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收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报结果便全部是正确的，他们当然会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这个预报绝对灵验。其中假如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镑来，对于骗局的策划者来说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笔很可观的收入了。因为他们除了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电子邮件外，不需要任何本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234936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是什么？ 不是单纯的记忆问题，更大程度上是一种个人能力的提升，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个人慢慢优秀起来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0464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有些同学天天埋头苦读，考试成绩却不理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有些同学玩得尽兴，学习成绩却很拔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很重要的原因就是学习方法的正确与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高考中都有一些考得出色的同学堪称“高人”，他们的经验之谈闪烁着智慧的火花，特别是经过实践的检验证明了这些做法的合理性，可供我们借鉴。现选取其中几则，并结合学习心理学的研究，献给正在紧张学习的同学们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71640" y="1268280"/>
            <a:ext cx="770580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第一乐章：创设良好班风</a:t>
            </a:r>
            <a:endParaRPr b="0" lang="en-US" sz="1800" spc="-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404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1197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4762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六先六后”学习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341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1844640"/>
            <a:ext cx="7993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先计划后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先预习后听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先复习后做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四、先打好基础后灵活思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、先独立思考后请教别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六、先调整心态后参加考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404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33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复习五步曲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197000"/>
            <a:ext cx="712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地毯式扫荡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融会贯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三、知识的运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四、捡“渣子”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五、“翻饼烙饼” 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11280" y="1484280"/>
            <a:ext cx="7694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三乐章：相信自己，学习长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290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51280" y="189000"/>
            <a:ext cx="5040360" cy="1630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自我实现的预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你想成为什么样的人，你自己就会自觉不自觉的去证明你自己就是这样的人；你认为你是很有力量的，你就很有力量；你认为你是一个容易失败，被别人抛弃的人，你就会找很多的理由证明你是一个失败者。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4149720"/>
            <a:ext cx="85536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的英语单词真的记不住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333360"/>
            <a:ext cx="80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530064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美丽的风景不只是松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404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不仅要奈的住寂寞，还要奈的住喧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484360" y="1125360"/>
            <a:ext cx="53704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难题是这样攻破的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24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1197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这样也是度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 rot="5400000">
            <a:off x="-1603800" y="2594520"/>
            <a:ext cx="5041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身边的故事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133720" y="38088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华文彩云"/>
              </a:rPr>
              <a:t>这里有没有你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华文彩云"/>
              <a:ea typeface="华文彩云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1905120"/>
            <a:ext cx="449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歧视同学甚至戏弄同学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02800" y="2438280"/>
            <a:ext cx="36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不关心集体甚至做出损害集体荣誉的事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2720" y="1295280"/>
            <a:ext cx="36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333399"/>
                </a:solidFill>
                <a:latin typeface="Verdana"/>
                <a:ea typeface="幼圆"/>
              </a:rPr>
              <a:t>同学被老师表扬，不加以鼓励反而起哄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46720" y="2895480"/>
            <a:ext cx="385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课堂上故意大声回答问题，影响别人听课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4290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做练习、作业碰到难题时，不经思考就马上问同学，或干脆抄别人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3434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同学有不懂的问题请教你，不予理睬或干脆拿作业本让别人抄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07720" y="5211720"/>
            <a:ext cx="468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990000"/>
                </a:solidFill>
                <a:latin typeface="Verdana"/>
                <a:ea typeface="幼圆"/>
              </a:rPr>
              <a:t>上课听不懂时，干脆不听了，讲话、看课外书或睡觉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38840" y="5897520"/>
            <a:ext cx="26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被老师叫起来，一问三不知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0" y="1523880"/>
            <a:ext cx="365760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要改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奥运会里哪种类型的比赛项目的金牌通常被认为是”含金量”较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且受人关注的程度也较高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973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集体比赛项目。例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 rot="5400000">
            <a:off x="-1603800" y="2594520"/>
            <a:ext cx="5041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身边的故事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33720" y="38088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华文彩云"/>
              </a:rPr>
              <a:t>这里有没有你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华文彩云"/>
              <a:ea typeface="华文彩云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72428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336600"/>
                </a:solidFill>
                <a:latin typeface="Verdana"/>
                <a:ea typeface="幼圆"/>
              </a:rPr>
              <a:t>老师牺牲时间帮助你复习，你不但感激反而埋怨、不耐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447920"/>
            <a:ext cx="523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考砸了，就灰心丧气，不敢正视问题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9810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幼圆"/>
              </a:rPr>
              <a:t>明明是自己不努力，却总是找老师和父母的原因，就是不肯虚心接受批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7320" y="5562720"/>
            <a:ext cx="7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ff"/>
                </a:solidFill>
                <a:latin typeface="Verdana"/>
                <a:ea typeface="幼圆"/>
              </a:rPr>
              <a:t>肆意挥霍父母的血汗钱，一味追求物质享受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33526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80808"/>
                </a:solidFill>
                <a:latin typeface="Verdana"/>
                <a:ea typeface="幼圆"/>
              </a:rPr>
              <a:t>从不记得父母和老师给自己的爱，一旦师长疏忽，似乎全世界最可怜的人就是自己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6400" y="4191120"/>
            <a:ext cx="435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9900"/>
                </a:solidFill>
                <a:latin typeface="Verdana"/>
                <a:ea typeface="幼圆"/>
              </a:rPr>
              <a:t>浪费宝贵时间，来到学校只想着谈天说笑，混日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2240" y="2819520"/>
            <a:ext cx="62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参加竞选落选了，就觉得自己总不如别人、不思进取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8120" y="2057400"/>
            <a:ext cx="36576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要改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167652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勤奋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机智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爱心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勇敢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细致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谦和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韧劲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正直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28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我们班，如果以欣赏的眼光看人，每个同学都有自身的长处，让我们在欣赏别人的同时，交流所获得的积极而丰富的情感体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2117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83920" y="525780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强调全面发展，并且敢于创造，善于创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386064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相信“我们能行”，并努力争取达到“我们能行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26668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尊重别人，承认差异，看到别人的长处，认识到自己的缺点，客观评价自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41300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首先要消除歧视，学会尊重、互助、合作，共同进步，打好团结的基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0"/>
            <a:ext cx="2376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倡议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1417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级宣言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秩序井然，纪律严谨，积极进取，团结友爱， 乐于奉献。为创建进步和谐的高二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班而努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228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都在同一条船上，如果没有目标，任何风向都不是顺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14300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长风破浪应有时，直挂云帆济沧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5640" y="1700280"/>
            <a:ext cx="762012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尽我力为班添光彩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276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95280" y="260280"/>
            <a:ext cx="6705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希望</a:t>
            </a:r>
            <a:r>
              <a:rPr b="0" lang="en-US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4</a:t>
            </a:r>
            <a:r>
              <a:rPr b="0" lang="zh-CN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的全体同学</a:t>
            </a:r>
            <a:endParaRPr b="0" lang="en-US" sz="4800" spc="1" strike="noStrike">
              <a:ln w="540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105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44000" y="404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124000" y="1484280"/>
            <a:ext cx="6562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养成良好习惯，创建文明班风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92428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讨论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是班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班还存在哪些不良的班风现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如何杜绝这些不良班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良好的班风哪些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80360" y="4597560"/>
            <a:ext cx="1268280" cy="226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908840" y="5989680"/>
            <a:ext cx="12351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1280" cy="7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33360"/>
            <a:ext cx="7920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一个班的班风是关系到每一个同学的，因此我们要自觉维护班级体的荣誉。每一个人出自己的一份力，每一个人都不损害集体的利益，那班风便会得到改善，成为一个优秀的班级！记住下面一句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千人同心，则得千人力；万人异心，则无一人之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淮南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兵略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63664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cc"/>
                </a:solidFill>
                <a:latin typeface="Arial"/>
                <a:ea typeface="黑体"/>
              </a:rPr>
              <a:t>班风关键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56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设班集体需要大家同心同德，群策群力。“团结就是力量”，它可以培养我们的集体感，荣誉感和责任感。时刻以集体利益为重，以集体的荣誉为先，集中精力，全力以赴。“同心协力，则磐石之固，未可图也。”只要大家戮力齐心，班集体就会蒸蒸日上，在这种氛围下学习生活怎能不事半功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43280" y="1413000"/>
            <a:ext cx="244800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团结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学习须进取。严于律己，力争上游，赶超自我，便是进取。抓紧每秒时间，把我每次机会，凝聚每份热情，向困难挑战，向明天宣言。进取铸就辉煌。唯有进取，天下无难事；唯有进取，方能获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692280"/>
            <a:ext cx="266544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进取：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60640"/>
            <a:ext cx="88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论语》有云，“学而不思则罔。”思考会使我们走出困惑，迈向成功。在周密的思考过程中，我们提炼出了严谨的思维方法；在深入的思考过程中，激发了我们无尽的创新意识；在持续不断的思考过程中，我们更能体会到学习的无穷乐趣。思考使人思维敏捷，治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严谨；使人辨伪去妄，用存真知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0"/>
            <a:ext cx="185724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深思：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47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33Z</dcterms:modified>
  <cp:revision>23</cp:revision>
  <dc:subject>主题班会课件(分28大类): http://shop62905894.taobao.com</dc:subject>
  <dc:title>主题班会课件(分28大类): http://shop62905894.taobao.com</dc:title>
</cp:coreProperties>
</file>