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643-9087-4F00-985A-7E47C5EB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1E9-3408-46D8-A49D-D3EC1B0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14A-54C4-46F9-B391-83DB4607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AF8-2149-4FC8-A590-4FD08AD8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6D67-CA14-43A1-8429-52E80047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817-7F0F-4414-8DA8-0206DD72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45B-D910-4551-B740-5E70A552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9F12-BE59-4D31-88B9-EB08430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218-43B6-4CEC-9B5D-011F8FE2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A722-D3BC-46A0-8E31-67C8E55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F618-06A4-44D8-B615-5E3A0B10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04B-8E4B-4891-B5B6-2654E6D7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BEAE-7A96-419C-B875-A353456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D505-34F5-40CA-B9EF-5866DC2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E18-B40B-43CA-AB31-076AAE75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E180-957F-4554-9FF1-E124D28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0567-1162-483B-8E98-7C9F7EAC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308-8BA0-4D87-B13E-407AF42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49C-5827-46CC-93FA-520A1EA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E7B-9DF2-4FC1-B29F-0D15037F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622-5E95-41F0-BBCD-54A54C1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7C0-4781-46C4-A8F6-60E9C15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C7D-D11F-45A2-A005-97C1A66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192-FB62-471B-8DFE-B29C827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1F97-FE6C-4ED7-8BFB-996264A4A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2C2-8333-4513-9EED-DCE6AD1DA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1932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主题班会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2971800"/>
            <a:ext cx="708660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树文明形象</a:t>
            </a: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,</a:t>
            </a:r>
            <a:r>
              <a:rPr b="1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做文明深外人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105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1981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讲文明、懂礼貌、争做文明中学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应该怎么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53352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055"/>
                </a:solidFill>
                <a:latin typeface="Times New Roman"/>
              </a:rPr>
              <a:t>讲文明、懂礼貌、争做文明中学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14300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我国是有几千年文明史的文明古国，随着时代的进步，社会的不断发展，“文明”的含义也在起着变化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在当今精神文明迅速发展的时代，对于中学生来说，讲文明、懂礼貌，做一个文明的中学生，这是新时期对中学生的要求，也是学校教育的宗旨。“文明”就是综合素质的体现。一个文明中学生应该从培养以下五个习惯和六种品质做起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、行为习惯：通常所说一个人要站有站像、坐有坐像、走有走像，我们更要注意这三像的养成。同学之间要团结友爱，交谈用礼貌语言，校园里不应出现骂人声、口哨声；不应出现哄闹现象；更不应出现违纪甚至违法行为，如：打架吸烟擂肥等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、学习习惯：指对学习知识的一种态度。首先同学们要抓住课前的预习，课上专心听讲、抓住重点，课后及时巩固复习；其次就是独立按时完成作业。完成作业的目的是看自己对知识掌握的情况，交作业是老师了解自己所教的知识同学们掌握的如何。因此同学们作业的独立完成非常重要。还有就是要博览群书，从中获取课本中学学不到的知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6504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、生活习惯：包括起居、饮食、节俭、内务整理等。具体讲，要按时休息、按时起床；饮食上要养成良好的饮食习惯，不暴饮暴食，以保证身体健康。到食堂就餐不打冲锋，排队打饭不拥挤；对待吃穿用都要做到俭省节约。这是中华民族的传统美德；内务整理要养成习惯、形成能力，起床后立即整理床铺，值日生打扫寝室；对生活用品和学习用品的准备要充分，不要丢三拉四，养成良好的生活习惯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、健体习惯：俗话说：生命在于运动。但是不良的运动习惯是有害身体的，必须遵循科学的、符合人体生理机能的时间和规律，选择适合自己身体的体育锻炼。要树立终身体育的思想，积极参加有益的体育运动，养成良好的健体习惯。只有具备健康的体魄，才能拥有充沛的精力，使学习更加进步，生活更加丰富多采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六种品质是：守法、诚信、竞争、合作、智慧、顽强。这六种品质同学们都能理解。遵纪守法是公民的准则；诚实守信是人品高尚的体现；竞争是学习中的一种激励；合作是团结友爱的表征；智慧和顽强运用在学习上，就会在攻克知识难点中，有新的突破和令人满意的收获。</a:t>
            </a:r>
            <a:br>
              <a:rPr sz="2000"/>
            </a:br>
            <a:r>
              <a:rPr b="1" lang="zh-CN" sz="2000" spc="-1" strike="noStrike">
                <a:solidFill>
                  <a:srgbClr val="023055"/>
                </a:solidFill>
                <a:latin typeface="Times New Roman"/>
              </a:rPr>
              <a:t>同学们，在科学技术日益发展、竞争日益激烈的二十一世纪，我们每一个人都应存在忧患意识。首先要做一个身心健康的人，努力学习文化知识、掌握过硬的本领。我们提出的这五个习惯和六种品质，是人格健全的基本要素。希望每一位同学都能认真学习和领悟，逐步形成健康的人格，讲文明、懂礼貌、做一个合格的文明中学生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848720" y="51814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981080"/>
            <a:ext cx="7467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让我们做一位讲文明懂礼貌的中学生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828800" y="1447920"/>
            <a:ext cx="4876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什么是美？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6094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杜鹃说：“动听的歌声是最美的！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孔雀说：“漂亮的外衣是最美的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蔬菜说：“长得鲜嫩是最美的！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我说：“善良的心灵才是最美的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走在城市的天街小巷，一个个少男少女打扮得花枝招展，时髦浪漫，的确很美。假如你走进他们的行列，你不难发现，在这美丽之中，却存在着打架、偷窃，这时，你还会以为他们是美丽的吗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公交车上，一位穿得土里土气的农村姑娘，主动让位给一位白发苍苍的老奶奶，人们投去了赞扬的目光。这些目光，把这位农村姑娘衬托得美丽极了，她的善良，在每个人的心中埋下了美丽的种子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1600" y="106668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那么美是在哪里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520" y="32004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美在心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304920"/>
            <a:ext cx="7696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抗击“非典”的战争中，广州某医院的护士长不顾个人安危，冲在最前线，身心劳累没有打垮她的意志，但无情的病魔却侵入了她的体内。她倒下了，但她却使更多的病人站起来了。在她生病期间，她的心里装的只有“非典”患者，没有自己，她的事迹让所有人感动、鼓舞、振奋。她好美，这种美，是发自内心的美，是精神的美，是品质的美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现在，有太多的人看重于外表。他们赶潮流，讲时髦，吃要最好的，衣服要穿名牌，戴耳环、戴戒指、刻纹身、染头发……把人弄得面目全非。有的人甚至不惜牺牲大量钱财来整容。这种社会上看重外表美的现象还蔓延到学校里来了，导致中学生在穿着上互相攀比，在他们看来，外表是美丽的，一切就是美丽的。他们错了，而且大错特错。美丽的容颜经过岁月的磨砺终会慢慢褪去，它是短暂的。昙花虽然很美，但它一生只开一次，只不过是一时的佳话。相比之下，人们更喜爱傲雪独霜的梅花，不仅喜爱它的花朵，更喜爱它那顽强的生命力。人也是这样，只有品德高尚，他的美才会深深地烙印在人们的心中，才会流芳百世，否则，就如过眼烟云，挥之即去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其实，要想美丽并不难，只要你为自己的心灵“化妆”、“整容”，努力去做一个品德高尚的人，你就一定会变得美丽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95480" y="1905120"/>
            <a:ext cx="4876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什么是美？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809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880" y="762120"/>
            <a:ext cx="1155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家互相交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685800"/>
            <a:ext cx="5486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什么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牡丹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娇媚的生命透着丰满和富贵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玫瑰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孕育着爱情在浪漫中享受陶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429000"/>
            <a:ext cx="556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什么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浪花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奔腾向前流入大海永不反悔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星星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恪尽职守甘于寂寞也不流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609480"/>
            <a:ext cx="57909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什么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诵一首岳飞的《满江红》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精忠报国气吞山河的壮举让人敬佩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弹一曲曹操的《观沧海》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老骥伏枥壮心不已的气概让人愧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有人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听一听孔子对弟子们的教诲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看一看孙子运筹帷幄的坦然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想一想李白把酒狂歌的潇洒是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200400"/>
            <a:ext cx="327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更有人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长征路上的草根树皮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延安窑洞的灯光指引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西柏坡的曙光照耀更是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52480" y="533520"/>
            <a:ext cx="30481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什么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我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珍惜时间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把握现在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包容过去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笑对未来是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别人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饿了吃饭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困了睡觉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寂寞了诉说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困惑了有朋友是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819520"/>
            <a:ext cx="2971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可我要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孝敬父母传承美德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关爱幼小树立榜样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邻里和谐互助友爱是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播撒阳光快乐生活是美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83808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其实是内心的安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53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7:37Z</dcterms:modified>
  <cp:revision>14</cp:revision>
  <dc:subject>主题班会课件(分28大类): http://shop62905894.taobao.com</dc:subject>
  <dc:title>主题班会课件(分28大类): http://shop62905894.taobao.com</dc:title>
</cp:coreProperties>
</file>