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44F-4E54-445D-8B95-39FA7BB0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A87-1A61-498B-9995-BCD28B9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19D-712D-440F-931F-C7DE4EA0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475-EFEB-4B68-B683-F6F893CC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9E-FBD1-4D97-8A44-A56B2C5C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B28-A1E3-4D58-8ABA-E5F45A8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3F5-FAA0-4443-A470-1AF0CC9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622-21AE-4E4E-A649-3F003251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FA-2C03-4034-9FF0-1CFCB9C6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114-B428-426E-87F6-5462AA2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8D3-883E-4A77-B6B2-F8D4CE6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2DD-D8B6-4357-99EA-839881F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7D54-1143-4762-8BF6-34E7F7624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楷体"/>
              </a:rPr>
              <a:t>加强学风建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54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提升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37160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才出于勤奋——高尔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在勤，不索何获－－张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业精于勤而荒于嬉，行成于思而毁于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－韩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才就是无止境刻苦勤奋的能力 －－卡莱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明出于勤奋，天才在于积累 －－华罗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685800"/>
            <a:ext cx="77724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学而不勤问非真好学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山有路勤为径，学海无涯苦作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劳一日，可得一夜安眠；勤劳一生，可得幸福长 眠 －－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芬奇（意大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天才的决定因素应该是勤奋 －郭沫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19520" y="365760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天  道  酬  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67080" y="175248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总结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09320" y="30481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形成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“勤学、善学、乐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的良好学风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29528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标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219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143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286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回顾过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219320"/>
          <a:ext cx="7391160" cy="5209920"/>
        </p:xfrm>
        <a:graphic>
          <a:graphicData uri="http://schemas.openxmlformats.org/drawingml/2006/table">
            <a:tbl>
              <a:tblPr/>
              <a:tblGrid>
                <a:gridCol w="2011320"/>
                <a:gridCol w="2012760"/>
                <a:gridCol w="1662120"/>
                <a:gridCol w="170496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区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6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4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9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7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4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6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1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3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2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1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05320" y="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前十名同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914400"/>
          <a:ext cx="7543800" cy="5692680"/>
        </p:xfrm>
        <a:graphic>
          <a:graphicData uri="http://schemas.openxmlformats.org/drawingml/2006/table">
            <a:tbl>
              <a:tblPr/>
              <a:tblGrid>
                <a:gridCol w="3814560"/>
                <a:gridCol w="15145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区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朱晓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谭家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李锦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何淑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侯晓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粱俭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张琼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6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陈玉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黄燕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梁佩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8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班级“学风”方面存在的主要问题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286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１、班级学习环境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教室中午、课间和其他休息时间，学生喜欢吵闹，声音嘈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9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、学习习惯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早读无精神；晚修时间及清课，不能自主安排学习任务；课堂不发言，讲小话；学习有疑问，不是积极请教老师、同学，而是随便放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分析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2952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３、学习态度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上课不认真听讲，不做笔记；作业不按时完成，不独立完成；学习全凭兴趣，三天打鱼两天晒网，成绩波动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38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４、主动学习能力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自习时间无老师在与有老师在两个样；双休作业质量低；课余不能充分利用时间，一有空闲就谈天说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762120"/>
            <a:ext cx="853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５、学习心理素质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学习稍遇挫折就放弃，整天抱怨，怨天尤人；成绩下滑却不能及时调整情绪，或妒嫉他人，或烦躁不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429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６、进取意识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服从班级管理，不接受老师教育；学习无目标，整天无所事事；无文明习惯，经常到处游逛，违纪次数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59984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谈谈自己的学习目的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父母而学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分数学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混日子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自己的理想和前途而学；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明确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展望未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32240" y="1143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班级“学风”建设的建议和设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133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209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营造班级氛围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强化纪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3962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加强方法指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发挥骨干作用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20Z</dcterms:modified>
  <cp:revision>4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