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23.wmf" ContentType="image/x-wmf"/>
  <Override PartName="/ppt/media/image9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29.jpeg" ContentType="image/jpeg"/>
  <Override PartName="/ppt/media/image8.jpeg" ContentType="image/jpeg"/>
  <Override PartName="/ppt/media/image30.png" ContentType="image/png"/>
  <Override PartName="/ppt/media/image31.png" ContentType="image/png"/>
  <Override PartName="/ppt/media/image11.gif" ContentType="image/gif"/>
  <Override PartName="/ppt/media/image10.jpeg" ContentType="image/jpeg"/>
  <Override PartName="/ppt/media/image14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pptx" ContentType="application/vnd.openxmlformats-officedocument.presentationml.presentation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2BA5-EC05-40DF-821F-B6F35360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B09C-8F50-4A34-B61B-5B663EB5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DB34-9A2B-4295-BF0C-3A455ECC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EA68-8728-4BC9-B415-81B1B682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6CE0-EC9B-486E-9DA2-000D2E16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F9A8-D909-4844-B006-201FF1A8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A179-2C47-4166-BD8B-E67C960E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3933-4A97-4486-BED7-CE7FA89B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6BF1-B426-4491-AD3C-BB909EB9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FBEE-C823-43FA-8BE7-E8070829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AF3A-7CCA-4504-92B4-903EE894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C195-1D25-4817-AE3C-A9AB57F5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1950-7CFD-4434-ACF1-E24AE06B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A94A-9B02-4263-8CC3-FB2163B4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B155-092F-4BF5-A550-D9B55340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39FE-624A-450D-A9AB-29F37769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EDF2-92D2-4838-9908-41C4D2357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7D00-B4FC-4973-B8B5-D1A0B426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7E02-99A7-45C6-8840-79821B8D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DF79-EE8D-446E-ABA8-F8AEACA9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B239-8CBF-4B7D-A61A-D36314FE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2E7E-16DD-4A48-8EBC-27716802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E003-2814-47C2-9A7F-C38FB90E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507F-0015-426A-B602-56493473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15F7-C0DA-4E2F-B963-338F2A420B99}" type="slidenum">
              <a:rPr b="0" lang="zh-CN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05D8-FA68-41A7-A21B-7F9D6AC09107}" type="slidenum">
              <a:rPr b="0" lang="zh-CN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cc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package" Target="../embeddings/oleObject1.pptx"/><Relationship Id="rId4" Type="http://schemas.openxmlformats.org/officeDocument/2006/relationships/image" Target="../media/image23.wmf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hyperlink" Target="http://www.3lian.com/img2009/03/15/00002570.jpg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img.china.alibaba.com/club/upload/2005/6/6/650x400_07ee451a0.jpg" TargetMode="External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1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0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31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32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3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4.png"/><Relationship Id="rId1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494172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7200" spc="-1" strike="noStrike">
              <a:solidFill>
                <a:srgbClr val="ffffff"/>
              </a:solidFill>
              <a:latin typeface="Arial"/>
              <a:ea typeface="方正姚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476360" y="2133720"/>
            <a:ext cx="6551640" cy="18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礼仪展风采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816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66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1680" y="404640"/>
            <a:ext cx="85406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思考：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第一种说法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礼仪是一面镜子，照出你的修养，帮助你与他人和睦相处。人际交往，离不开礼仪；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第二种说法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礼仪是客套，我们只要好心好意待人就行了，不用讲什么礼仪。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（小结）礼仪并不是一种客套，它标志着一个人的文明程度。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、礼仪有特定的要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活动二：小茅经常“扮酷”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P84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、小茅的行为是否符合礼仪的要求？为什么？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活动三：讨论案例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125000"/>
            <a:ext cx="8540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《女大学生求职》：有一个女大学生去求职，因她条件不错，公司的人事主管表示可以录用。这个女大学生一时兴奋，吃了一块口香糖，顺手将纸皮扔到了桌上，结果她没被录用。听到这话，女大学生哭了，顺手又将擦泪的纸巾扔到了地板上，主管将其捡起放回纸篓。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①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这个女大学生的行为有什么不妥？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②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你怎么看待主管的选择？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③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女大学生的行为和求职失败给你什么启示？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（小结）</a:t>
            </a:r>
            <a:r>
              <a:rPr b="0" lang="zh-CN" sz="2400" spc="-1" strike="noStrike" u="sng">
                <a:solidFill>
                  <a:srgbClr val="ffff66"/>
                </a:solidFill>
                <a:uFillTx/>
                <a:latin typeface="Arial"/>
              </a:rPr>
              <a:t>在待人接物中注意遵循礼仪，会使我们变得优雅可亲，会给人留下美好的印象，更容易被人接纳，也有利于办成事情。如果我们不讲礼仪就可能伤害别人，也使自己难堪，甚至无法适应社会。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1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6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3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6" dur="3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372600" cy="7234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8600" y="2133720"/>
            <a:ext cx="891540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我们来说，基本的礼仪应该是怎样的？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838080" y="5334120"/>
            <a:ext cx="7772400" cy="457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304920" y="228600"/>
            <a:ext cx="3124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思维碰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4920" y="404640"/>
            <a:ext cx="91440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⒈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参加升国旗仪式应注意什么？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参加升国旗仪式，衣着整洁，脱帽肃立，行队礼或注目礼；唱国歌严肃、声音宏亮。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⒉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学生穿着打扮应注意什么？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学生穿着打扮要朴素大方、整洁、美观，不穿奇装异服。仪容朴素健美，男同学不留长发，非特殊情况不在校内穿无领背心，不打赤脚，禁止敞胸露怀；女同学不烫发，不留披肩发，不化妆，不佩戴不相宜的饰物。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⒊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遇到外宾应怎样做？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遇到外宾以礼相待，不卑不亢，不围观，不尾随，不做有损国格人格的事。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⒋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当你向别人借东西时，需要注意哪些礼节？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礼貌语言不能少。不要忘了“请”“麻烦”等词，归还东西时，不要忘了“谢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谢”；要先征得别人的同意；借别人一定要按时归还；对别人东西要特别爱惜，做到完璧归赵。假若不小心搞坏了借来的东西，一定要主动照价赔偿，并说明情况，表示歉意。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⒌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父母不在家时，有客人来访，你应该怎样做？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当家中长辈不在家时，我们应该负起小主人的责任，把熟悉的客人迎进门，倒茶招待；对陌生的客人，可隔着门缝告知家长外出，请改日来访。假如父母一时回不来而客人有急事要走时，可以问客人有什么事需要转告，或请他们留下字条，如方便也可电话询问父母。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⒍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试着描述一下送客时有哪些礼仪。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当客人要走时，通常要婉言相留，表示希望其再多坐一会儿，或恳请其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下次再来。但不能大喊大叫，硬拉着不让走，那样反而显得粗暴无礼。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客人提出告辞，应等客人起身后，主人再起身相送；送客时要送到门口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并说：“再见，欢迎再来。”并不要急于关门。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⒎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接通你要拨的电话以后，应该注意什么？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先问候一声再报出要找的人；通话时声音要清晰，语气要讲礼貌；还要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注意谈话时间不可过长，以免影响他人通话。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⒏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做客时，在坐姿上有什么要注意的礼节？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入座时，动作要轻稳，不可猛地一下子坐下，发出响声。入座后，手可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平放在沙发或沙发的扶手上，上身稍微向前倾，以示对主人的尊敬。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（小结）掌握文明健康的社交礼仪是适应现代社会不可缺少的条件。我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们要掌握这些基本要求，并在交往中加以运用。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、讲究礼仪的意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活动四：比一比、评一评、做一做。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请同学自愿上台来表演，每个人表演一种。请同学们评选出最符合礼仪要求的表演。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4038480" y="1828800"/>
          <a:ext cx="1219320" cy="340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1828800"/>
                    <a:ext cx="1219320" cy="34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863640" y="2133720"/>
          <a:ext cx="1901880" cy="302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3640" y="2133720"/>
                    <a:ext cx="190188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7020000" y="1773360"/>
          <a:ext cx="1328760" cy="333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20000" y="1773360"/>
                    <a:ext cx="132876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295280" y="60958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正确的站姿、坐姿和行走姿态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228600"/>
            <a:ext cx="3504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3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真 我 风 采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（二）社交礼仪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AB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活动五：见面的礼仪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请同学们互相交流古今中外有关见面礼仪的资料。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3989160" cy="5591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659480" y="404640"/>
            <a:ext cx="3881160" cy="5545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一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因礼仪而优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8540640" cy="33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活动一：天安门广场的升旗仪式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66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619280" y="765000"/>
            <a:ext cx="5905440" cy="5169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95280" y="692280"/>
          <a:ext cx="8353440" cy="5519520"/>
        </p:xfrm>
        <a:graphic>
          <a:graphicData uri="http://schemas.openxmlformats.org/drawingml/2006/table">
            <a:tbl>
              <a:tblPr/>
              <a:tblGrid>
                <a:gridCol w="5904000"/>
                <a:gridCol w="1297080"/>
                <a:gridCol w="1152360"/>
              </a:tblGrid>
              <a:tr h="71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应说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应做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当你见到一个许久未见的朋友时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当你家里有客人来时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55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当你参加学校的开学典礼时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当你和朋友一起吃饭，中途有事要先走时</a:t>
                      </a:r>
                      <a:r>
                        <a:rPr b="0" lang="zh-CN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当你到老师办公室或见到老师时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当有领导双手给你颁发证书时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当你不小心把饮料溅到他人身上时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当外国朋友送你礼物时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当你接到一个陌生人的电话时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 txBox="1"/>
          <p:nvPr/>
        </p:nvSpPr>
        <p:spPr>
          <a:xfrm>
            <a:off x="1547640" y="692280"/>
            <a:ext cx="3240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情境课堂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28600" y="304920"/>
            <a:ext cx="3505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3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 来 当 家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121932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一、交流：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 在家庭中的礼仪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32" name="050317010acn_2" descr=""/>
          <p:cNvPicPr/>
          <p:nvPr/>
        </p:nvPicPr>
        <p:blipFill>
          <a:blip r:embed="rId2"/>
          <a:stretch/>
        </p:blipFill>
        <p:spPr>
          <a:xfrm>
            <a:off x="533520" y="3352680"/>
            <a:ext cx="3352680" cy="2819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692360" y="5734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长寿面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643280" y="3284640"/>
            <a:ext cx="38862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58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438280" y="9907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做客的礼仪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38098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二、表演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小品《家中来了客人》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4800600"/>
            <a:ext cx="7086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假如你家来了客人，而父母又不在家，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会如何接待客人？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990720"/>
            <a:ext cx="426708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到别人家做过客吗？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1600200"/>
            <a:ext cx="419112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客时要注意什么？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28600" y="0"/>
            <a:ext cx="3505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1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 来 当 家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、了解传统习俗中的礼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）中华民族的主要传统习俗。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372600" cy="72342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611280" y="333360"/>
            <a:ext cx="4114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擂 台 比 武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46" name="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084720" y="2492280"/>
          <a:ext cx="2819520" cy="243864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2492280"/>
                    <a:ext cx="281952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1647360" y="242100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春节：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4114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71640" y="155736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一、这是什么节日？有哪些礼仪习俗？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826920" y="4149720"/>
            <a:ext cx="396108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-380880" y="-304920"/>
            <a:ext cx="9524880" cy="7620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228600"/>
            <a:ext cx="3733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47973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中秋节：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51240" y="1949400"/>
            <a:ext cx="607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2590920"/>
            <a:ext cx="6875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5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3887640"/>
            <a:ext cx="4176720" cy="2970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347840" y="98100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端午节：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61" name="" descr="Click to full view 812416_1087292094250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27640" y="0"/>
            <a:ext cx="410508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859280" y="404280"/>
            <a:ext cx="4284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中华民族有一个特别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的习俗，即一定要选择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最好吃的美味在春节合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家欢聚之时享用。又逢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新岁，大连香格里拉大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饭店的宴会厅和“香宫”中餐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厅为春节合家聚餐和亲朋派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对准备了丰盛的节日宴会套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餐，包括“富贵迎春宴”、“全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家福禄宴”和“如意吉祥宴”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等，每桌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1288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元至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8888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不等，包括特选中式宴会套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餐、免费使用多功能厅、赠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送红酒和惊喜礼品等。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96072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50920" y="5589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宋体"/>
              </a:rPr>
              <a:t>2003</a:t>
            </a:r>
            <a:r>
              <a:rPr b="0" lang="zh-CN" sz="2800" spc="-1" strike="noStrike">
                <a:solidFill>
                  <a:srgbClr val="ffff66"/>
                </a:solidFill>
                <a:latin typeface="宋体"/>
              </a:rPr>
              <a:t>年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天价月饼现身京城：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“黄金大月饼”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，售价是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9999.99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元。而一块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100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克的月饼，成本还不足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2.5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元。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835280" y="404640"/>
            <a:ext cx="525600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我们应该如何科学的对待传统的礼仪习俗？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（小结）我们应以科学的态度对待传统礼仪习俗，继承其精华、剔除其糟粕，把传统礼仪与现代社会的要求结合起来，做到与时俱进。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4360" y="476280"/>
            <a:ext cx="388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共同探讨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7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58920" y="907920"/>
            <a:ext cx="6692760" cy="492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11280" y="3500280"/>
            <a:ext cx="889308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华文新魏"/>
                <a:ea typeface="华文新魏"/>
              </a:rPr>
              <a:t>      </a:t>
            </a:r>
            <a:r>
              <a:rPr b="0" lang="zh-CN" sz="6000" spc="-1" strike="noStrike">
                <a:solidFill>
                  <a:srgbClr val="3366cc"/>
                </a:solidFill>
                <a:latin typeface="华文新魏"/>
                <a:ea typeface="华文新魏"/>
              </a:rPr>
              <a:t>民族礼仪知多少？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09480" y="1219320"/>
            <a:ext cx="3353040" cy="100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课后探究</a:t>
            </a:r>
            <a:endParaRPr b="0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"/>
          <p:cNvGraphicFramePr/>
          <p:nvPr/>
        </p:nvGraphicFramePr>
        <p:xfrm>
          <a:off x="395280" y="692280"/>
          <a:ext cx="1224000" cy="2447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5280" y="692280"/>
                    <a:ext cx="1224000" cy="24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908000" y="620640"/>
          <a:ext cx="1440000" cy="2514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08000" y="620640"/>
                    <a:ext cx="14400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3708360" y="620640"/>
          <a:ext cx="1440000" cy="2514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08360" y="620640"/>
                    <a:ext cx="14400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5435640" y="620640"/>
          <a:ext cx="1440000" cy="2448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435640" y="620640"/>
                    <a:ext cx="144000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7236000" y="620640"/>
          <a:ext cx="1584000" cy="2448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236000" y="620640"/>
                    <a:ext cx="158400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4581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十里不同风，百里不同俗”。民族不同，礼仪也就会不同。请以小组为单位，通过上网、查阅相关书籍等途径，了解不同民族的礼仪，编制一份礼仪小报。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500"/>
                            </p:stCondLst>
                            <p:childTnLst>
                              <p:par>
                                <p:cTn id="4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-324000" y="1599840"/>
            <a:ext cx="9468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                                            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礼仪有特定要求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                       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因礼仪而优雅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                                                    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讲究礼仪的意义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礼仪展风采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                                                    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掌握基本的交往礼仪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                       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社交礼仪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ABC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                                                    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了解传统习俗中的礼仪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79640" y="1052640"/>
            <a:ext cx="503280" cy="4464000"/>
          </a:xfrm>
          <a:custGeom>
            <a:avLst/>
            <a:gdLst>
              <a:gd name="textAreaLeft" fmla="*/ 321480 w 503280"/>
              <a:gd name="textAreaRight" fmla="*/ 503640 w 503280"/>
              <a:gd name="textAreaTop" fmla="*/ 116280 h 4464000"/>
              <a:gd name="textAreaBottom" fmla="*/ 4347720 h 44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8000" y="1484280"/>
            <a:ext cx="288720" cy="1800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16360" y="3645000"/>
            <a:ext cx="289080" cy="1800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-228600" y="-533520"/>
            <a:ext cx="9372600" cy="72342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52280" y="20574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0"/>
            <a:ext cx="3886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明礼践行</a:t>
            </a:r>
            <a:endParaRPr b="1" lang="en-US" sz="4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628640"/>
            <a:ext cx="8229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本节课你最大的收获是什么？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反思自己在日常生活中的言行举止，如语言、态度、动作等有什么需要改进的地方，把它写在纸上。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把自己的不文明言行投进垃圾箱，争做文明学生。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411280" y="2276640"/>
            <a:ext cx="36734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幼圆"/>
              </a:rPr>
              <a:t>再见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116000" y="907920"/>
            <a:ext cx="7131240" cy="50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403280" y="1052640"/>
            <a:ext cx="6694560" cy="48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58920" y="907920"/>
            <a:ext cx="6905520" cy="504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042920" y="907920"/>
            <a:ext cx="706284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258920" y="1052640"/>
            <a:ext cx="6918120" cy="47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8540640" cy="33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活动一：天安门广场的升旗仪式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、你能说一说天安门广场升旗仪式的整个过程吗？你印象最深的是什么？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、在学校活动中，哪些礼仪最能体现我们的风采？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05:10:0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48:34Z</dcterms:modified>
  <cp:revision>45</cp:revision>
  <dc:subject>主题班会课件(分28大类): http://shop62905894.taobao.com</dc:subject>
  <dc:title>主题班会课件(分28大类): http://shop62905894.taobao.com</dc:title>
</cp:coreProperties>
</file>