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E33-8A0E-4290-8844-EEBAC3B6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D43-E042-4737-B205-EB15A2ED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8B6-75D9-4C4E-8BB4-D50BDDE6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A90-6D1D-43CE-9424-E03AB59E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9E4-7723-4298-9B50-AC852895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09E-A4AD-4F0F-BA12-348B70E3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1E5-9E5D-401C-8A8D-B488BF62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19C-D4F8-4AF7-B44D-56A88943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763-176F-41E1-9504-2C05CF4A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4D7-2788-4050-A490-6A497AB9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C5F-FBBA-4D04-9456-9B104D26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8AC-6863-4822-9293-D981A3A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EA72-C361-4C5F-A03A-316453D8C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Administrator/Local%20Settings/Temp/Rar$DI00.672/&#22269;&#24198;&#33410;&#22825;&#23433;&#38376;&#21319;&#26071;&#20202;&#24335;.avi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1484280"/>
            <a:ext cx="15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讲文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2760" y="2421000"/>
            <a:ext cx="173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知礼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95640" y="335772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创和谐校园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72280" y="4340160"/>
            <a:ext cx="20448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题班会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3400" y="1341360"/>
            <a:ext cx="10335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中学生“十个文明形象”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02880" y="765720"/>
            <a:ext cx="45468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升降国旗，奏唱国歌时肃立行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6520" y="488520"/>
            <a:ext cx="454680" cy="63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与人相处，语言文明，友善宽容，明礼诚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50160" y="480600"/>
            <a:ext cx="454680" cy="63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共场合，轻声交谈，举止文雅，着装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5440" y="694080"/>
            <a:ext cx="45468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孝敬父母，尊敬师长，乐于助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9080" y="480600"/>
            <a:ext cx="454680" cy="63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乘车购物，不拥不挤，座位让给有困难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4520" y="822240"/>
            <a:ext cx="45468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行车走路，遵守交通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8160" y="437760"/>
            <a:ext cx="45468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护环境，垃圾废物不乱扔，绿地草坪不践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1800" y="439560"/>
            <a:ext cx="454680" cy="66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爱护公用设施，节约公用资源，遵守公共秩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5800" y="1341360"/>
            <a:ext cx="4546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社会交往热情、友好、大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7800" y="3250080"/>
            <a:ext cx="454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情趣健康，远离不利于身心健康的场所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28640" y="1955160"/>
            <a:ext cx="3228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做一个讲文明，知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的中学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以小我铸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大我，共同构建我们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和谐校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2811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76360" y="5013360"/>
            <a:ext cx="26114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升旗仪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620640"/>
            <a:ext cx="59770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124000" y="2349360"/>
            <a:ext cx="446724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再见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3218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392720" cy="321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3770280"/>
            <a:ext cx="4211640" cy="3043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753080" y="3789360"/>
            <a:ext cx="4356000" cy="3024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0920" y="326556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这样的脚印并不好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0920" y="3357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328464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这不是展示雕刻技艺的地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6160" y="4175280"/>
            <a:ext cx="79020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水在滴，资源正流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356000" y="40766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1890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6160" y="333360"/>
            <a:ext cx="790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举手之劳，校园可以更美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100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068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16360" y="3716280"/>
            <a:ext cx="4248360" cy="3111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4140360" cy="3168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01280" y="3176640"/>
            <a:ext cx="16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文化长廊”需要呵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47628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0880" y="72720"/>
            <a:ext cx="48528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墙壁涂鸦，这不是艺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3789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12120" y="3933720"/>
            <a:ext cx="790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角落的那个柜子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79880" cy="5445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08360" y="0"/>
            <a:ext cx="4535640" cy="5445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22400" y="5630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为我们提供安全保障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消防栓受到的“礼遇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28800" y="563076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这不是画纸，也不是枪靶，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守卫教室的那扇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8172360" y="6381720"/>
            <a:ext cx="647640" cy="333360"/>
          </a:xfrm>
          <a:prstGeom prst="rightArrow">
            <a:avLst>
              <a:gd name="adj1" fmla="val 50000"/>
              <a:gd name="adj2" fmla="val 48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095560" y="2205000"/>
            <a:ext cx="478152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留给生活一朵微笑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815040" y="6602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诗朗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01520" y="465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15678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小品欣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6560" y="4724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演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56000" y="2781360"/>
            <a:ext cx="424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校园文明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20200" y="1413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揪出校园不文明行为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6960" y="2636640"/>
            <a:ext cx="487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小组讨论并列举身边的不文明行为，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竞答，并记录积分（每找出一种，记一分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808200" y="4311720"/>
            <a:ext cx="2179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现场直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70480" y="692316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10600" y="1493280"/>
            <a:ext cx="50241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障碍游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游戏规则：四个小组，每组二人，依次进行。其中一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布蒙住眼睛，扮演盲人，另一人扮演哑巴，“哑巴”作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拐杖扶“盲人”在教室内按指定路线行走，两人均不准出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班上其他同学将不动声色地在他们行进的过程中设置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哑巴”用身体语言引导“盲人”通过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280" y="805680"/>
            <a:ext cx="42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文明人”自测：你是一个文明的人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482840"/>
            <a:ext cx="65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升国旗时，你能肃立，行注目礼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981080" y="2430720"/>
            <a:ext cx="82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平时说脏话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说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少说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说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397320"/>
            <a:ext cx="63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路上见到老师，你会主动上前问好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2609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有过破坏公物、乱扔粉笔的行为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过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6560" y="5104080"/>
            <a:ext cx="62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和同学友好相处、并互相帮助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的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少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39800" y="1152720"/>
            <a:ext cx="620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会乱扔垃圾吗？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尔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216072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看见校园有垃圾，你会捡起来并扔进垃圾桶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41054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按时独立完成作业，不抄袭别人作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09744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够做到上课认真听讲，不讲话做小动作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　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042160"/>
            <a:ext cx="74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参加各种集会能准时到达，安静听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44160" y="1818360"/>
            <a:ext cx="64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：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265500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你是个讲文明，懂礼貌的人。举止言谈文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老师、父母、同学相处融洽，人际关系好，是个受欢迎的人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357228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一般情况下，你是个文明的人，但有时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没有认真对待一些事情，特别是一些小事，人际关系一般，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比较受欢迎的人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4671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4—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许多情况下，你是个不文明的人，人际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定很差，是个不受欢迎的人。要注意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1280" y="6332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猜谜大比拼（礼貌用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26120" y="1411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双胞胎赖被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56680" y="141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对不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67800" y="19879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叶落花也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95480" y="1987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谢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8200" y="2635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可奈何花落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6370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感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04440" y="3306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愿花常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56680" y="328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不用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7800" y="386064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辛苦了司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95480" y="387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劳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4364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54320" y="486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人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35080" y="5485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次会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37600" y="438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不要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16280" y="4960800"/>
            <a:ext cx="12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对不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5320" y="560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4480" y="6061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行为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65320" y="611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走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3:07:0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0-10-03T05:08:49Z</dcterms:modified>
  <cp:revision>14</cp:revision>
  <dc:subject>主题班会课件(分28大类): http://shop62905894.taobao.com</dc:subject>
  <dc:title>主题班会课件(分28大类): http://shop62905894.taobao.com</dc:title>
</cp:coreProperties>
</file>