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698F-2F78-41A2-A67E-B3A445DA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187B-FD5B-4083-B79A-78F60E7B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3489-BCAD-4942-954B-83FE5C0E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5343-801B-45DA-A61B-63E30155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7D2B-2779-496F-AA6F-3B8F11FB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F465-8C31-4AC5-A627-9BE3C978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0F22-58FB-4561-BF64-E45FDA2C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86EF-E80A-4DFE-921B-5CDDE601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6DE1-ECCB-4E3E-86DC-C57D37D4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302-5EC1-4A57-B345-C730B087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72C2-3EB0-4480-AFE2-5B2D000F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0F0C-AA4D-4613-897E-DF460998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C0F8-8197-4360-88FA-AAE931BAA4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762120"/>
            <a:ext cx="7620120" cy="30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距离高考</a:t>
            </a: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100</a:t>
            </a:r>
            <a:r>
              <a:rPr b="0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天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51200" y="5943600"/>
            <a:ext cx="4492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47920" y="398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有一种苦，没有经历过，怎知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158840"/>
            <a:ext cx="570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它原来是生活中的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60360" y="187308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有一份雄心壮志，没有坚持奋斗，</a:t>
            </a: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53044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怎能体会到其中的纯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36640" y="3276720"/>
            <a:ext cx="66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有一种成功，只有我们拥有了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4880" y="3886200"/>
            <a:ext cx="48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才能拥有另一种喜悦。</a:t>
            </a: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495680"/>
            <a:ext cx="710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太阳一旦冲破重重乌云，其光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势不可挡。你一旦全心投入学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当中，你的进步同样势不可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3880" y="50148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为了理想，为了未来，为了梦里</a:t>
            </a: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85240" y="1263600"/>
            <a:ext cx="7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的呓语，为了醉人的大学，为了。。</a:t>
            </a:r>
            <a:r>
              <a:rPr b="0" lang="en-US" sz="3600" spc="-1" strike="noStrike">
                <a:solidFill>
                  <a:srgbClr val="f70f0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440" y="184644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让我们风雨同舟</a:t>
            </a:r>
            <a:r>
              <a:rPr b="0" lang="zh-CN" sz="2400" spc="-1" strike="noStrike">
                <a:solidFill>
                  <a:srgbClr val="f70f09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f70f0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31720" y="24541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让我们珍惜拥有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31240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努力奋斗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304920" y="0"/>
            <a:ext cx="8838720" cy="4952520"/>
            <a:chOff x="304920" y="0"/>
            <a:chExt cx="8838720" cy="4952520"/>
          </a:xfrm>
        </p:grpSpPr>
        <p:sp>
          <p:nvSpPr>
            <p:cNvPr id="104" name=""/>
            <p:cNvSpPr/>
            <p:nvPr/>
          </p:nvSpPr>
          <p:spPr>
            <a:xfrm>
              <a:off x="304920" y="0"/>
              <a:ext cx="8838720" cy="495252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4920" y="0"/>
              <a:ext cx="8838720" cy="495252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70f09"/>
                  </a:solidFill>
                  <a:latin typeface="Arial"/>
                </a:rPr>
                <a:t>把握每个瞬间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这样走过风风雨雨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多少沉浮记得清清楚楚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三九严冬烈日酷暑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无怨无悔同舟共渡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这样走过万里千里，汗水泪水化作无穷动力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一起努力向目标冲击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一步一步走向胜利</a:t>
              </a:r>
              <a:br>
                <a:rPr sz="2800"/>
              </a:br>
              <a:br>
                <a:rPr sz="2800"/>
              </a:br>
              <a:r>
                <a:rPr b="0" lang="zh-CN" sz="2800" spc="-1" strike="noStrike">
                  <a:solidFill>
                    <a:srgbClr val="e10900"/>
                  </a:solidFill>
                  <a:latin typeface="Arial"/>
                </a:rPr>
                <a:t>把握每个瞬间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让梦想在一分一秒中慢慢实现</a:t>
              </a:r>
              <a:br>
                <a:rPr sz="2800"/>
              </a:br>
              <a:r>
                <a:rPr b="0" lang="zh-CN" sz="2800" spc="-1" strike="noStrike">
                  <a:solidFill>
                    <a:srgbClr val="e10900"/>
                  </a:solidFill>
                  <a:latin typeface="Arial"/>
                </a:rPr>
                <a:t>把握每个瞬间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韧劲不怕磨练经得起考验</a:t>
              </a:r>
              <a:br>
                <a:rPr sz="2800"/>
              </a:br>
              <a:r>
                <a:rPr b="0" lang="zh-CN" sz="2800" spc="-1" strike="noStrike">
                  <a:solidFill>
                    <a:srgbClr val="e10900"/>
                  </a:solidFill>
                  <a:latin typeface="Arial"/>
                </a:rPr>
                <a:t>把握每个瞬间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肝胆相照我们手足相连</a:t>
              </a:r>
              <a:br>
                <a:rPr sz="2800"/>
              </a:br>
              <a:r>
                <a:rPr b="0" lang="zh-CN" sz="2800" spc="-1" strike="noStrike">
                  <a:solidFill>
                    <a:srgbClr val="e10900"/>
                  </a:solidFill>
                  <a:latin typeface="Arial"/>
                </a:rPr>
                <a:t>把握每个瞬间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惊涛骇浪中我们奋勇争先</a:t>
              </a:r>
              <a:br>
                <a:rPr sz="2800"/>
              </a:b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32440" y="0"/>
            <a:ext cx="2311560" cy="2362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32440" y="4495680"/>
            <a:ext cx="2311560" cy="2362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304920"/>
            <a:ext cx="8035920" cy="64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31f7"/>
                </a:solidFill>
                <a:latin typeface="Times New Roman"/>
              </a:rPr>
              <a:t>在最后的</a:t>
            </a:r>
            <a:r>
              <a:rPr b="1" lang="zh-CN" sz="3600" spc="-1" strike="noStrike">
                <a:solidFill>
                  <a:srgbClr val="0931f7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0931f7"/>
                </a:solidFill>
                <a:latin typeface="Times New Roman"/>
              </a:rPr>
              <a:t>天里，我庄严承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0f09"/>
                </a:solidFill>
                <a:latin typeface="楷体_GB2312"/>
                <a:ea typeface="楷体_GB2312"/>
              </a:rPr>
              <a:t>挑战人生是我无悔的选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0f09"/>
                </a:solidFill>
                <a:latin typeface="楷体_GB2312"/>
                <a:ea typeface="楷体_GB2312"/>
              </a:rPr>
              <a:t>决战高考是我不懈的追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0f09"/>
                </a:solidFill>
                <a:latin typeface="楷体_GB2312"/>
                <a:ea typeface="楷体_GB2312"/>
              </a:rPr>
              <a:t>拼搏</a:t>
            </a:r>
            <a:r>
              <a:rPr b="1" lang="zh-CN" sz="4400" spc="-1" strike="noStrike">
                <a:solidFill>
                  <a:srgbClr val="f70f09"/>
                </a:solidFill>
                <a:latin typeface="楷体_GB2312"/>
                <a:ea typeface="楷体_GB2312"/>
              </a:rPr>
              <a:t>100</a:t>
            </a:r>
            <a:r>
              <a:rPr b="1" lang="zh-CN" sz="4400" spc="-1" strike="noStrike">
                <a:solidFill>
                  <a:srgbClr val="f70f09"/>
                </a:solidFill>
                <a:latin typeface="楷体_GB2312"/>
                <a:ea typeface="楷体_GB2312"/>
              </a:rPr>
              <a:t>天是我今天庄严的承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0f09"/>
                </a:solidFill>
                <a:latin typeface="楷体_GB2312"/>
                <a:ea typeface="楷体_GB2312"/>
              </a:rPr>
              <a:t>砥砺苦炼苦考的意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0f09"/>
                </a:solidFill>
                <a:latin typeface="楷体_GB2312"/>
                <a:ea typeface="楷体_GB2312"/>
              </a:rPr>
              <a:t>张扬乐学乐思的个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0f09"/>
                </a:solidFill>
                <a:latin typeface="楷体_GB2312"/>
                <a:ea typeface="楷体_GB2312"/>
              </a:rPr>
              <a:t>坚守不骄不躁的心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0f09"/>
                </a:solidFill>
                <a:latin typeface="楷体_GB2312"/>
                <a:ea typeface="楷体_GB2312"/>
              </a:rPr>
              <a:t>血拼高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0f09"/>
                </a:solidFill>
                <a:latin typeface="楷体_GB2312"/>
                <a:ea typeface="楷体_GB2312"/>
              </a:rPr>
              <a:t>无悔今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70f0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931f7"/>
                </a:solidFill>
                <a:latin typeface="楷体_GB2312"/>
                <a:ea typeface="楷体_GB2312"/>
              </a:rPr>
              <a:t>高三全体同学</a:t>
            </a:r>
            <a:r>
              <a:rPr b="1" lang="zh-CN" sz="3200" spc="-1" strike="noStrike">
                <a:solidFill>
                  <a:srgbClr val="0931f7"/>
                </a:solidFill>
                <a:latin typeface="楷体_GB2312"/>
                <a:ea typeface="楷体_GB2312"/>
              </a:rPr>
              <a:t>2006</a:t>
            </a:r>
            <a:r>
              <a:rPr b="1" lang="zh-CN" sz="3200" spc="-1" strike="noStrike">
                <a:solidFill>
                  <a:srgbClr val="0931f7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0931f7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931f7"/>
                </a:solidFill>
                <a:latin typeface="楷体_GB2312"/>
                <a:ea typeface="楷体_GB2312"/>
              </a:rPr>
              <a:t>月</a:t>
            </a:r>
            <a:r>
              <a:rPr b="1" lang="zh-CN" sz="3200" spc="-1" strike="noStrike">
                <a:solidFill>
                  <a:srgbClr val="0931f7"/>
                </a:solidFill>
                <a:latin typeface="楷体_GB2312"/>
                <a:ea typeface="楷体_GB2312"/>
              </a:rPr>
              <a:t>27</a:t>
            </a:r>
            <a:r>
              <a:rPr b="1" lang="zh-CN" sz="3200" spc="-1" strike="noStrike">
                <a:solidFill>
                  <a:srgbClr val="0931f7"/>
                </a:solidFill>
                <a:latin typeface="楷体_GB2312"/>
                <a:ea typeface="楷体_GB2312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43680" y="3276720"/>
            <a:ext cx="4000320" cy="3581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391520" y="5181480"/>
            <a:ext cx="14634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-533520" y="457200"/>
            <a:ext cx="822960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血拼高考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    </a:t>
            </a: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无悔一生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324480" y="4724280"/>
            <a:ext cx="25909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55760" y="609480"/>
            <a:ext cx="52736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f70f09"/>
                </a:solidFill>
                <a:latin typeface="Times New Roman"/>
              </a:rPr>
              <a:t>走向前</a:t>
            </a:r>
            <a:r>
              <a:rPr b="1" lang="zh-CN" sz="4400" spc="-1" strike="noStrike">
                <a:solidFill>
                  <a:srgbClr val="f70f09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0f09"/>
                </a:solidFill>
                <a:latin typeface="Times New Roman"/>
              </a:rPr>
              <a:t>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752480"/>
            <a:ext cx="845820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高考倒计时牌又撕下了一页，亮的刺眼的“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00”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赫然映入眼帘，心猛地一惊：只剩一百天了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这时的我们，也许惊慌，也许茫然，也许徘徊，也许在潜意中还会有些颓废，不管怎样，走向前，一步一步让梦永在心间！只要明天还在，只要阳光依旧，就不要悲哀，就不要徘徊，冬雪终将悄悄融化，春雷定将滚滚而来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685800"/>
            <a:ext cx="7924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31f7"/>
                </a:solidFill>
                <a:latin typeface="Times New Roman"/>
              </a:rPr>
              <a:t>成功的花，人们只惊慕它现时的明艳，孰不知当初它的芽儿渗透了奋斗的泪泉，洒遍了牺牲的血雨。的确，我们的未来可能很大，可能很小，但无论大小都应坚信——  即使是一只乌鸦，也不要轻易改变自己的颜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31f7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931f7"/>
                </a:solidFill>
                <a:latin typeface="Times New Roman"/>
              </a:rPr>
              <a:t>百里行程九十半。一百天，像流星，稍纵即逝，你可以碌碌无为，但也完全可以创造奇迹。相信自己：即使再小的帆也能远航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914400"/>
            <a:ext cx="876312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31f7"/>
                </a:solidFill>
                <a:latin typeface="Times New Roman"/>
              </a:rPr>
              <a:t>因为有梦，我们经过风风雨雨，却走的那样执著；因为有梦，我们走的坎坎坷坷，却走的那样坚定；因为有梦，我们流汗流泪，口缝里却从不挤出一个“累”字！这就是我们！年轻的我们！新时代的我们！在无数顺境与逆境的交替中，是这样心甘情愿地为梦而付出，为梦拼搏，纵然做一株道旁的小草，也坚信着破土而出的美丽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31f7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14400" y="1371600"/>
            <a:ext cx="7772400" cy="36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931f7"/>
                </a:solidFill>
                <a:latin typeface="Times New Roman"/>
              </a:rPr>
              <a:t>走，不必回头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931f7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0931f7"/>
                </a:solidFill>
                <a:latin typeface="Times New Roman"/>
              </a:rPr>
              <a:t>这不是黑暗，而是光明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931f7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931f7"/>
                </a:solidFill>
                <a:latin typeface="Times New Roman"/>
              </a:rPr>
              <a:t>这不是结束，而是开始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931f7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931f7"/>
                </a:solidFill>
                <a:latin typeface="Times New Roman"/>
              </a:rPr>
              <a:t>这不是虚无，而是永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7488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76520" y="47304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我们都知道昔日不能重来，然而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50840" y="131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76520" y="115884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既然得失之间是永不可免的缺憾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27160" y="1828800"/>
            <a:ext cx="65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为什么不牢牢把握往得到的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530440"/>
            <a:ext cx="715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何需这山望那山高，何需感叹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68520" y="3168720"/>
            <a:ext cx="27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运来去不由人。“花开堪折直须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40384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莫待无花空折枝”，把握现在才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4572000"/>
            <a:ext cx="578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最重要、最明智的选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50840" y="63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0200" y="47304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时间对于每个人都是平等的。时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33920" y="11588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飞逝，实力永存！一切都过眼烟云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46360" y="1768320"/>
            <a:ext cx="4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惟有你的实力永远伴随着你。让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03480" y="2438280"/>
            <a:ext cx="704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们在这有限的时间当中奋力充实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79440" y="3276720"/>
            <a:ext cx="72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己，拥有了实力还怕所谓“从心理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03480" y="4114800"/>
            <a:ext cx="72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战胜复习生吗”？当然，有人会认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79440" y="4572000"/>
            <a:ext cx="727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还有</a:t>
            </a: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100</a:t>
            </a: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天，时间还够吗？只要你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5197320"/>
            <a:ext cx="83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信自己，就一定足够。自己对自己说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2120" y="425520"/>
            <a:ext cx="87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我失败了，放弃吧，那么你真的会躺下，</a:t>
            </a: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72800" y="1111320"/>
            <a:ext cx="5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起不来。如果你说：我还能坚持，那么</a:t>
            </a: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74880" y="1828800"/>
            <a:ext cx="71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你果真就会有接着走下去的力量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22440" y="2532240"/>
            <a:ext cx="437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人可以自己打败自己，也可以自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96480" y="3244680"/>
            <a:ext cx="5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成全自己。自卑是人类最大的罪恶，</a:t>
            </a: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08560" y="3778200"/>
            <a:ext cx="7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自信才是你终生的财富。在未来的</a:t>
            </a: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4540320"/>
            <a:ext cx="623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100</a:t>
            </a: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天，我们要充满信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5800" y="501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走在高考的硝烟里，我们需要一个转身，</a:t>
            </a: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6280" y="1219320"/>
            <a:ext cx="80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一个遐想。转身看看倔强生长的大树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98560" y="1981080"/>
            <a:ext cx="76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凝望充满希望与梦想的天空，安宁便</a:t>
            </a: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92640" y="2532240"/>
            <a:ext cx="48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会漾满心头，昂扬便会飞上眉尖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3092400"/>
            <a:ext cx="79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你怎么还有时间郁闷，你应该非常用</a:t>
            </a: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3854520"/>
            <a:ext cx="82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心地学习，拥有一颗平常心，剪掉情</a:t>
            </a: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24240" y="451152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绪的小辫子，快乐而充实地度过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0f09"/>
                </a:solidFill>
                <a:latin typeface="宋体"/>
              </a:rPr>
              <a:t>一天。</a:t>
            </a:r>
            <a:r>
              <a:rPr b="0" lang="zh-CN" sz="3600" spc="-1" strike="noStrike">
                <a:solidFill>
                  <a:srgbClr val="f70f0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3T14:16:10Z</dcterms:modified>
  <cp:revision>30</cp:revision>
  <dc:subject/>
  <dc:title>PowerPoint Presentation</dc:title>
</cp:coreProperties>
</file>