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4A5-D81E-4D4D-953F-BF291A06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F60-428A-4E6A-A59E-723D6E8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A33-1F98-4280-8930-4A45CF03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A38-2588-4687-A86C-A6FD7FDB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1BD1-85B9-4161-BE38-0506E65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98AE-BBA2-4F13-8A37-CE4293C8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A2A4-3BDA-4D8C-B5E1-80870FC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4B5-530C-48BE-A004-CB0A920E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D217-3269-47CD-9551-6CFDB918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F8B-2266-46FA-B47F-A37C805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7DA1-4380-4921-850F-04518392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EE3-7F53-4EBF-B3AC-FFB42AA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C05B-7272-4DE5-80BB-DC65A20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0AE-22E6-41E7-BDD3-1E22F26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3B5A-3A57-47B3-AAA0-1DBFBF68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4A3B-B26D-4297-9611-A665AA78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226-BACC-4061-A1B2-4E11BC5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84D-B8D4-4DA4-9954-FF22610C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879-1DE2-4BBF-8D92-B456A7E9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7BC-D9AE-4F1E-90DA-D40B7D55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23F-10AE-45AA-A123-6F71EE1D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41E-60C8-40DB-A403-6008607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5C2-5794-4689-8889-807F8B07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522-6A63-4D7C-B46D-E3B167D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3E7-E211-4F48-A6F2-4A2E291B036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E0DE-D6FF-4B6D-9AAE-31C39933281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90720" y="1219320"/>
            <a:ext cx="701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百日誓师主题班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57200" y="838080"/>
          <a:ext cx="7467480" cy="583416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刘弯弯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4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5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张   帅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杨   开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3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9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韩再博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李   阳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   蕊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2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付   萌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4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徐   可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6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304920" y="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5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152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0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295280"/>
          <a:ext cx="8001000" cy="509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676160"/>
                <a:gridCol w="1676520"/>
                <a:gridCol w="1600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王   钊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17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6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17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6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张   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5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1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安   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7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57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田   洋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1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7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21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1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许   瑾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7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7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刘   彬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8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黑体"/>
                          <a:ea typeface="黑体"/>
                        </a:rPr>
                        <a:t>28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22860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5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2280" y="762120"/>
          <a:ext cx="8001000" cy="5688000"/>
        </p:xfrm>
        <a:graphic>
          <a:graphicData uri="http://schemas.openxmlformats.org/drawingml/2006/table">
            <a:tbl>
              <a:tblPr/>
              <a:tblGrid>
                <a:gridCol w="1524240"/>
                <a:gridCol w="1600200"/>
                <a:gridCol w="1752480"/>
                <a:gridCol w="1600200"/>
                <a:gridCol w="15238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邢宇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杨萌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昱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7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1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95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9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崔璐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于路明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郝明欢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0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焦倩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6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73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陈双颖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李向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304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级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5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04920" y="914400"/>
          <a:ext cx="8534160" cy="5819760"/>
        </p:xfrm>
        <a:graphic>
          <a:graphicData uri="http://schemas.openxmlformats.org/drawingml/2006/table">
            <a:tbl>
              <a:tblPr/>
              <a:tblGrid>
                <a:gridCol w="1828800"/>
                <a:gridCol w="1904760"/>
                <a:gridCol w="1524240"/>
                <a:gridCol w="1676160"/>
                <a:gridCol w="16002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本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最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赵   薇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5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40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   娜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4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8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黄   烨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4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4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5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贺佳丽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4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4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何   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4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王   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3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42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张   瑾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2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司唯袆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18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7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刘政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8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5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28600" y="1219320"/>
          <a:ext cx="8686800" cy="374940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752480"/>
                <a:gridCol w="1752840"/>
                <a:gridCol w="175248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姓  名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本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级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最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最优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次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冯梦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1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张   洁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0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崔   扬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8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9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28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70f09"/>
                          </a:solidFill>
                          <a:latin typeface="Arial Black"/>
                        </a:rPr>
                        <a:t>39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葛晨杨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279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9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33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翟梦雪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24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0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609480" y="304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级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5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f90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cbf907"/>
                </a:solidFill>
                <a:latin typeface="Arial Black"/>
              </a:rPr>
              <a:t>3</a:t>
            </a:r>
            <a:r>
              <a:rPr b="1" lang="zh-CN" sz="4400" spc="-1" strike="noStrike">
                <a:solidFill>
                  <a:srgbClr val="cbf907"/>
                </a:solidFill>
                <a:latin typeface="Arial Black"/>
              </a:rPr>
              <a:t>个月如何提高几十分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生存在三大备考误区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:  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高考作为一门科学，命题人员是按照科学的方法和科学的态度进行命题的，因此，考生的备考也必须走上科学之路。可实际上有非常多的考生在备考中陷入了三个误区中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bf907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bf907"/>
                </a:solidFill>
                <a:latin typeface="黑体"/>
                <a:ea typeface="黑体"/>
              </a:rPr>
              <a:t>一是盲目备考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些学生不清楚高考的要求，只管自己埋头苦学，而不管高考的需求。有的人没有自己的主见，被各种指导和诱惑牵着向前走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bf907"/>
                </a:solidFill>
                <a:latin typeface="Arial Black"/>
                <a:ea typeface="黑体"/>
              </a:rPr>
              <a:t>    </a:t>
            </a:r>
            <a:r>
              <a:rPr b="1" lang="zh-CN" sz="2800" spc="-1" strike="noStrike">
                <a:solidFill>
                  <a:srgbClr val="cbf907"/>
                </a:solidFill>
                <a:latin typeface="Arial Black"/>
                <a:ea typeface="黑体"/>
              </a:rPr>
              <a:t>二是焦急万分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一些人渴望成功，给自己背上沉重的负担，有时家长殷切的目光也带来了莫名的压力。弄得有时就像没头的苍蝇，每天都很紧张，急得不得了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    </a:t>
            </a:r>
            <a:r>
              <a:rPr b="1" lang="zh-CN" sz="2800" spc="-1" strike="noStrike">
                <a:solidFill>
                  <a:srgbClr val="cbf907"/>
                </a:solidFill>
                <a:latin typeface="Arial Black"/>
                <a:ea typeface="黑体"/>
              </a:rPr>
              <a:t>三是投机取巧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有的考生削尖了脑袋，四处探听消息，追求猜题、押题。有的则怕吃苦，备考时不努力还自我安慰，找借口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89000"/>
            <a:ext cx="9144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科学备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你能按照下面的思路和方法进行复习，每科提高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至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没有问题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0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方法一：科学高效地使用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要破除备考误区，要科学高效地使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首先考生要学习钻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要求复习备考，把握要求，明确方向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其次，要把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高考试题、教材、练习相结合，重在发现高考内容的必考点，把握领会高考试题特点及其变化规律，发现今年处在高考考查方向上的知识点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50920" y="1268280"/>
            <a:ext cx="8893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此基础上，要对照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把知识点从整体上再梳理一遍，在第二轮复习中加强针对性的专题训练，并不断地进行归纳、领会、应用，以此提高得分能力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最后的三个多月的复习中，则要挑选导向性好、难度适中的综合卷进行考前适应性训练，特别要重视完卷之后的总结反思，找准薄弱环节，对易出错的地方要分析原因，减少失误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26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方法二：把握命题趋向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吃透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基础上，考生还要把握命题趋向，增强备考的目的性。强调学科间的真正融合，是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0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之后高考的一个明显的发展趋势。因此，考生要重视加强相关学科间的交融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708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黑体"/>
              </a:rPr>
              <a:t>方法三：“补弱”不是一个好思路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优点发挥法是提高效率的有效手段。然而一些同学备考时，喜欢采用‘补弱’的办法。其实对很多学生而言，‘补弱’是一件‘痛苦’的事情，有的时候无论怎样用功，‘弱势’仍不见好转。因此，建议大家学会扬长避短，确定与自身优势相关密切的内容，以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考试大纲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为依据，采用多点（优势）进攻、分割包围的战术，充分发挥自己优势，提高备考效率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85800" y="762120"/>
            <a:ext cx="7620120" cy="30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距离高考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95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天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44956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00</a:t>
            </a:r>
            <a:r>
              <a:rPr b="1" lang="en-US" sz="4000" spc="-1" strike="noStrike">
                <a:solidFill>
                  <a:srgbClr val="f70f0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-----200</a:t>
            </a:r>
            <a:r>
              <a:rPr b="1" lang="en-US" sz="4000" spc="-1" strike="noStrike">
                <a:solidFill>
                  <a:srgbClr val="f70f0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51200" y="5943600"/>
            <a:ext cx="4492800" cy="914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79280" y="69228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 Black"/>
                <a:ea typeface="黑体"/>
              </a:rPr>
              <a:t>方法四：培养答题技巧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一是将题目中的相关信息与学科知识挂钩，使问题得到解决。考题设置不像书本知识高度理想化、模式化，有些情境甚至是学生前所未闻的，但总可以从课本上找出知识依据。从这些题目信息中，要学会捕捉相关的学科信息，归纳成学科中的问题，再对知识点进行串联、分析、综合等，加以解决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是抓住关键词句，找出解题的突破口。挖掘题目中的隐含条件，将所给信息进行合理转换，例如换一种方式表述条件、将图表转换成文字、将文字信息转换成图表，将抽象的信息具体化，隐藏的条件浮出来，从而明确问题的指向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5280" y="620640"/>
            <a:ext cx="8497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是讲求答题顺序，培养良好的应试心理。考生应提高应试水平，同时又不要把综合科目看得过于神秘。遇到生题、难题不要心慌，要集中注意力搜寻头脑中已有知识，尽可能联系熟悉的知识和题型，调动各种解题方法去解。综合测试有起点高、落点低的特点，因此，有的题目会很长，看起来很生疏、很难，但实际解起来往往并不难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是科学作答。答案要准确，要做到层次清晰、条理清楚、逻辑严谨。答案宜简洁，要紧扣基本观点。答案要尽量使用规范化的学科语言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是对于难题则能做多少算多少，化整为零，争取将其中较易步骤的分拿到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50920" y="62064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79280" y="260280"/>
            <a:ext cx="871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欲善其事，必先利其器，你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后的高考准备了什么？？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少年辛苦终身事，莫向光阴惰寸功，你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后的高考付出了什么？？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盛年不重来，一日难再晨，用时宜自勉，岁月不待人。 天道酬勤，不劳何获？在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天里我们要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刻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天，拼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了心中永恒的梦想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了人生无悔的青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衷心祝愿所有同学高考顺利，金榜题名，实现自己的理想和人生目标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042920" y="1125360"/>
            <a:ext cx="60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684360" y="1197000"/>
            <a:ext cx="7848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苦不苦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想家中的父母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累不累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想自己后半辈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1159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面对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008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年高考的洗礼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面对为之奋斗十余年梦想中的大学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现在 ，我们面对的是实实在在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天！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在这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九十五天的日子里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热血沸腾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心潮澎湃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更要把壮志雄心来展现 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1587600"/>
            <a:ext cx="889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05264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悄悄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时光已进入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00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的春天，我们全都为时间过得如此之快而发出由衷的慨叹！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三年的高中生活说快又快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说慢又慢，当我们有心回首时，才觉得这一切竟是如此的神奇“弹指一挥间”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作为老师我同大家一样走过了这风风雨雨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年，见证了你们付出的每一天。在我的眼前，仿佛还浮动着你们刚入学时的张张笑脸；在我的耳边，仿佛依然还能听到你们军训时的高声呐喊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8900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苦干百日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飞冲天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3520" y="685800"/>
            <a:ext cx="8431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103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49360"/>
            <a:ext cx="86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的同学眼睛片换了再换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有的同学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胃病一犯再犯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要好的朋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也是难见几面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时间，与双亲聊天屈指可算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生活，我们与书为伴；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生活，我们向时间挑战 ；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的生活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几乎就是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两点一线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们明白我们的付出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全是为让梦想实现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惊叹之余，我们仍要自信乐观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惊叹之余，我们仍要大步朝前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惊叹之余，我们仍要奋战这将近百天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0880" y="914400"/>
            <a:ext cx="8763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班的同学们，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热血男儿，就拿出你们的干劲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让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95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天不留下人生的遗憾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巾帼英雄，就发挥你们的才智，谁说女儿不如男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让我们的老师看到你们青春燃烧的火焰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小鸟不出窝总看不到天外有天；温室的花朵不锻炼永远也抵御不了刺骨的严寒。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放心的飞吧！老师始终陪伴在你的身边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大胆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努力吧！老师始终为你摇旗呐喊，不会有丝毫的怨言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33336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抛弃私心杂念，让我们不再有遗憾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们携手拼搏，同学间的摩擦永不再现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让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老师看到的是你匆忙的身影，看不到你行动散慢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让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老师看到的是你埋头的苦干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看不到你课前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课后的闲谈。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看罢了吴钩，把栏杆拍断。高考是我们的舞台，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们就当尽情展现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苦干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九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五天，我们要一飞冲天！！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600200" y="0"/>
            <a:ext cx="609588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427640" y="6103800"/>
            <a:ext cx="4492440" cy="754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228600" y="1981080"/>
          <a:ext cx="8077320" cy="361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752480"/>
                <a:gridCol w="1828800"/>
                <a:gridCol w="1447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姓  名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本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最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最优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张     涛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1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袁     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0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1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0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7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贺     春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49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1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51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贺 美 慧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46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46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70f09"/>
                          </a:solidFill>
                          <a:latin typeface="Arial Black"/>
                          <a:ea typeface="黑体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陈     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456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9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 Black"/>
                          <a:ea typeface="黑体"/>
                        </a:rPr>
                        <a:t>460.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Black"/>
                          <a:ea typeface="黑体"/>
                        </a:rPr>
                        <a:t>14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级前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0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名中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3T14:15:30Z</dcterms:modified>
  <cp:revision>5</cp:revision>
  <dc:subject/>
  <dc:title>幻灯片 1</dc:title>
</cp:coreProperties>
</file>