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4AD-B061-4FD9-9221-5CD0F6FE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C42-FB03-4D98-A3C5-CAD655C2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0BF-5A20-456A-8968-FD6BB80F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206-7405-42D2-80EA-D4C50933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25C-17E0-4122-A7A3-625B2F5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E8C-E0AB-41E6-AD08-F1FFCDE6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290-AE25-4FC6-A8CB-7B8546E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985-EE94-4404-A86E-F4919330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020-7BC7-4387-A882-06B662B7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4BB-451F-4D8D-AE2C-CB29FFDC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66E-455A-4218-BE82-2D345C4E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69F-BC1A-41A4-BF48-0464C2B5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CBF-4EA5-4830-9646-5A884F3787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1932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百日誓师主题班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458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762120"/>
            <a:ext cx="7620120" cy="30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距离高考</a:t>
            </a: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00</a:t>
            </a: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天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4956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2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-----200</a:t>
            </a:r>
            <a:r>
              <a:rPr b="1" lang="en-US" sz="4000" spc="-1" strike="noStrike">
                <a:solidFill>
                  <a:srgbClr val="f70f0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70f09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103800"/>
            <a:ext cx="44928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51200" y="5943600"/>
            <a:ext cx="4492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55760" y="0"/>
            <a:ext cx="527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70f09"/>
                </a:solidFill>
                <a:latin typeface="Times New Roman"/>
              </a:rPr>
              <a:t>走向前</a:t>
            </a: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09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70f09"/>
                </a:solidFill>
                <a:latin typeface="Times New Roman"/>
              </a:rPr>
              <a:t>李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752480"/>
            <a:ext cx="84582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高考倒计时牌又撕下了一页，亮的刺眼的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赫然映入眼帘，心猛地一惊：只剩一百天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时的我们，也许惊慌，也许茫然，也许徘徊，也许在潜意中还会有些颓废，不管怎样，走向前，一步一步让梦永在心间！只要明天还在，只要阳光依旧，就不要悲哀，就不要徘徊，冬雪终将悄悄融化，春雷定将滚滚而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68580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成功的花，人们只惊慕它现时的明艳，孰不知当初它的芽儿渗透了奋斗的泪泉，洒遍了牺牲的血雨。的确，我们的未来可能很大，可能很小，但无论大小都应坚信——  即使是一只乌鸦，也不要轻易改变自己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百里行程九十半。一百天，像流星，稍纵即逝，你可以碌碌无为，但也完全可以创造奇迹。相信自己：即使再小的帆也能远航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914400"/>
            <a:ext cx="87631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31f7"/>
                </a:solidFill>
                <a:latin typeface="Times New Roman"/>
              </a:rPr>
              <a:t>因为有梦，我们经过风风雨雨，却走的那样执著；因为有梦，我们走的坎坎坷坷，却走的那样坚定；因为有梦，我们流汗流泪，口缝里却从不挤出一个“累”字！这就是我们！年轻的我们！新时代的我们！在无数顺境与逆境的交替中，是这样心甘情愿地为梦而付出，为梦拼搏，纵然做一株道旁的小草，也坚信着破土而出的美丽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31f7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1371600"/>
            <a:ext cx="777240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走，不必回头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黑暗，而是光明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结束，而是开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931f7"/>
                </a:solidFill>
                <a:latin typeface="Times New Roman"/>
              </a:rPr>
              <a:t>这不是虚无，而是永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04920" y="0"/>
            <a:ext cx="8838720" cy="4952520"/>
            <a:chOff x="304920" y="0"/>
            <a:chExt cx="8838720" cy="4952520"/>
          </a:xfrm>
        </p:grpSpPr>
        <p:sp>
          <p:nvSpPr>
            <p:cNvPr id="57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0"/>
              <a:ext cx="8838720" cy="49525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70f09"/>
                  </a:solidFill>
                  <a:latin typeface="Arial"/>
                </a:rPr>
                <a:t>把握每个瞬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风风雨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多少沉浮记得清清楚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三九严冬烈日酷暑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无怨无悔同舟共渡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这样走过万里千里，汗水泪水化作无穷动力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起努力向目标冲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步一步走向胜利</a:t>
              </a:r>
              <a:br>
                <a:rPr sz="2800"/>
              </a:b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让梦想在一分一秒中慢慢实现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韧劲不怕磨练经得起考验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肝胆相照我们手足相连</a:t>
              </a:r>
              <a:br>
                <a:rPr sz="2800"/>
              </a:br>
              <a:r>
                <a:rPr b="0" lang="zh-CN" sz="2800" spc="-1" strike="noStrike">
                  <a:solidFill>
                    <a:srgbClr val="e10900"/>
                  </a:solidFill>
                  <a:latin typeface="Arial"/>
                </a:rPr>
                <a:t>把握每个瞬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惊涛骇浪中我们奋勇争先</a:t>
              </a: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32440" y="0"/>
            <a:ext cx="231156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4495680"/>
            <a:ext cx="2311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00200" y="0"/>
            <a:ext cx="609588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3T14:13:59Z</dcterms:modified>
  <cp:revision>1</cp:revision>
  <dc:subject/>
  <dc:title>幻灯片 1</dc:title>
</cp:coreProperties>
</file>