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5E5F-665F-4714-B333-F1DFF58C0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9BF7-962D-46BF-8D4F-3326C122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BCF9-8031-47EC-8B6D-62A8490ED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5A00-8A2F-4461-98E7-BE04541B7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E043-F479-4557-9E0E-D5907C8FF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1CA4-203E-4405-9327-D3E2158D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5B65-E50A-4696-A394-3720CFAE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D7FD9-4B0F-47E2-8604-2B2C90D9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8CE2-9C47-491C-B6C5-4E252886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0104-A62E-4B3D-90F1-4599BB56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3A27-062B-4726-898C-E7B779F4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9F1A-D530-446C-9904-EBCA3F40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F859-BC0F-42FC-8511-7611442E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E58D-E790-4432-90A8-331C8913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F79D-09E9-4928-92E5-75060D6A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E72A-358F-431B-9300-E420B25C1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B888-11D1-43F6-B3F4-C7955A2A4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BE16-C1E9-409C-8999-1102B0E3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0D4B-01F0-4339-B807-0945D254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D004-B664-4A5C-AC5C-13BF3483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1376-04F9-4534-B5B9-D1531178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DF42-E72B-401F-A02D-9F0026EA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21E8-BFC7-48D8-9080-91037665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F355-FD51-4D38-9A80-786C1AB2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B3AD-0513-4F8A-836C-8B1F8169213D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B3D8-28C5-47FA-B3EF-AC3FDA3C702F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blog.photo.sina.com.cn/showpic.htm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95280" y="260280"/>
            <a:ext cx="729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为了我们共同期待的</a:t>
            </a:r>
            <a:br>
              <a:rPr sz="4800"/>
            </a:b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----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金色六月的收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476360" y="1801800"/>
            <a:ext cx="4081320" cy="50562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4716360" y="3860640"/>
            <a:ext cx="30956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......</a:t>
            </a:r>
            <a:r>
              <a:rPr b="1" lang="zh-CN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仅有</a:t>
            </a: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100</a:t>
            </a:r>
            <a:r>
              <a:rPr b="1" lang="zh-CN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天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2392920"/>
            <a:ext cx="8601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ff"/>
                </a:solidFill>
                <a:uFillTx/>
                <a:latin typeface="Comic Sans MS"/>
              </a:rPr>
              <a:t>"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Comic Sans MS"/>
              </a:rPr>
              <a:t>我非常聪明，我潜力无穷。我要在老师的教导下，告别三闲，静专思主，刻苦学习，遵守纪律，加强锻炼，全面发展，为四十岁做准备！</a:t>
            </a: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"</a:t>
            </a: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（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Comic Sans MS"/>
              </a:rPr>
              <a:t>三闲：闲思、闲话、闲事。静专思主：静  学习场所的幽静，有浓厚的学习气氛；专  专心致志，快节奏，高效率；思  善于思考，勤于动脑，积极钻研；主  自主学习，主动学习，有强烈的求知欲和意志力</a:t>
            </a: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）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39640" y="2619360"/>
            <a:ext cx="712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Comic Sans MS"/>
              </a:rPr>
              <a:t>"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Comic Sans MS"/>
              </a:rPr>
              <a:t>脚踏实地，奋力拼搏。敢立壮志，誓夺第一。四中学生，潜力无穷，自强不息，我要成功。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Comic Sans MS"/>
              </a:rPr>
              <a:t>"</a:t>
            </a:r>
            <a:r>
              <a:rPr b="1" lang="zh-CN" sz="44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971640" y="765000"/>
            <a:ext cx="679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omic Sans MS"/>
              </a:rPr>
              <a:t>今天，很多人会带着新鲜灵感醒来。为什么不是你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32000" y="3213000"/>
            <a:ext cx="653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omic Sans MS"/>
              </a:rPr>
              <a:t>今天，很多人会欣赏到围绕在他们身边的美丽。为什么不是你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176560" y="120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5640" y="33336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今天，很多人会选择远离昨日的阴霾，抓住今日灿烂的阳光。为什么不是你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 rot="10800000">
            <a:off x="539280" y="3141720"/>
            <a:ext cx="749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今天，很多人会因为一点点的欢乐而对生活充满了感恩。为什么不是你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11280" y="765000"/>
            <a:ext cx="636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今天，很多人会凭借自信一扫烦扰。为什么不是你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58920" y="2565360"/>
            <a:ext cx="572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今天，多人会凭借自己的力量，使自己的潜力进尽可能得到挖掘。为什么不是你？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042920" y="549360"/>
            <a:ext cx="57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今天，很多人会从自己坏习惯的禁锢中解脱出来。为什么不是你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26920" y="29242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今天，很多人会克服生活条件的限制，经营着自己的快乐。为什么不是你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71640" y="907920"/>
            <a:ext cx="6754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今天，很多人会从简易中发现丰足。为什么不是你？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403280" y="2708280"/>
            <a:ext cx="5645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今天，很多人会面临两难选择，他们选择了正确的而非有利可图的。为什么不是你？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00000" y="476280"/>
            <a:ext cx="65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今天，很多人决定克服心障，以积极的行动让自己的生活出现积极的改变。为什么不是你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47640" y="3284640"/>
            <a:ext cx="582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今天，很多人会采取必要的行动，令自己有所完善。为什么不是你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826920" y="1052640"/>
            <a:ext cx="65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4800" spc="-1" strike="noStrike">
                <a:solidFill>
                  <a:srgbClr val="0000ff"/>
                </a:solidFill>
                <a:latin typeface="Comic Sans MS"/>
              </a:rPr>
              <a:t>今天，是一个崭新的日子，许多人会抓住这个日子，全心全意地过好这个日子。为什么不是你？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642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990160" y="2505240"/>
            <a:ext cx="388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行动未必带来快乐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但不行动却一定不快乐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50920" y="2351520"/>
            <a:ext cx="7937280" cy="1008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Comic Sans MS"/>
              </a:rPr>
              <a:t>天地生人，有一人当有一人之业；人生在世，生一日当尽一日之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147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47640" y="2276640"/>
            <a:ext cx="84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被击倒并非最糟糕的失败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放弃尝试才是真正的失败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11280" y="436680"/>
            <a:ext cx="82278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不想失败就拿出成功的状态，踏踏实实走好每一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越接近后期，成绩变化越大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综合训练综合性强，训练强度大，知识复习频率快，符合遗忘曲线抑制规律，便于同学们在最短的时间内掌握最多的知识，是同学们提高成绩的黄金时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有班主任和各位任课老师做学生的坚强后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16000" y="1502640"/>
            <a:ext cx="712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十二年磨砺，立志临绝顶；五十日竞渡，“破浪”展雄风。凝聚力量决战高考，齐心大干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50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天！燃烧青春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!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追求梦想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!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拼搏超越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!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我们坚信：坚持到底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所向无敌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33520" y="1125360"/>
            <a:ext cx="861048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隶书"/>
              </a:rPr>
              <a:t>愿我们圆梦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隶书"/>
              </a:rPr>
              <a:t>**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隶书"/>
              </a:rPr>
              <a:t>一中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隶书"/>
              </a:rPr>
              <a:t>共同分享金色六月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隶书"/>
              </a:rPr>
              <a:t>功的喜悦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-316080"/>
            <a:ext cx="6953400" cy="71740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7378920" y="-949680"/>
            <a:ext cx="1765080" cy="87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zh-CN" sz="8000" spc="-1" strike="noStrike">
                <a:solidFill>
                  <a:srgbClr val="ff0000"/>
                </a:solidFill>
                <a:latin typeface="Times New Roman"/>
              </a:rPr>
              <a:t>高考必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 flipV="1" rot="10800000">
            <a:off x="969840" y="2061720"/>
            <a:ext cx="6956640" cy="1922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Comic Sans MS"/>
              </a:rPr>
              <a:t>三更灯火五更鸡，正是男儿发愤时。黑发不知勤学早，白首方悔读书迟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Comic Sans MS"/>
              </a:rPr>
              <a:t>           </a:t>
            </a:r>
            <a:r>
              <a:rPr b="1" lang="zh-CN" sz="6000" spc="-1" strike="noStrike">
                <a:solidFill>
                  <a:srgbClr val="ff0000"/>
                </a:solidFill>
                <a:latin typeface="Comic Sans MS"/>
              </a:rPr>
              <a:t>--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颜真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24000" y="1749960"/>
            <a:ext cx="8040600" cy="192276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Comic Sans MS"/>
              </a:rPr>
              <a:t>多为成功找方法，不为失败找理由。 </a:t>
            </a:r>
            <a:br>
              <a:rPr sz="6000"/>
            </a:br>
            <a:r>
              <a:rPr b="1" lang="zh-CN" sz="6000" spc="-1" strike="noStrike">
                <a:solidFill>
                  <a:srgbClr val="ff0000"/>
                </a:solidFill>
                <a:latin typeface="Comic Sans MS"/>
              </a:rPr>
              <a:t>不惜寸阴于今日，必留遗憾于明日。</a:t>
            </a: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6819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 rot="5400000">
            <a:off x="-1564920" y="2940840"/>
            <a:ext cx="6095880" cy="1166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cap="rnd" w="936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solidFill>
                  <a:srgbClr val="ffef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用激情去缔造成功</a:t>
            </a:r>
            <a:endParaRPr b="1" lang="en-US" sz="6000" spc="1" strike="noStrike">
              <a:ln cap="rnd" w="936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solidFill>
                <a:srgbClr val="ffef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62" name=""/>
          <p:cNvSpPr/>
          <p:nvPr/>
        </p:nvSpPr>
        <p:spPr>
          <a:xfrm>
            <a:off x="3439440" y="4508640"/>
            <a:ext cx="317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高三</a:t>
            </a: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(27)</a:t>
            </a: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主题班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成功无捷径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1341360"/>
            <a:ext cx="74674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一个青年职员平时工作懒懒散散，在转正前一个月他问老板：“如果我兢兢业业工作一个月，我能转正吗？”老板答道：“你的问题让我想到一个冷房间的温度计，你用热手捂着它，能使表上显示温度上升，不过房间一点也不会温暖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03280" y="1700280"/>
            <a:ext cx="6248520" cy="13737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今天的成就是因为昨天的积累，明天的成功则有赖于今天的努力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其实真正的成功是一个过程，是将勤奋和努力融入每天的生活中，融入每天的工作中。这要靠我们的意志，但更重要的是建立一个良好的生活习惯和工作习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要记住：“因为你有选择，你可以主宰自己的人生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03280" y="6021360"/>
            <a:ext cx="62485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Be pro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找问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826920" y="1341360"/>
            <a:ext cx="74678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上初中时，老师给我们讲了一个故事：有三只猎狗追一只土拨鼠，土拨鼠钻进了一个树洞。这只树洞只有一个出口，可不一会儿，从树洞里钻出一只兔子。兔子飞快地向前跑，并爬上一棵大树。兔子在树上，仓皇中没站稳，掉了下来，砸晕了正仰头看的三只猎狗，最后，兔子终于逃脱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故事讲完后，老师问：“这个故事有什么问题吗？”我们说：“兔子不会爬树。”， “一只兔子不可能同时砸晕三只猎狗。” “还有哪？”老师继续问。直到我们再找不出问题了，老师才说：“可是还有一个问题，你们都没有提到，土拨鼠哪里去了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32000" y="1989000"/>
            <a:ext cx="6248160" cy="18003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在追求人生目标的过程中，我们有时也会被途中的细枝末节和一些毫无意义的琐事分散精力，扰乱视线，以至中途停顿下来，或是走上岔路，而放弃了自己原先追求的目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不要忘了时刻提醒自己，土拨鼠哪去了？自己心目中的目标哪去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87280" y="5877000"/>
            <a:ext cx="62485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Begin with the end in m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403280" y="5734080"/>
            <a:ext cx="62485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Put first things fi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619280" y="189000"/>
            <a:ext cx="6121440" cy="50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师从大师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1143000"/>
            <a:ext cx="746748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一位音乐系的学生走进练习室，钢琴上，摆着一份全新的乐谱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“</a:t>
            </a: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超高难度</a:t>
            </a: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.....”</a:t>
            </a: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他翻动着，喃喃自语，感觉自己对弹奏钢琴的信心似乎跌到了谷底，消磨殆尽。已经三个月了！自从跟了这位新的指导教授之后，他不知道，为什么教授要以这种方式整人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勉强打起精神。他开始用十只手指头奋战、奋战、奋战</a:t>
            </a: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........</a:t>
            </a: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琴间盖住了练习室外教授走来的脚步声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指导教授是个极有名的钢琴大师。授课第一天，他给自己的新学生一份乐谱。“试试看吧！”他说。乐谱难度颇高，学生弹得生涩僵滞，错误百出。“还不熟，回去好好练习！”教授在下课时，如此叮嘱学生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学生练了一个星期，第二周上课时正准备让教授验收，没想到教授又给了他一份难度更高的乐谱。“试试看吧”！上星期的课，教授提也没提。学生再次挣扎于更高难度的技巧挑战。第三周，更难的乐谱又出现了。同样的情形持续着，学生每次在课堂上都被一份新的乐谱所困扰，然后把它带回练习，接着再回到课堂上，重新面临两倍难度的乐谱，却怎么样都追不上进度，一点也没有因为上周的练习而有驾轻就熟的感觉。学生感到越来越不安、沮丧和气馁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教授走进练习室。学生再也忍不住了。他必须向钢琴大师提出这三个月来何以不断折磨自己的质疑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教授没开口，他抽出了最早的第一份乐谱，交给学生。“弹奏吧！”他以坚定的眼神望着学生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不可思议的结果发生了，连学生自已都惊讶万分，他居然可以将这首曲子弹奏得如此美妙，如此精湛！教授又让学生试了第二堂课的乐谱，学生依然呈现超高水准的表现</a:t>
            </a: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........</a:t>
            </a: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演奏结束，学生怔怔地看着老师，说不出话来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“</a:t>
            </a: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如果，我任由你表现最擅长的部分，可能你还在练习最早的那份乐谱，就不会有现在这样的程度</a:t>
            </a: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............”</a:t>
            </a: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钢琴大师缓缓地说。</a:t>
            </a:r>
            <a:r>
              <a:rPr b="1" lang="zh-CN" sz="14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47640" y="907920"/>
            <a:ext cx="6248520" cy="30801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人，往往习惯于表现自己所熟悉、所擅长的领域。但如果我们愿意回首，细细检视，将会恍然大悟：面对紧锣密鼓的工作挑战，难度渐升的工作压力，持续提升自我，不也就在不知不觉间养成了今日的诸般能力吗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因为，人，确实有无限的潜力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有了这层体悟与认识，会让我们更欣然乐意地面对未来更多的难题，不断磨练自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19280" y="6448320"/>
            <a:ext cx="62485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Sharpen the s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7T11:53:23Z</dcterms:created>
  <dc:creator/>
  <dc:description/>
  <dc:language>en-US</dc:language>
  <cp:lastModifiedBy>User</cp:lastModifiedBy>
  <dcterms:modified xsi:type="dcterms:W3CDTF">2013-04-13T14:13:46Z</dcterms:modified>
  <cp:revision>4</cp:revision>
  <dc:subject/>
  <dc:title>幻灯片 1</dc:title>
</cp:coreProperties>
</file>