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045-FE5D-41EA-9B3E-47C232A8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2D8-091E-4106-8263-C1E23DC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374-B983-40D4-8B5C-71663334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236-6471-4F02-A6EA-D8FB3055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947-0684-4E7A-90A9-630F74C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50E-00B6-44C4-9843-27710EC7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6C5-81EF-48EA-B190-85BEF1E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0B1-E949-4411-9738-0354B882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81E-8365-4B6E-9568-E36A65C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F51-C191-4CCB-A1F1-3138754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63F-65F1-4EF6-B893-1110622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C13-03A6-4069-93F9-60859E3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58F1-30DD-4658-B4AB-B5BFB7E95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55400" y="2133720"/>
            <a:ext cx="4661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百天誓师大会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7120" y="765000"/>
            <a:ext cx="509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这百天的日子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热血沸腾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心潮澎湃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更要把壮志雄心来展现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89760" y="1773360"/>
            <a:ext cx="270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超越梦想一起飞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你我需要真心面对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1080" y="20606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我们的誓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7800" y="333360"/>
            <a:ext cx="2882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代表发言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1989000"/>
            <a:ext cx="51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1628640"/>
            <a:ext cx="45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希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43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世间，苦乐并存， 成败交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创辉煌在七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533520" y="4419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蟾宫折桂，尽显风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68400" y="15573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恩师寄语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31680" y="0"/>
            <a:ext cx="91393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2480" y="282600"/>
            <a:ext cx="37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苦干百日       一飞冲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82760" y="1413000"/>
            <a:ext cx="634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悄悄地时光已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的春天，我们全都为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得如此之快而发出由衷的慨叹！二年的高中生活说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快说慢又慢，当我们有心回首时，才觉得这一切竟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此的神奇“弹指一挥间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为老师我同大家一样走过了这风风雨雨的二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见证了你们付出的每一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我的眼前，仿佛还浮动着你们刚入学时的张张笑脸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我的耳边，仿佛依然还能听到你们军训的高声呐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4200" y="692280"/>
            <a:ext cx="488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眼睛片换了再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新患的胃病一犯再犯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要好的朋友相聚曲指可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时间，年迈的双亲也是难见几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我们与书为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我们向时间挑战 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年的生活，几乎就是完美的二点一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明白我们的付出——全是为让梦想实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自信乐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大步朝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叹之余，我们仍要奋战百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5360" y="765000"/>
            <a:ext cx="61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的热血男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出你们的干劲，让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不留下人生的遗憾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班的巾帼英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挥你们的才智，谁说好女不如儿男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的老师看到你们青春燃烧的火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鸟不出窝总看不到天外有天；温室的花朵不锻炼永远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御不了刺骨的严寒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心的飞吧！老师始终陪伴在你的身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胆的努力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！老师始终为你摇旗呐喊，不会有丝毫的怨言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0560" y="712800"/>
            <a:ext cx="487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弃私心杂念，过去的你不要再有遗憾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携手拼搏，同学间的摩擦永不再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师看到的是你匆忙的身影，看不到你行动散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师看到的是你埋头的苦干，看不到你课前饭后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闲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00" y="3732120"/>
            <a:ext cx="21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罢了吴钩，把栏杆拍断。高考是我们的舞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就当尽情展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苦干这百日，我们要一飞冲天！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9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百天誓师宣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摆正心态、自信乐观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冲刺百天、拒绝遗憾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奋战春天、笑迎盛夏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我要努力、我要成功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笑对学习、永不言败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未来我把握、胜利在眼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14680" y="4510080"/>
            <a:ext cx="70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 ，我们面对的是实实在在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天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38240" y="330372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为之奋斗十余年梦想中的大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39400" y="1197000"/>
            <a:ext cx="479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们面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009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高考的洗礼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753480" cy="72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99880" y="0"/>
            <a:ext cx="94438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9:21:34Z</dcterms:created>
  <dc:creator/>
  <dc:description/>
  <dc:language>en-US</dc:language>
  <cp:lastModifiedBy>User</cp:lastModifiedBy>
  <cp:lastPrinted>1899-12-30T00:00:00Z</cp:lastPrinted>
  <dcterms:modified xsi:type="dcterms:W3CDTF">2013-04-13T14:13:23Z</dcterms:modified>
  <cp:revision>4</cp:revision>
  <dc:subject/>
  <dc:title>幻灯片 1</dc:title>
</cp:coreProperties>
</file>