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349-AAAA-40AE-A02A-F4E1D4A5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46B-B782-43AD-B50B-36FED8E2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9448-D73D-4F11-8A95-A1E40615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033-998B-44AE-93D8-A247A619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3519-4AB3-40F2-8442-444F8EF9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5B9-5E7E-4D38-B3A7-73D4B4D0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267A-3F0F-4DF8-BD8A-E326C171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608-C091-4513-A658-3530D4A9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996-495C-480E-8E24-E5F58EC6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53B-8F63-4490-BC70-FE78735B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CBB-311E-4984-BE0B-DDEC9A7F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1F5-570E-4B7C-B428-662F0B72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8CD1-4EC1-49C8-9494-1689772FD7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6874800">
            <a:off x="3957840" y="2818440"/>
            <a:ext cx="547200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楷体_GB2312"/>
              </a:rPr>
              <a:t>豪情壮志迎高考</a:t>
            </a:r>
            <a:endParaRPr b="0" lang="en-US" sz="96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1280" y="2060640"/>
            <a:ext cx="4824360" cy="21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奋战       天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84360" y="1413000"/>
            <a:ext cx="1944720" cy="29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100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73080" y="2179800"/>
            <a:ext cx="190440" cy="142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-73080" y="2179800"/>
            <a:ext cx="190440" cy="14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-4549680" y="-53640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0" y="2193120"/>
            <a:ext cx="914400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每晚熬到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12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：我是高三学生，总觉得学习时间不够用，学校每晚夜自修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半放学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回家接着再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小时，而且所有的学习时间只够用两科。在校老师总占用自习时间，我每晚熬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睡觉，时间仍不够用。一想到高考步步逼近，我就心慌、手心冒汗，我该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答：不要太拼命做作业，并不是做多了作业你就可以考上好学校的。我是过来人，你要放轻松心情，别把自己害啦，你越急越坏事，要改变学习方法和提高学习效率。请留意自己在什么时段学习效率最高，就去学你认为最难的科目。累了，就到外面去玩或听音乐、看杂志等等。千万不要打疲劳战，学校作业选择有价值的部分做，放弃重复机械的滥题，挤出时间来自习消化知识点，效果更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21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总想睡着了睡个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问：最近特别困，总想睡着了睡个够，可是现实还得面对。高三的压力实在太大，从心底里厌学，怎样解决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答：学着给自己减压，比如让你拿一瓶矿泉水会觉得没问题，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时会觉得难受，那么持续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小时呢？所以，压力漫漫积淀会让你难以沉受。怎样减压？其实压力是心理层面作用于生理的反映，你应该在心里对自己不断地说“没什么大不了”，心理暗示能起到作用，请尝试。至于睡觉问题，要学会找空闲时间打盹。双休日，能睡的时候就睡，一清醒就做作业，不必刻意在白天学习，晚上睡觉。有时候，深更半夜在床上翻来覆去睡不着，还不如起身做作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乱糟糟的怎么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问：临近高考，班里始终乱糟糟的，老师都被气走了好几个。我不知道在这样的环境下能不能考上一本的院校。一直想换班，但父母说是我自己的问题，“自己给自己找借口”。班上那些乱糟糟的人都是关系生，老师不敢对他们凶……郁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答：要求换班，一般有难度。但可以调整自己的座位，要求换到前面去，这样可以听得清楚些。当然，最关键的是自己的心态。很多时候，环境由不得我们选择，在同学吵闹的时候，不要心烦意乱，反复抱怨：“这么吵，让我怎么听怎么学！我一点也看不进去！”等等。要试着转移自己的注意力，小声地背一些东西，好像自己在对自己说话，这样就不显得吵了。高三，一定要尽快让自己适应这样的环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担心跨不过高考的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问：不知怎么搞的，每次一到考试，我就害怕。晚上失眠，即使睡了一会儿，脑子里也一直是轰隆隆的，考试的前几天就一直头痛，不能思考问题。老师讲什么，全都云里雾里，对于试卷上的题，只能朦胧做个大概。我担心跨不过高考的坎，恐怕……害怕！谁能给我一些建议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：我以前和你是同样的病，初中时，每次考试都很紧张，经常流鼻血，考体育的时候，两腿直发抖，结果只考了个中等的高中。还好，在高中的时候我遇到了一位好老师，他帮我克服了这个毛病。首先是在平时不紧张的时候打好基础知识，另外是一些生活习惯的调整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睡觉之前，喝点热牛奶，用热水泡泡脚，听点轻音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多跟同学、老师交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平时考试，都把它当成高考，让自己提前适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复习要有计划性，不要乱成一气。临考前一两天，只看看自己的复习笔记，放松自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考试的时候，一定要提前进考场，切记！切记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考试前几分钟，做几次深呼吸，并且告诉自己，我能行！我是可以的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考完了，不要和同学对答案，赶紧回家，听听音乐，或者是翻翻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107080"/>
            <a:ext cx="91440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讨教“背功”的技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问：看见周围的同学背书都很快，可是我……我也尝试很多方法，可最后的结果还是灰心。我背书一直效率很差，背好就忘。我怀疑自己的智商问题，可老师又明确地告诉我“智商肯定没问题！”谁能介绍一些可行的方法？先谢谢大家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答：对于背诵，我倒是有两招，你不妨试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于所要背的知识先要深刻理解，理清知识脉络，形成背诵结构，然后再背。不要以为这样是在浪费时间啊，这样不仅记得牢，而且理解得透彻。切记，背诵时一定要用心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准备一录音设备，将要背诵的篇目用语音的方式输入。睡觉时，将该录音设备打开，音量调至不影响睡眠，但仍可清晰听见。早饭后，开始记忆该篇目，你会发现你很快就会记住的。最后，我还想告诉你，心态决定命运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012040"/>
            <a:ext cx="9144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忘不了“她”怎么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问：我暗恋她许久，一点书都看不进去，马上就要高考了，我的头好“痛”，我该怎么办？快点回答我好吗？让我早点摆脱痛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：想要消除在心里的感觉是不可能的，因为没有人可以做到。或许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人中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会告诉你，高三的爱情没有可信度。但是，你可以从另一个角度去想。你喜欢她，没有错。但是，你想要的是什么呢？希望她同样喜欢你吧。你要做到的是什么呢？一个连自己的未来都无法把握的人，又怎么能给别人幸福呢？所以，你首先要做的是集中精力冲过高考，为她，更为你自己，明白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：转移你的注意力。建议你去人才市场看看，亲身感受一下现在的竞争到底怎么个激烈法。作为男人，首先要以事业为重，婆婆妈妈的男人有什么前途！告诉你，现在的社会淘汰率是很高的，现在不肯一心用功，将来没有过硬本领，看你怎么在竞争中取胜！又有什么优势同她有“发展”机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253880"/>
            <a:ext cx="914400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高考前睡不着觉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：马上就要高考了，晚上总是要等到很晚才会睡觉，因为睡觉的时候会做梦，关于高考的噩梦，为什么我现在想睡而睡不着？怎么解决啊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一：高考前都会有一定的紧张情绪，表现形式不一样，而睡眠不好就是其中的一种。我建议你：一、不要学得太晚；二、到户外做适当的运动出点汗；三、用热水烫脚；四、睡前喝一杯温热的牛奶。另外增加点自信，干嘛梦非得是噩梦？多想想拿到录取通知书时的情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二：你不要有什么顾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也不用害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没到高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怕什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考时也不用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可以找个安静的地方睡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睡觉时不要太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: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再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睡前用热水烫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（水要热一些）。如果睡不着你就到外面走走，只要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睡着就行了，早晨自然醒来时再起床。考试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喝上一罐红牛饮料，保证你考个好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1351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马上高考了，我对自己没有信心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：我觉得压力特大。我幻想能够生一场大病，这样就不用参加高考了。而且考不好也不用内疚了。老师你说我该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考生有压力太正常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适当焦虑才是临战前的正常状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于说压力大、没信心，有可能是两种情况，一是平时不够用功，成绩不太好，现在知道着急了；二是很要强，成绩也不错，但对自己的要求太高。这两种情况都可能造成心中没底，其实我认为你是在自己吓虎自己，我敢说凡参加高考的考生没有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有底，谁也不敢说自己保证成功，但是每年不都有成千上万的学子们在挤高考的大门吗？你不过是他们中的一员，心中默念“我能行”，“你们行我也行”，放平心态最重要，你大病一场，除去耽误自己一年的时间以外，无非是给爸爸妈妈加重点负担，有百害而无一利，自己要想清楚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360" y="981000"/>
            <a:ext cx="82072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祝大家高考大捷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042920" y="765000"/>
            <a:ext cx="7315200" cy="475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趣味心理测验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3744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对好朋友正乘坐吊缆车玩。当缆车走到中途高空，其中一个突然大声向另一个说话，你认为他（她）说的是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A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也要住进那样的房子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哇！你看，那滩湖水多美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C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呀！我好怕，快救我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D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糟了，速度怎么慢下来了，是不是发生了什么事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E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肚子好饿，还是先来吃点什么吧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4346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果解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是朝着目标勇往直前的人。有着旺盛的企图心，对未来有详尽的规划。独立意识强，不想依赖他人，不畏艰困，败而不馁，有坚持到底的毅力．因为严于律己，踏实守信，搏得周围人的信赖，如果你在班级里是个小干部的话，那么同学们都相信你能够带领大家带领班级取得好成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进入高三，你的这种具有明确目标性的特质能帮助你在短时期内迅速进入状态，并保持良好的学习状态。所以，要加油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378520"/>
            <a:ext cx="7027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是一个我行我素的人，但又深谙中庸之道，圆滑沉稳，缓急得当，既能配合群体，在众人眼中有着不错的威望，又能慢慢伸展自己的实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学习上，你属于慢工出细活型。所以一开始，也许你并没有马上启动高考准备，但是，没关系，对你来说，好戏在后面呢。当然，你也要有足够的重视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人际关系上，表面上虽不善交际，但无形中大家都成为你的朋友，你具有很强的核心和凝聚能力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0570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是一个独立独行的人，但是你也同时缺乏恒心与坚持，没有长期坚持的决心。你的意志薄弱，常因小挫折或不如意，就轻言放弃，半途而废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学习上，你的问题可能也就在于学习意志不坚定，所以你更要从学习意志力方面入手加强训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人际关系方面，你不必勉强自己交一大帮朋友，对你来说，选择亦师亦友，志同道合的伙伴互助合作，督促鼓励，才可发挥潜力，战胜艰难，迈向目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1920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意志品质而言，你是个容易踌躇不前的人。虽有企图心和目标，但总是举棋不定。考虑过多，再三踌躇，失去大好的机会，致使自陷迷津，无法发挥自己的才能．应该鼓起勇气，身体力行，通过实践经验才能把路子打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学习方面，你更需要为考试做好长期的准备。对你来说，只要你能够经常提醒自己高考的重要性，“日三省吾”，并在此基础上增强行动力，考出好成绩也并不困难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7046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是一个任性善变的人。常因一时兴起或冲动而改变方向。恒以一己的情绪为处事准则。所以有兴致时，会表现得有声有色，否则就草草了事。看似成熟却不成熟，所以难于自强自立。到头来还得依赖他人才能成事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以面对高考，你首先要让自己成为一个有目标的人。并且为了这个目标指定一些短期计划。如果你偶尔有偏离目标的时候，一定要记得及时调整哦。你知道吗？飞机在从一个地方飞往另一个地方时，中途会无数次偏离航向，在机师的不断调整下，最后才能准确到达目的地。给自己一个目标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333360"/>
            <a:ext cx="8601120" cy="22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专家为你解难题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/>
          <p:nvPr/>
        </p:nvSpPr>
        <p:spPr>
          <a:xfrm>
            <a:off x="1107000" y="3782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想睡着了睡个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09040" y="3168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乱糟糟的怎么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89640" y="42210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担心跨不过高考的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7080" y="378936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忘不了“她”怎么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22720" y="472428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讨教“背功”的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92040" y="50068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考前睡不着觉怎么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2400" y="58053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马上高考了，我对自己没有信心怎么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09600" y="29242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晚熬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1:58:42Z</dcterms:created>
  <dc:creator/>
  <dc:description/>
  <dc:language>en-US</dc:language>
  <cp:lastModifiedBy>User</cp:lastModifiedBy>
  <dcterms:modified xsi:type="dcterms:W3CDTF">2013-04-13T14:13:03Z</dcterms:modified>
  <cp:revision>1</cp:revision>
  <dc:subject/>
  <dc:title>幻灯片 1</dc:title>
</cp:coreProperties>
</file>