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69B-7C6B-4DD6-997B-F17C78C1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099-BA40-46CD-B46B-74045B1F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EC7-0CD7-4024-A076-8A6DBBD2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ADA-0F2B-4097-883E-1FE5F478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C066-21DF-4024-AE12-50F1D7A8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76C8-3316-4264-AACE-B2E7E975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E233-CCCC-4DA9-B175-8CDE1DD0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A4C0-49B1-4679-B73C-D8544DDA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4D21-91EE-40D9-882C-1D93DC52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F351-6EA4-43F5-9F8B-2A135C9A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E1E7-8B82-49F4-B390-5318D502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02D-6BAD-4E89-888F-AE7871C0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51F9-FE82-49B8-BA69-9E0A74BA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5523-C5CB-49A4-BB01-F3AE4CFF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1B42-0265-474C-A902-1C2F9650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FA62-7098-4134-81E5-3A14F413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958C-BEDF-4C05-BA75-DB26289E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13E1-9E15-48EF-ABD2-DA6E6CD1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1B61-A1B6-4988-963F-4E1710B1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9630-5A7C-40AA-BCBA-FA00DCDA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5714-A61F-41D4-8486-C04F98F9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9ADE-E8A6-4346-AE0C-83DD5D66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AAB-F7DD-4B35-BC82-6CAB0495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0781-D1C0-4CA1-9E91-F86100A3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CEA4-CBBA-4CC0-A9FF-13A622EC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9565-9D3A-4605-9E8A-9D0BD8C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982D-5C96-4650-ACA7-CFA2E31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5671-15A2-4403-9FD5-F37DCA37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6D0A-C4BF-47A5-A163-84695974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416D-6256-4246-AA35-D4B1F303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0736A-AE07-4F92-AD53-BEDE3D6D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13ED9-845B-4A72-BBC7-57E8C37B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EE63-1143-41F5-9051-3B363038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E4E-3EC5-42D1-926C-57FF3A8E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9689-C42A-49C6-BE52-E120F9C3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2894-16E9-4A0B-A5D7-06578E35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014D-257F-49C0-B698-C197657D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2378-CF1C-4266-9EC2-E19FC37C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0C45-A90A-4397-ACAA-255939C3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5E05-08E6-45B8-90C9-4F74120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D7F82-966D-4433-86E4-4B7A101F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BBD3-4C59-42BD-AF0D-23B33434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685CA-B74A-438D-AD19-B4C5F606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0329-BEE9-41C9-8C37-B5E0AC99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04B-007B-4AE2-88F7-B05DE716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A5C9-0505-41A6-9CB5-50D6BBA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A8B7E-B6B0-4447-8606-13A5F731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80DC8-40F4-4EF3-89AE-1CE96A69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A62C4-8536-4D98-9629-FBA93B42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B56E1-38DF-4159-AC18-6E333CCA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E0B1-E94A-4BA9-9B43-BC9B5721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DEAE-DB61-4CA8-A354-54BD91E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374B9-B640-4657-9794-9B36B8B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49400-2D3B-4ECC-AA76-EA12B29B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83EDE-97C8-4752-B7EB-D3EFC676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E68-2D8C-41A5-9387-2E35BCA2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9AE0F-E218-497C-81B0-C2712855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63E-4BB1-4C61-8862-367360A7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667-5E2E-47B8-AE48-1B7DABD9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946-38BE-46B9-83C1-C3E4B67A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F9BC-1F49-4328-A9E4-18B60DC004A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8F21-2C59-489A-9942-6C576D24AAD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BA73-21F0-412E-AA97-36562D71AC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B21D-C0E1-4D62-B20C-EF762F9445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03A0-05F3-432F-9351-C89A5FF592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7.png"/><Relationship Id="rId4" Type="http://schemas.openxmlformats.org/officeDocument/2006/relationships/video" Target="file:///tmp/home/.config/libreoffice/4/user/gallery/&#24050;&#24405;&#19979;&#30340;&#22768;&#38899;" TargetMode="External"/><Relationship Id="rId5" Type="http://schemas.microsoft.com/office/2007/relationships/media" Target="file:///tmp/home/.config/libreoffice/4/user/gallery/&#24050;&#24405;&#19979;&#30340;&#22768;&#38899;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141/heart.swf" TargetMode="External"/><Relationship Id="rId2" Type="http://schemas.openxmlformats.org/officeDocument/2006/relationships/slide" Target="slide17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324000" y="260280"/>
          <a:ext cx="1368360" cy="575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36836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411280" y="260280"/>
                <a:ext cx="1444680" cy="587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t xml:space="preserve">÷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572000" y="333360"/>
                <a:ext cx="1398600" cy="56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÷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÷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732720" y="404640"/>
                <a:ext cx="1436400" cy="547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r>
                          <m:t xml:space="preserve">÷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-181080" y="0"/>
            <a:ext cx="932508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5318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细节决定成败！！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116000" y="765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从这些例子中我们能看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中国人口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亿，不管多么小的问题，只要乘以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亿，那就成为很大很大的问题……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——国务院总理温家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二、日常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小品：“花样”篮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一些容易忽视的日常生活习惯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造成的影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子曰：“天下难事，必做于易；天下大事，必做于细”！！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据调查： 有不少学生早上匆匆上学，来不及就不吃早饭。殊不知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不吃早饭的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不但容易发生胆结石、低血糖，以及促进动脉硬化引起冠心病以外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会妨碍智力活动，影响学习成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这与控制人体活动的昼夜节律发生紊乱有密切关系，它的后果与葡萄糖不足所造成的影响相比有过之而无不及。 据统计，在日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的学生中，约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上的人长期不吃早饭，其中一大部分人就在午间前后处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半睡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，学习成绩不好。应该说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的人，正当是大脑最能有效发挥功能的年龄。而由于在此期间经常不进早餐，自我破坏昼夜节律，从而影响了学习成绩。 此外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天零食不离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会使大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发挥固有的功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因为不断进食，会像糖尿病患者那样，使血液和脑脊髓液中经常充满高浓度的葡葡糖，这样，上皮细胞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CF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纤维芽细胞生长因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来不及产生。失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C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葡萄糖的反应，就不能刺激掌管记忆的海马。所以零食不离口的人，也会便记忆和学习受到损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多位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诺贝尔奖获得者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在发表感谢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词的时候，都提到自己之所以有今天，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关键的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幼儿园的老师和父母的精心呵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教育，让自己拥有良好的习惯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知道什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时候吃饭、大小便、什么时候看点书，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会儿电视等之类，很细小很细小的事我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们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细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将决定成败。做作业的态度恰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能说明一切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5788400">
            <a:off x="7164000" y="5584320"/>
            <a:ext cx="100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2560320" cy="2880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三 、我们应该如何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建议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必须正视自己的缺点、坏习惯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用心做好每件事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做事情之前多想想该不该这样做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.“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勿以善小而不为，勿以恶小而为之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勇于接受别人给我们提的有效建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</a:t>
            </a:r>
            <a:r>
              <a:rPr b="1" lang="zh-CN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!!</a:t>
            </a:r>
            <a:endParaRPr b="1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指导</a:t>
            </a:r>
            <a:r>
              <a:rPr b="1" lang="zh-CN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!!</a:t>
            </a:r>
            <a:endParaRPr b="1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粒纽扣电池污染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吨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号有汞电池烂在地里，能使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平方米的土地完全失去农业利用价值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粒纽扣电池可以使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吨水无法饮用。对自然环境威胁最大的物质，电池里就包含了汞、镉、铅三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08720" y="53006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9280" y="40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12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844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24000" y="476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1417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1125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9337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24000" y="1052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0920" y="242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1844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3213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9564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95640" y="47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11640" y="10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11640" y="40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40360" y="24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40360" y="184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8472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11640" y="321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÷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84720" y="407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77080" y="4076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4000" y="1844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04000" y="1125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03640" y="404640"/>
            <a:ext cx="86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720" y="3284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1844640"/>
            <a:ext cx="8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76720" y="2421000"/>
            <a:ext cx="8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7640" y="4076640"/>
            <a:ext cx="172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19640" y="3141720"/>
            <a:ext cx="7207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19640" y="407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12000" y="1125360"/>
            <a:ext cx="9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76280"/>
            <a:ext cx="7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85080" y="2492280"/>
            <a:ext cx="108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85080" y="4076640"/>
            <a:ext cx="793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3933720"/>
            <a:ext cx="93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2920" y="1844640"/>
            <a:ext cx="108108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16360" y="3213000"/>
            <a:ext cx="172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1125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42920" y="2492280"/>
            <a:ext cx="8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404640"/>
            <a:ext cx="17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16360" y="2349360"/>
            <a:ext cx="792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04000" y="479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32720" y="2492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7640" y="476280"/>
            <a:ext cx="11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43280" y="1844640"/>
            <a:ext cx="172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3640" y="1052640"/>
            <a:ext cx="9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314172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472428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43280" y="105264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19640" y="4724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16000" y="4653000"/>
            <a:ext cx="8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12000" y="1773360"/>
            <a:ext cx="1079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85080" y="335772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85080" y="47973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=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04000" y="47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10920" y="1052640"/>
            <a:ext cx="78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让我们来做一个简单的计算吧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假设每人每月浪费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两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度电，那么每年就浪费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度电，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亿中国人每年就要浪费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.88×10</a:t>
            </a:r>
            <a:r>
              <a:rPr b="0" lang="zh-CN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度，如果每度电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0.8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元，那么每年中国在电能源上就要浪费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30.4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亿元，这些钱够支付开办多少个学校，多少个养老院，多少个医院等社会福利场所啊！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53737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4000" y="259920"/>
            <a:ext cx="7848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吉普赛人祖传的神奇</a:t>
            </a:r>
            <a:r>
              <a:rPr b="0" lang="zh-CN" sz="4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读心术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.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它能测算出你的内心感应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文件说明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意选择一个两位数（或者说，从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~99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之间任意选择一个数），把这个数的十位与个位相加，再把任意选择的数减去这个和。例如：你选的数是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然后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+3=5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然后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3-5=18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然后在图表中找出与最后得出的数所相应的图形，并把这个图形牢记心中，然后点击发光水晶球。你会发现，水晶球所显示出来的图形就是你刚刚心里记下的那个图形。很好玩的，很神奇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2472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8278920" cy="1442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重视细节，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向不良行为习惯告别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勿以善小而不为，勿以恶小而为之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04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这句话是三国时期刘备在临终时嘱咐儿子刘禅所说的，意在教育刘禅不可轻视小事情，不要因为好事影响小就不去做，也不要因为坏事影响小就去做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062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一、历史事例反映细节重要性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76964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三则故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7848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中日甲午海战前，日本间谍化装到中国军舰上侦察．当时，中国军舰在吨位、数量、火力上都胜于日本，举国上下一片陶醉，以为中国海战，中方必胜无疑。可是中国军舰的炮塔上居然横七竖八晾着短裤、袜子，日本间谍就把这个细节写在情报中，并分析这是一支纪律松散，管理混乱的军队，不会有强大战斗力。果然，海战一开，中方惨败，几乎全军覆没，先进的军舰也都成了日本的战利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826920" y="404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三则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77025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抗日战争期间，华侨领袖陈嘉庚奉团到国内访问。他先到国统区，国民党用一顿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大洋的盛宴来款待。他后到延安，毛泽东则用几元钱的家常便饭为他接风．—奢一俭，使他看清了国民党“前方吃紧，后方紧吃”不可挽回的腐败堕落，看清了共产党同仇敌忾，艰苦抗战的勃勃生机．从此，他认定中国的前途就寄托在中国共产党身上，  于是就坚定不移地站在中国共产党—边，成为中国共产党的朋友和中国革命胜利的见证者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1258920" y="404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三则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403520" cy="6453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24000" y="26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三则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43640" y="5911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哥伦比亚航天飞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76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航天委员会对哥伦比亚航天飞机失事的事故调查称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由于航天飞机上的泡沫隔绝材料存在缺陷，使得泡沫隔绝材料从航天飞机的外部油箱上脱落下来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4:18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8:55Z</dcterms:modified>
  <cp:revision>16</cp:revision>
  <dc:subject>主题班会课件(分28大类): http://shop62905894.taobao.com</dc:subject>
  <dc:title>主题班会课件(分28大类): http://shop62905894.taobao.com</dc:title>
</cp:coreProperties>
</file>