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674-33BB-4979-854F-E4008327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5EA-4A0D-4CD4-B759-2EDBC632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F52-9CE9-4E9A-92C4-73AA3DE7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292-30F7-4994-84DE-6F94A6B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5F96-1BD1-40D8-AF6F-86FBE12C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7F83-F6B4-43C1-A748-579BA68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40BC-2C58-462A-AB19-8A46815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3A1A-C2ED-49BA-9A18-B526AAB6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9D5B-7644-4D19-849B-EA41307A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1B01-9C57-4D03-A595-609B4BDA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04A8-57F0-4034-A225-CA93752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06D-3C46-433C-AEF5-EAC66EB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D72F-669E-455F-B004-9CB5D29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6E2-7371-4763-B0BC-854A488B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C30D-4396-4DDA-8BF1-41E1CF7C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5BCB-B6F0-4244-862C-A6DFAE5C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786B-5CD6-43C4-80F4-CA8D40E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6F7-08E6-4C98-A578-58A03F7F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021-E364-4B14-90C1-3FF2F20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D48-3EF9-4378-8A35-77B36D9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834-F2BC-4926-BDC4-D1E5A739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578-B275-4E89-9A3E-C216F88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A6B-4004-4BED-8972-DAB6C54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7C5-315F-4153-8D65-49D24D9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AE68-085C-4B27-B44C-8941043FAE4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17E3-D7AC-4609-B1FD-175B83C3CF9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hyperlink" Target="file:///C:/Documents%20and%20Settings/Administrator/Local%20Settings/Local%20Settings/Temp/Rar$DI08.031/mtv0020.swf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26920" y="1628640"/>
            <a:ext cx="7315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责任重于泰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3184560" y="4299120"/>
            <a:ext cx="39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494172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播放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63480" y="62532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责任” —— 看似简简单单的两个字，它的分量却是沉甸甸的。广大奋战在抗击“非典”第一线的医务人员，用他们的行动为这两个字作出最好的诠释。而对记者采访的镜头，他们不约而同，说的最多的一句话就是：“这是我们的责任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3794040"/>
            <a:ext cx="78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让我们 向科学家斯蒂芬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霍金，向抗击“非典”的白衣天使们表达我们最崇高的敬意，并以他们为榜样，牢记责任重于泰山，作好一切我们应该做的事情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148428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通过今天的班会，我相信大家对于“责任重于泰山”这句话一定回会有非常深刻的理解。是的，责任的分量是沉甸甸的 。他不仅体现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重大的时件上，也 体现在日常生活的点滴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事上。拥有一份责任心，再大的困难也能克服，没有这一份责任心，即使再小的事情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不可能做好。让我们心中时刻 装着“责任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于泰山”这句话，从小事做起，从小培养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己的责任感，使自己成为一个敢于负责的人。这样 ，你一定会拥有一个更加美好的未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4360" y="0"/>
            <a:ext cx="112392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404640"/>
            <a:ext cx="4552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(</a:t>
            </a: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一</a:t>
            </a: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)</a:t>
            </a: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明星之事大家谈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268280"/>
            <a:ext cx="815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谢霆锋是一位大家熟悉的香港歌手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.2002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谢霆锋酒后驾车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撞毁了马路护拦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他的经纪人考虑到 此事回对他产生负面影响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就安排一位司机去”顶罪”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撞毁栏杆本来是一件很小的 事情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谢霆锋只要到警察局交纳罚款就行了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然而他却选择了 找人顶罪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着就使一件原本很 简单的 事情 变得复杂起来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经过警方的 调查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真相大白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谢霆锋不仅被法庭裁定”妨碍司法公正”的罪名成立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判了 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240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小时的 “社会服务令”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还要留下犯罪记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71640" y="9810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对于此事，大家有什么看法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9162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正如同学们所说的，谢霆锋的做法是错误的 。艺人并非超人，他也必须为自己的行为负责，否则就要付出沉重的代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95480" y="401004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通过此事，相信大家对于责任心的重要性会有一定 底认识。但是生活中，作为学生的我们应该尽哪些责任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83664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（二）我说我责任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32360" y="90792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品表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7733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刚才小品中 表演的这些片段常常在我们身边发生，象乱仍垃圾，因为看电视打电脑而忘了写作业，最后离开教室不关门，这样的事情在同学们眼里知识 小事一桩，甚至习以为常，而且大家肯定也 没有把它们和“责任”联系起来。那么，到底什么是责任呢？这些小事能 反映我们有无责任心呢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630680"/>
            <a:ext cx="837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76500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”这个词在字典中的 解释是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内应做的 事。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生活中，每个人都有自己分内应该做的事。如：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教师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的责任是教书育人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医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是救死扶伤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父母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是抚养子女 ……       ，那么，作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女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我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又是什么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4653000"/>
            <a:ext cx="3533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生讨论后发言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49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我们每个人在生活中都扮演着不同 的角色，这些不同的角色让我们承担着 各种各样的责任。我想我们现在分内应该做的也能够做好的事情 ，首先就是完成学习任务，为以后走上社会更好地履行我们的责任做好准备。此外，在家庭中，我们 要尽力帮助父母；在学校里，我们要遵守学校纪律，积极为集体服务，这些都是我们在学生时代应该具备的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765000"/>
            <a:ext cx="4876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（三）向榜样学习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519120" y="192240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不同的人由于年龄、经历的 不同，对于“责任”会有不同层次的 理解。有这么一位科学家，他身患重疾却取得巨大的成就，他就是科学家斯蒂芬  霍金。他对责任的诠释是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生命负责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3480" y="516240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是怎样将残疾的生命演绎得如此精彩呢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95640" y="587700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故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700280"/>
            <a:ext cx="79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霍金除了一个灵活的头脑外，全身只有三根手指能动，是什么力量是他如此兢兢业业、孜孜以求地去探索宇宙的奥秘，用他随时可能结束的生命创造出奇迹呢？是他对工作负责、对生命负责的态度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2924280"/>
            <a:ext cx="83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他们不顾个人的安危，奋战在抗击“非典”的第一线，许多医务人员不幸被传染，有的 甚至以身殉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692280"/>
            <a:ext cx="75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这样的榜样还有很多，在非典型性肺炎疯狂肆虐的时刻，而对异常突如其来的灾难，广大的医务人员同样体现出对工作、对生命高度负责的崇高精神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03640" y="5300640"/>
            <a:ext cx="10098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事迹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3:31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6:27Z</dcterms:modified>
  <cp:revision>10</cp:revision>
  <dc:subject>主题班会课件(分28大类): http://shop62905894.taobao.com</dc:subject>
  <dc:title>主题班会课件(分28大类): http://shop62905894.taobao.com</dc:title>
</cp:coreProperties>
</file>