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.jpeg" ContentType="image/jpeg"/>
  <Override PartName="/ppt/media/chimes.wav" ContentType="audio/x-wav"/>
  <Override PartName="/ppt/media/laser.wav" ContentType="audio/x-wav"/>
  <Override PartName="/ppt/media/image9.jpeg" ContentType="image/jpeg"/>
  <Override PartName="/ppt/media/image8.png" ContentType="image/png"/>
  <Override PartName="/ppt/media/image7.jpeg" ContentType="image/jpeg"/>
  <Override PartName="/ppt/media/camera.wav" ContentType="audio/x-wav"/>
  <Override PartName="/ppt/media/image6.png" ContentType="image/png"/>
  <Override PartName="/ppt/media/image1.jpeg" ContentType="image/jpeg"/>
  <Override PartName="/ppt/media/image2.jpeg" ContentType="image/jpeg"/>
  <Override PartName="/ppt/media/applause.wav" ContentType="audio/x-wav"/>
  <Override PartName="/ppt/media/drumroll.wav" ContentType="audio/x-wav"/>
  <Override PartName="/ppt/media/image3.jpeg" ContentType="image/jpeg"/>
  <Override PartName="/ppt/media/type.wav" ContentType="audio/x-wav"/>
  <Override PartName="/ppt/media/cashreg.wav" ContentType="audio/x-wav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CC1-A9C3-42C7-8966-7C2D3782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54A-4498-48DE-939D-7FB6A33F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54C-06A9-47FE-AD9C-E8BEE87F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79E-C234-45E9-AC6A-99DA2990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152B-6B42-4552-9383-636931E9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7D10-C666-4A0F-82B4-20E21978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368F-2C07-4FD1-AC1F-FF26F19A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A93E-A3C4-4B6B-9B08-F22C4247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DF9F-D1F0-4F60-ADDA-9171F266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89CF-0F6E-470E-AF65-86D3950A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6FE8-6A38-4393-9073-A42E506D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6AF-EE3E-4CCA-9051-2C765726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55F7-AB59-4564-A597-6D8DC083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EDF4-BC40-4671-ADFF-6BB5EC85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5792-0BE0-4BEB-94FA-BC7227FE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7746-F55A-41BF-AF67-A2DF4A11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ADBE-6412-46B4-A758-94E5A5B9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B37-EF8A-4B71-B171-69A83D50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DE5-E10A-4F61-B712-43CC88AD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008-A22A-4E90-A062-67448F67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369-7120-4C31-AA3A-6AD83A53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7B4-C156-40E6-83DF-74C8E94D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460-CFE8-44D4-AEA6-34747B70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207-F908-4EB9-9B46-1D239A84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8B45-978A-4FD7-B6A5-64DECD546F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4139-13D7-4B58-AB0C-043A05CC2C5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5438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066680" y="205740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责任教育主题班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38088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Verdana"/>
              </a:rPr>
              <a:t>？年级（？）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09600" y="5122440"/>
            <a:ext cx="3651480" cy="5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2007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30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867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（教导处制作，仅供参考，各班须根据本班实际修改定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3880" y="609480"/>
            <a:ext cx="72104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李金华铁面刮起“审计风暴”，使“问题官员”成批落马；高正义愤声讨“有毒”奶粉，令劣质食品被迫下架。刘亮冲冠一怒，捅出了彩票造假黑幕；杨元庆大胆出手，演了出“蛇吞象”的大戏。袁隆平海南砺志，任长霞剑胆琴心……这些人在不同的位置，却有着相同的责任心。让人在热血沸腾，荡气回肠的同时，又对他们肃然起敬。</a:t>
            </a:r>
            <a:r>
              <a:rPr b="1" lang="zh-CN" sz="32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06000" y="4951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自己负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06000" y="4113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别人负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0400" y="3351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家庭负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48600" y="571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集体负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34200" y="4951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社会负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34200" y="4190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国家负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8600" y="3351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人类负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533520"/>
            <a:ext cx="504036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隶书"/>
              </a:rPr>
              <a:t>第二篇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[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明责任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76520" y="990720"/>
            <a:ext cx="6945120" cy="44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大连一名公交车司机黄志全，行车途中突发心脏病，在生命的最后一分钟，他做了三件事：把车缓缓地停在马路边，并用生命的最后力气拉下了手动刹车闸；把车门打开，让乘客安全地下了车；将发动机熄火，确保了车和乘客、行人的安全。他做完了三件事，安详地趴在方向盘上停止了呼吸。</a:t>
            </a: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3880" y="404640"/>
            <a:ext cx="74678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20</a:t>
            </a:r>
            <a:r>
              <a:rPr b="1" lang="zh-CN" sz="28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世纪初的一位美国意大利移民弗兰克，他经过艰苦的积蓄开办了一家小银行，但一次银行遭抢劫改变了他的人生之路。他破了产，储户失去了存款。当他带着妻子和四个儿女从头开始的时候，他决定偿还那笔天文数字般的存款。所有的人都劝他：“你为什么要这样做呢？这件事你是没有责任的。”但他回答：“是的，在法律上也许我没有责任，但在道义上，我有责任，我应该还钱。”</a:t>
            </a:r>
            <a:br>
              <a:rPr sz="2800"/>
            </a:br>
            <a:r>
              <a:rPr b="1" lang="zh-CN" sz="28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偿还的代价是三十年的艰苦生活，寄出最后一笔“债务”时，他轻叹：“现在我终于无债一身轻了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3200400"/>
            <a:ext cx="733572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</a:t>
            </a:r>
            <a:r>
              <a:rPr b="1" lang="zh-CN" sz="3600" spc="-1" strike="noStrike">
                <a:solidFill>
                  <a:srgbClr val="9900cc"/>
                </a:solidFill>
                <a:latin typeface="仿宋_GB2312"/>
                <a:ea typeface="仿宋_GB2312"/>
              </a:rPr>
              <a:t>作为一名新时代的中学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仿宋_GB2312"/>
                <a:ea typeface="仿宋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我们应尽哪些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责任</a:t>
            </a: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？</a:t>
            </a:r>
            <a:r>
              <a:rPr b="1" lang="zh-CN" sz="44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5120" y="685800"/>
            <a:ext cx="251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大家谈：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828800" y="1523880"/>
            <a:ext cx="58672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华文隶书"/>
                <a:ea typeface="华文隶书"/>
              </a:rPr>
              <a:t>在我看来</a:t>
            </a:r>
            <a:r>
              <a:rPr b="1" lang="zh-CN" sz="3200" spc="-1" strike="noStrike">
                <a:solidFill>
                  <a:srgbClr val="9900cc"/>
                </a:solidFill>
                <a:latin typeface="华文隶书"/>
                <a:ea typeface="华文隶书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华文隶书"/>
                <a:ea typeface="华文隶书"/>
              </a:rPr>
              <a:t>责任感不仅表现在对自己的学业上</a:t>
            </a:r>
            <a:r>
              <a:rPr b="1" lang="zh-CN" sz="3200" spc="-1" strike="noStrike">
                <a:solidFill>
                  <a:srgbClr val="9900cc"/>
                </a:solidFill>
                <a:latin typeface="华文隶书"/>
                <a:ea typeface="华文隶书"/>
              </a:rPr>
              <a:t>, </a:t>
            </a:r>
            <a:r>
              <a:rPr b="1" lang="zh-CN" sz="3200" spc="-1" strike="noStrike">
                <a:solidFill>
                  <a:srgbClr val="9900cc"/>
                </a:solidFill>
                <a:latin typeface="华文隶书"/>
                <a:ea typeface="华文隶书"/>
              </a:rPr>
              <a:t>要兢兢业业</a:t>
            </a:r>
            <a:r>
              <a:rPr b="1" lang="zh-CN" sz="3200" spc="-1" strike="noStrike">
                <a:solidFill>
                  <a:srgbClr val="9900cc"/>
                </a:solidFill>
                <a:latin typeface="华文隶书"/>
                <a:ea typeface="华文隶书"/>
              </a:rPr>
              <a:t>, </a:t>
            </a:r>
            <a:r>
              <a:rPr b="1" lang="zh-CN" sz="3200" spc="-1" strike="noStrike">
                <a:solidFill>
                  <a:srgbClr val="9900cc"/>
                </a:solidFill>
                <a:latin typeface="华文隶书"/>
                <a:ea typeface="华文隶书"/>
              </a:rPr>
              <a:t>一丝不苟</a:t>
            </a:r>
            <a:r>
              <a:rPr b="1" lang="zh-CN" sz="3200" spc="-1" strike="noStrike">
                <a:solidFill>
                  <a:srgbClr val="9900cc"/>
                </a:solidFill>
                <a:latin typeface="华文隶书"/>
                <a:ea typeface="华文隶书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华文隶书"/>
                <a:ea typeface="华文隶书"/>
              </a:rPr>
              <a:t>还表现在对校园生活和班级生活方面的态度上</a:t>
            </a:r>
            <a:r>
              <a:rPr b="1" lang="zh-CN" sz="3200" spc="-1" strike="noStrike">
                <a:solidFill>
                  <a:srgbClr val="9900cc"/>
                </a:solidFill>
                <a:latin typeface="华文隶书"/>
                <a:ea typeface="华文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523880"/>
            <a:ext cx="746784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黑体"/>
                <a:ea typeface="黑体"/>
              </a:rPr>
              <a:t>1:</a:t>
            </a:r>
            <a:r>
              <a:rPr b="1" lang="zh-CN" sz="3600" spc="-1" strike="noStrike">
                <a:solidFill>
                  <a:srgbClr val="66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有责任感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黑体"/>
                <a:ea typeface="黑体"/>
              </a:rPr>
              <a:t>2:</a:t>
            </a:r>
            <a:r>
              <a:rPr b="1" lang="zh-CN" sz="3600" spc="-1" strike="noStrike">
                <a:solidFill>
                  <a:srgbClr val="66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的责任感体现在哪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黑体"/>
                <a:ea typeface="黑体"/>
              </a:rPr>
              <a:t>3:</a:t>
            </a:r>
            <a:r>
              <a:rPr b="1" lang="zh-CN" sz="3600" spc="-1" strike="noStrike">
                <a:solidFill>
                  <a:srgbClr val="66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做得还不够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如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9900cc"/>
                </a:solidFill>
                <a:latin typeface="黑体"/>
                <a:ea typeface="黑体"/>
              </a:rPr>
              <a:t>：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怎么就可以做得更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04920"/>
            <a:ext cx="7391160" cy="59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近代著名学者梁启超先生在他的《饮冰室全集》中这样论述责任：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人生最苦的事莫苦于身上背着一种未来的责任。人生第一乐事当然就是这责任的完成。责任越重大，负责的日子越长久，到责任完了时，海阔天空，心安理得，那快乐还要加几倍。</a:t>
            </a:r>
            <a:br>
              <a:rPr sz="2800"/>
            </a:br>
            <a:r>
              <a:rPr b="1" lang="zh-CN" sz="28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所以，希望同学们时时记得身上背负的重任，为家人，为自己，为社会，为</a:t>
            </a:r>
            <a:r>
              <a:rPr b="1" lang="en-US" sz="28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…</a:t>
            </a:r>
            <a:r>
              <a:rPr b="1" lang="zh-CN" sz="28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负起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自己的一份责任</a:t>
            </a:r>
            <a:r>
              <a:rPr b="1" lang="zh-CN" sz="28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！</a:t>
            </a: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990720" y="228600"/>
            <a:ext cx="7619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今天，我还是一株幼苗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random/>
    <p:sndAc>
      <p:stSnd>
        <p:snd r:embed="rId4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900000" y="981000"/>
            <a:ext cx="7543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明天，我是国家栋梁！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random/>
    <p:sndAc>
      <p:stSnd>
        <p:snd r:embed="rId4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1600200"/>
            <a:ext cx="69343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几年前，美国著名心理学博士艾尔森对世界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名各领域的杰出人士做了一项问卷调查，结果让他十分惊讶——其中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1%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人承认，他们所从事的职业并非他们最喜欢的，至少不是最理想的。一个人竟然能够在自己不太理想的领域里，取得那样辉煌的业绩，除了聪颖和勤奋，靠的还有什么呢？艾尔森博士又走访了多位商界英才，纽约证券公司的金领丽人苏珊给了他一个满意的答案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故事给我们的启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0200" y="838080"/>
            <a:ext cx="72388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谨记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没有责任心的人是一个自私的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拥有责任心的人是一个成功的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5438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505320" y="91440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见！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609480"/>
            <a:ext cx="74674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苏珊出身于中国台北的一个音乐世家，她非常喜欢音乐，却阴差阳错地考进了大学的工商管理系。如今已是美国证券业界风云人物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艾尔森博士问她：“你不喜欢你的专业，为何你学得那么棒？不喜欢眼下的工作，为何你又做得那么优秀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苏珊认真回答：“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因为我在那个位置上，那里有我应尽的责任，我必须认真对待。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管喜不喜欢，那都是自己必须面对的，都没有理由草草应付，都必须尽心尽力，那是对工作负责，也是对自己负责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52480" y="914400"/>
            <a:ext cx="705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陶行知《每天四问》</a:t>
            </a:r>
            <a:r>
              <a:rPr b="1" lang="zh-CN" sz="4400" spc="-1" strike="noStrike">
                <a:solidFill>
                  <a:srgbClr val="880f06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5120" y="2438280"/>
            <a:ext cx="675936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知责任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,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明责任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,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负责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幼圆"/>
              <a:ea typeface="幼圆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2320" y="685800"/>
            <a:ext cx="504036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隶书"/>
              </a:rPr>
              <a:t>第一篇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[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知责任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373392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什么是责任、责任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00200" y="1600200"/>
            <a:ext cx="7162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责任：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33cc33"/>
                </a:solidFill>
                <a:latin typeface="仿宋_GB2312"/>
                <a:ea typeface="仿宋_GB2312"/>
              </a:rPr>
              <a:t>份内应做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责任感：</a:t>
            </a:r>
            <a:r>
              <a:rPr b="1" lang="zh-CN" sz="4000" spc="-1" strike="noStrike">
                <a:solidFill>
                  <a:srgbClr val="33cc33"/>
                </a:solidFill>
                <a:latin typeface="仿宋_GB2312"/>
                <a:ea typeface="仿宋_GB2312"/>
              </a:rPr>
              <a:t>即责任心，自觉地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仿宋_GB2312"/>
                <a:ea typeface="仿宋_GB2312"/>
              </a:rPr>
              <a:t>        </a:t>
            </a:r>
            <a:r>
              <a:rPr b="1" lang="zh-CN" sz="4000" spc="-1" strike="noStrike">
                <a:solidFill>
                  <a:srgbClr val="33cc33"/>
                </a:solidFill>
                <a:latin typeface="仿宋_GB2312"/>
                <a:ea typeface="仿宋_GB2312"/>
              </a:rPr>
              <a:t>份内的事做好的心情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52480" y="380880"/>
            <a:ext cx="6705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字典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对于责任和责任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它给予了这样的解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责任： （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1)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份内该做的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没有做好份内的事而应当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担的过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所以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责任有两个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一方面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是要去做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另一方面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是要做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3880" y="3276720"/>
            <a:ext cx="6705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你知道哪些关于责任的名言</a:t>
            </a: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76720" y="380880"/>
            <a:ext cx="3456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格言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1371600"/>
            <a:ext cx="6691320" cy="49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天下兴亡，匹夫有责。——顾炎武</a:t>
            </a:r>
            <a:br>
              <a:rPr sz="2400"/>
            </a:br>
            <a:r>
              <a:rPr b="1" lang="zh-CN" sz="2400" spc="-1" strike="noStrike">
                <a:solidFill>
                  <a:srgbClr val="cc3300"/>
                </a:solidFill>
                <a:latin typeface="仿宋_GB2312"/>
                <a:ea typeface="仿宋_GB2312"/>
              </a:rPr>
              <a:t>先天下之忧而忧，后天下之乐而乐。</a:t>
            </a:r>
            <a:br>
              <a:rPr sz="2400"/>
            </a:br>
            <a:r>
              <a:rPr b="1" lang="zh-CN" sz="2400" spc="-1" strike="noStrike">
                <a:solidFill>
                  <a:srgbClr val="cc3300"/>
                </a:solidFill>
                <a:latin typeface="仿宋_GB2312"/>
                <a:ea typeface="仿宋_GB2312"/>
              </a:rPr>
              <a:t>                 ——范仲淹《岳阳楼记》</a:t>
            </a:r>
            <a:br>
              <a:rPr sz="2400"/>
            </a:br>
            <a:r>
              <a:rPr b="1" lang="zh-CN" sz="2400" spc="-1" strike="noStrike">
                <a:solidFill>
                  <a:srgbClr val="33cc33"/>
                </a:solidFill>
                <a:latin typeface="仿宋_GB2312"/>
                <a:ea typeface="仿宋_GB2312"/>
              </a:rPr>
              <a:t>责任就是对自己要求去做的事情有一种爱。</a:t>
            </a:r>
            <a:br>
              <a:rPr sz="2400"/>
            </a:br>
            <a:r>
              <a:rPr b="1" lang="zh-CN" sz="2400" spc="-1" strike="noStrike">
                <a:solidFill>
                  <a:srgbClr val="33cc33"/>
                </a:solidFill>
                <a:latin typeface="仿宋_GB2312"/>
                <a:ea typeface="仿宋_GB2312"/>
              </a:rPr>
              <a:t>                </a:t>
            </a:r>
            <a:r>
              <a:rPr b="1" lang="zh-CN" sz="2400" spc="-1" strike="noStrike">
                <a:solidFill>
                  <a:srgbClr val="33cc33"/>
                </a:solidFill>
                <a:latin typeface="仿宋_GB2312"/>
                <a:ea typeface="仿宋_GB2312"/>
              </a:rPr>
              <a:t>[</a:t>
            </a:r>
            <a:r>
              <a:rPr b="1" lang="zh-CN" sz="2400" spc="-1" strike="noStrike">
                <a:solidFill>
                  <a:srgbClr val="33cc33"/>
                </a:solidFill>
                <a:latin typeface="仿宋_GB2312"/>
                <a:ea typeface="仿宋_GB2312"/>
              </a:rPr>
              <a:t>德国</a:t>
            </a:r>
            <a:r>
              <a:rPr b="1" lang="zh-CN" sz="2400" spc="-1" strike="noStrike">
                <a:solidFill>
                  <a:srgbClr val="33cc33"/>
                </a:solidFill>
                <a:latin typeface="仿宋_GB2312"/>
                <a:ea typeface="仿宋_GB2312"/>
              </a:rPr>
              <a:t>]</a:t>
            </a:r>
            <a:r>
              <a:rPr b="1" lang="zh-CN" sz="2400" spc="-1" strike="noStrike">
                <a:solidFill>
                  <a:srgbClr val="33cc33"/>
                </a:solidFill>
                <a:latin typeface="仿宋_GB2312"/>
                <a:ea typeface="仿宋_GB2312"/>
              </a:rPr>
              <a:t>歌德《格言与感想》</a:t>
            </a:r>
            <a:br>
              <a:rPr sz="2400"/>
            </a:br>
            <a:r>
              <a:rPr b="1" lang="zh-CN" sz="2400" spc="-1" strike="noStrike">
                <a:solidFill>
                  <a:srgbClr val="9900cc"/>
                </a:solidFill>
                <a:latin typeface="仿宋_GB2312"/>
                <a:ea typeface="仿宋_GB2312"/>
              </a:rPr>
              <a:t>责任并不是一种由外部强加在人身上的义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仿宋_GB2312"/>
                <a:ea typeface="仿宋_GB2312"/>
              </a:rPr>
              <a:t>而是我需要对我所关心的事情作出反应。                               </a:t>
            </a:r>
            <a:br>
              <a:rPr sz="2400"/>
            </a:br>
            <a:r>
              <a:rPr b="1" lang="zh-CN" sz="2400" spc="-1" strike="noStrike">
                <a:solidFill>
                  <a:srgbClr val="9900cc"/>
                </a:solidFill>
                <a:latin typeface="仿宋_GB2312"/>
                <a:ea typeface="仿宋_GB2312"/>
              </a:rPr>
              <a:t>                </a:t>
            </a:r>
            <a:r>
              <a:rPr b="1" lang="zh-CN" sz="2400" spc="-1" strike="noStrike">
                <a:solidFill>
                  <a:srgbClr val="9900cc"/>
                </a:solidFill>
                <a:latin typeface="仿宋_GB2312"/>
                <a:ea typeface="仿宋_GB2312"/>
              </a:rPr>
              <a:t>[</a:t>
            </a:r>
            <a:r>
              <a:rPr b="1" lang="zh-CN" sz="2400" spc="-1" strike="noStrike">
                <a:solidFill>
                  <a:srgbClr val="9900cc"/>
                </a:solidFill>
                <a:latin typeface="仿宋_GB2312"/>
                <a:ea typeface="仿宋_GB2312"/>
              </a:rPr>
              <a:t>美国</a:t>
            </a:r>
            <a:r>
              <a:rPr b="1" lang="zh-CN" sz="2400" spc="-1" strike="noStrike">
                <a:solidFill>
                  <a:srgbClr val="9900cc"/>
                </a:solidFill>
                <a:latin typeface="仿宋_GB2312"/>
                <a:ea typeface="仿宋_GB2312"/>
              </a:rPr>
              <a:t>]</a:t>
            </a:r>
            <a:r>
              <a:rPr b="1" lang="zh-CN" sz="2400" spc="-1" strike="noStrike">
                <a:solidFill>
                  <a:srgbClr val="9900cc"/>
                </a:solidFill>
                <a:latin typeface="仿宋_GB2312"/>
                <a:ea typeface="仿宋_GB2312"/>
              </a:rPr>
              <a:t>弗洛姆《为自己的人》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责任心就是关心别人，关心整个社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有了责任心，生活就有了真正的含义和灵魂。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[</a:t>
            </a:r>
            <a:r>
              <a:rPr b="1" lang="zh-CN" sz="2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科威特</a:t>
            </a:r>
            <a:r>
              <a:rPr b="1" lang="zh-CN" sz="2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]</a:t>
            </a:r>
            <a:r>
              <a:rPr b="1" lang="zh-CN" sz="2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穆尼尔</a:t>
            </a:r>
            <a:r>
              <a:rPr b="1" lang="zh-CN" sz="2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纳素夫《愿你生活更美好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05:30:2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09:47Z</dcterms:modified>
  <cp:revision>7</cp:revision>
  <dc:subject>主题班会课件(分28大类): http://shop62905894.taobao.com</dc:subject>
  <dc:title>主题班会课件(分28大类): http://shop62905894.taobao.com</dc:title>
</cp:coreProperties>
</file>