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C0E-01AE-4A59-98BF-ADE06F1E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7C8-7CBA-45A3-8316-4E5F46F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0CC-4FF0-43DE-885F-372039FB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361-77CB-44C7-BE85-E9E69798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6E50-EF7B-417B-95C4-AC2823A4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58B2-DD75-4D8D-85E2-2BD56CD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9030-6111-4F49-BBD1-27F5AF2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E387-3BA7-4D31-A61C-3032A7F9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171-EC28-45FD-B1B6-F5E94F5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CBA-F371-4B65-9EDF-9B7D3526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3FB3-8284-453E-8D6D-B236029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E8E-F700-4EBC-8C93-0F4D207F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8E3-B912-4A22-894F-0CBE8292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85F1-6545-4F2A-BD4C-5E143C2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B345-889F-48E7-803E-BA59B06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7D3F-01B7-4A7E-9E6F-63674001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0C62-5520-466F-8C07-C0DE34A8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523-F73D-47AE-B769-157E5A45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77D-4E77-4188-BE08-742BA2DE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720-39CB-4DB4-94B2-FC149D41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F5B-37D5-48F0-94B5-22FB6B9D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6D6-13A6-4804-B134-FB3DDC3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E1B-0604-4FD0-B545-FB1A84CB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C71-DE33-41DD-B316-DD7F592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DFBC-7BF4-4CF1-B024-05A46D5281C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6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D988-74FC-400F-8251-02CAFB23BB6D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304920"/>
            <a:ext cx="7086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黑体"/>
              </a:rPr>
              <a:t>课堂教学行为规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为了保证课堂教学质量，更加有效地组织课堂教学，充分发挥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45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分钟课堂教学效益，特制定《课堂教学行为规范》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143000"/>
            <a:ext cx="67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7. 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</a:rPr>
              <a:t>课堂分组讨论时，要紧扣主题，积极发言，不得讲与主题无关的内容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8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课堂上应踊跃发言。回答问题时要原地直立，精神饱满，声音响亮清晰，讲普通话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838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9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课堂上不做小动作，不随意讲话、谈笑或离开座位；不打瞌睡；不吃零食，不喝水。不得在课堂上转笔或转书。课堂上禁止阅读与上课无关的报刊书籍或收听音乐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10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自习课应保持教室安静，不得擅自离开教室，不得看闲书、闲聊或做与学习无关的事情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685800"/>
            <a:ext cx="7696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教师课堂行为规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必须在课前做好准备工作，备齐教学用具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必须在上课铃响之前进课堂，打上课铃后，应立即组织教学活动。教师必须在眼保健操开始前到达教室，否则将视为迟到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8288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教师要衣着得体，精神饱满，如无身体不适，应站立授课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如无特殊情况，教师不能带茶水进课堂授课。不得在教室内吸烟。不允许上课接听手机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19051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授课应使用普通话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6.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教师应时时关注学生，引导学生遵守课堂行为规范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7. </a:t>
            </a: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要经常指导、检查、督促学生记好课堂笔记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1066680"/>
            <a:ext cx="717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8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课堂教学中要尊重学生，不体罚学生，不将学生驱逐到教室外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9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应积极有效地维持课堂纪律。对违反课堂纪律的学生，应适当地进行教育，但要尽量避免影响教学进程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19810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10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下课铃响后，应马上结束授课，不得侵占学生的课间休息时间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68580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学生课堂行为规范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全班同学应在课前两分钟内做好准备，将该节课使用的课本、笔记本、作业本整齐摆放在课桌的左上角，铅笔盒横放在桌面前沿。桌面书籍应摆放整齐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如果不在本班教室上课，须排队提前到达指定地点，整个过程做到“快、静、齐”。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82880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迟到学生应站在教室门口喊“报告”，经老师允许后再进教室上课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上课要精神饱满，上课铃响后，应立即主动积极地投入课堂学习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坐姿要规范，背要直、肩要平、头要正，两脚平放地面。听课时不得用手撑头，不得晃脚，不得在座位上扭动身躯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6. 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</a:rPr>
              <a:t>上课专心听老师讲课或同学发言，目不斜视，边听边想，认真记笔记。应虚心接受老师教育，服从老师管理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0:57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1:29Z</dcterms:modified>
  <cp:revision>8</cp:revision>
  <dc:subject>主题班会课件(分28大类): http://shop62905894.taobao.com</dc:subject>
  <dc:title>主题班会课件(分28大类): http://shop62905894.taobao.com</dc:title>
</cp:coreProperties>
</file>