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6DB-9334-4DA2-94EE-6B3FFB76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8AA-B7C7-425F-8FA4-354B4815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881-D528-44CD-A8F7-F69C791A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018-4AFE-4C18-90C6-3D5A0CC9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0BD6-0137-4A49-BF88-FBD38C90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9139-0CDC-494B-9EFB-0ECBA412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7C15-C7E3-425B-AA56-1D33A8AF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E943-6EFB-46BF-A7EF-AB68E480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FCA6-A3A8-446B-930E-26E3377E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59A0-5D8C-4420-B64A-2EB57610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81C8-2513-4D77-8F3F-9A070A3A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E80-7AA6-4753-94EB-D9AEE67B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90EA-8971-436D-830F-97B37376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3557-302A-4DBB-BD9A-D3D3686C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CC61-A8D7-4E32-9929-36D46013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A921-B0E1-4034-963B-4F5E1BE3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F494-7048-4F20-9FD2-EC2A5220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E32-0297-4E5B-9BD8-4A0974D5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D63-30D7-4939-AE94-9B3CC64C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FDA-8A98-484C-880F-94F8C4EC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53B-A533-40A7-9E8F-1076CE93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269-5AD3-4864-A80B-FF3B01C5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909-9D81-4BB3-B35B-7F2512CB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614-5606-4DA8-AAE1-355646DA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91taoxue.cn/Searchxuequan.aspx?ID=aa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F863-1362-4A5A-AC41-844C71915F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3"/>
          </p:cNvPr>
          <p:cNvPicPr/>
          <p:nvPr/>
        </p:nvPicPr>
        <p:blipFill>
          <a:blip r:embed="rId4"/>
          <a:srcRect l="23846" t="0" r="23776" b="34593"/>
          <a:stretch/>
        </p:blipFill>
        <p:spPr>
          <a:xfrm>
            <a:off x="8197920" y="0"/>
            <a:ext cx="9460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E5AE-9F35-4679-8A37-51B8565644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B8&#500;%C4&amp;in=12780&amp;cl=2&amp;cm=1&amp;sc=0&amp;lm=-1&amp;pn=157&amp;rn=1&amp;di=1025068241&amp;ln=2000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B8&#500;%C4&amp;in=32651&amp;cl=2&amp;cm=1&amp;sc=0&amp;lm=-1&amp;pn=153&amp;rn=1&amp;di=500281721&amp;ln=2000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B8&#500;%C4&amp;in=13535&amp;cl=2&amp;cm=1&amp;sc=0&amp;lm=-1&amp;pn=154&amp;rn=1&amp;di=531196961&amp;ln=2000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A1%A4%B8&#500;%C4&amp;in=25027&amp;cl=2&amp;cm=1&amp;sc=0&amp;lm=-1&amp;pn=5&amp;rn=1&amp;di=710115605&amp;ln=2000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A1%A4%B8&#500;%C4&amp;in=32365&amp;cl=2&amp;cm=1&amp;sc=0&amp;lm=-1&amp;pn=69&amp;rn=1&amp;di=2777864844&amp;ln=2000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A1%A4%B8&#500;%C4&amp;in=18053&amp;cl=2&amp;cm=1&amp;sc=0&amp;lm=-1&amp;pn=17&amp;rn=1&amp;di=1362756056&amp;ln=2000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A1%A4%B8&#500;%C4&amp;in=31743&amp;cl=2&amp;cm=1&amp;sc=0&amp;lm=-1&amp;pn=30&amp;rn=1&amp;di=1390434572&amp;ln=2000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A1%A4%B8&#500;%C4&amp;in=17878&amp;cl=2&amp;cm=1&amp;sc=0&amp;lm=-1&amp;pn=53&amp;rn=1&amp;di=717930532&amp;ln=2000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A1%A4%B8&#500;%C4&amp;in=5821&amp;cl=2&amp;cm=1&amp;sc=0&amp;lm=-1&amp;pn=46&amp;rn=1&amp;di=1979244092&amp;ln=2000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B8&#500;%C4&amp;in=3189&amp;cl=2&amp;cm=1&amp;sc=0&amp;lm=-1&amp;pn=146&amp;rn=1&amp;di=1578750761&amp;ln=2000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1&#566;%FB%B8&#500;%C4&amp;in=18114&amp;cl=2&amp;cm=1&amp;sc=0&amp;lm=-1&amp;pn=149&amp;rn=1&amp;di=1601096896&amp;ln=2000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79185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Arial"/>
              </a:rPr>
              <a:t>让优秀从好习惯开始</a:t>
            </a:r>
            <a:br>
              <a:rPr sz="66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聆听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IT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巨人的教诲）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六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陷入困境，不是你父母的过错，不要将自己应承担的责任转嫁他人，而要从中吸取教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64280" y="4508640"/>
            <a:ext cx="297972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你出生之前，你的父母并不像现在这样乏味。是因为这些年来一直在为你洗衣服、付账单，他们才变成今天这个样子。所以，在对父母喋喋不休之前，先去打扫自己的屋子吧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4149720"/>
            <a:ext cx="3109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八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的学校也许已经没有优等生和劣等生之分，但生活却并不如此。有些学校已经没有「不及格」的概念，学校会不断给你机会让你进步，但现实生活完全不是这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149720"/>
            <a:ext cx="25336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九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走出学校后的生活不像在学校有学期之分，也没有暑假。没有几位老板乐于帮你发现自我，你必须靠自己去完成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20000" y="4005360"/>
            <a:ext cx="1861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十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许多电视中的场景绝不是真实生活。在现实生活中，人们必须努力做自己的工作，而不是像电视中那样天天泡在咖啡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64000" y="3789360"/>
            <a:ext cx="318312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十一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善待你所厌恶的人，因为有一天说不定你会为这样的人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12000" y="3284640"/>
            <a:ext cx="2647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比尔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盖茨给中国学生的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条忠告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一给自己一个梦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二找准目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三选择积极的心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四秉持自己的个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五添几分冒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六学会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七主动去敲机会的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八别不把学习当回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九管理好自己的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十保持充沛的精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忠告十一不达目的不罢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75200" y="1989000"/>
            <a:ext cx="242100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492280"/>
            <a:ext cx="2660760" cy="385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39640" y="2492280"/>
            <a:ext cx="5372280" cy="2737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1052640"/>
            <a:ext cx="777708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微软总裁比尔．盖茨给青年一代下列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点忠告： 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忠告一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 ：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    生活是不公平的，你要去适应。 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适应能力，指的是一个人在心理上适应社会生活和社会环境的能力。社会适应能力的高低，从某种意义上说，表明一个人的成熟程度。下面的问题能帮助你进行社会适应能力的自我判别（把答案填在括号内）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（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是             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无法肯定             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不是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我最怕转学或转班级，每到一个新环境，我总要经过很长一段时间才能适应。（）</a:t>
            </a:r>
            <a:br>
              <a:rPr sz="2000"/>
            </a:b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   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每到一个新的地方，我很容易同别人接近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在陌生人面前，我常无话可说，以至感到尴尬。   （ 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我最喜欢学习新知识或新学科，它给我一种新鲜感，能调动我的积极性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每到一个新地方，我第一天总是睡不好，就是在家里，只要换一张床，有时也会失眠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不管生活条件有多大变化，我也能很快习惯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越是人多的地方，我越感到紧张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在正式比赛或考试时，我的成绩多半不会比平时练习差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我最怕在班上发言，全班同学都看着我，心都快跳出来了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即使有的同学对我有看法，我仍能同他（她）交往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096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88640"/>
            <a:ext cx="85406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老师在场的时候，我做事情总有些不自在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I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和同学、家人相处，我很少固执己见，乐于采纳别人的看法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同别人争论时，我常常感到语塞，事后才想起该怎样反驳对方，可惜已经太迟了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14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我对生活条件要求不高，即使生活条件很艰苦，我也能过得很愉快＿（       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有时自己明明把课文背得滚瓜烂熟，可在课堂上背的时候，还是会出差错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在决定胜负成败的关键时刻，我虽然很紧张，但总能很快使自己镇定下来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我不喜欢的东西，不管怎么学也学不会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18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在嘈杂混乱的环境里，我仍然能集中精力学习，并且效率较高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我不喜欢陌生人来家里做客，每逢这种情况，我就有意回避。（）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我很喜欢参加社交活动，我感到这是交朋友的好机会。（）</a:t>
            </a:r>
            <a:br>
              <a:rPr sz="2000"/>
            </a:b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5462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88423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评分办法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]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凡是单数号题，（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7……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）是：一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分，无法肯定：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分，不是：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分。</a:t>
            </a:r>
            <a:br>
              <a:rPr sz="2000"/>
            </a:b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．凡是双数号题，（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8……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）是：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分，无法肯定：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分，不是：一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分。</a:t>
            </a:r>
            <a:br>
              <a:rPr sz="2000"/>
            </a:b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各题的得分相加，即得总分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：社会适应能力很强，能很快地适应新的学习、生活环境，与人交往轻松、大方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     给人的印象极好，无论进入什么样的环境，都能应付自如，左右逢源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：社会适应能力良好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：社会适应能力一般，当进入一个新环境，经过一段时间的努力，基本上能适应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：社会适应能力较差，依赖于较好的学习、生活环境，一旦遇到困难则易怨天尤人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      甚至消沉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以下：社会适应能力很差，在各种新环境中，即使经过一段相当长时间的努力，也不一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够适应，常常困惑到与周围事物格格不入而十分苦恼。在与他人的交往中，总是显得拘谨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羞怯，手足无措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忠告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世界不会在意你的自尊，而是要求你在自我感觉良好之前先有所成就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335772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忠告三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刚走出学校不可能一个月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美元，更不会成为公司的副总裁，拥有一部汽车，直到你挣到手的那一天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2781360"/>
            <a:ext cx="25639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四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认为学校里的老师太严厉，等你有了老板时再回头想一想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3357720"/>
            <a:ext cx="31831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忠告五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卖汉堡不会有损你的尊严。你的祖父母对卖汉堡有不同理解，将它称为「机遇」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3284640"/>
            <a:ext cx="254484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05:50:1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02:48Z</dcterms:modified>
  <cp:revision>20</cp:revision>
  <dc:subject>主题班会课件(分28大类): http://shop62905894.taobao.com</dc:subject>
  <dc:title>主题班会课件(分28大类): http://shop62905894.taobao.com</dc:title>
</cp:coreProperties>
</file>