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gif" ContentType="image/gif"/>
  <Override PartName="/ppt/media/image4.png" ContentType="image/png"/>
  <Override PartName="/ppt/media/image6.png" ContentType="image/png"/>
  <Override PartName="/ppt/media/image26.jpeg" ContentType="image/jpeg"/>
  <Override PartName="/ppt/media/image7.gif" ContentType="image/gif"/>
  <Override PartName="/ppt/media/image8.gif" ContentType="image/gif"/>
  <Override PartName="/ppt/media/image5.png" ContentType="image/png"/>
  <Override PartName="/ppt/media/image13.png" ContentType="image/png"/>
  <Override PartName="/ppt/media/image12.png" ContentType="image/png"/>
  <Override PartName="/ppt/media/image2.png" ContentType="image/png"/>
  <Override PartName="/ppt/media/image25.jpeg" ContentType="image/jpeg"/>
  <Override PartName="/ppt/media/image9.jpeg" ContentType="image/jpeg"/>
  <Override PartName="/ppt/media/image28.gif" ContentType="image/gif"/>
  <Override PartName="/ppt/media/image29.gif" ContentType="image/gif"/>
  <Override PartName="/ppt/media/image3.jpeg" ContentType="image/jpeg"/>
  <Override PartName="/ppt/media/image15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6.gif" ContentType="image/gif"/>
  <Override PartName="/ppt/media/image17.png" ContentType="image/png"/>
  <Override PartName="/ppt/media/image18.png" ContentType="image/png"/>
  <Override PartName="/ppt/media/image20.png" ContentType="image/png"/>
  <Override PartName="/ppt/media/image19.jpeg" ContentType="image/jpeg"/>
  <Override PartName="/ppt/media/image22.png" ContentType="image/png"/>
  <Override PartName="/ppt/media/camera.wav" ContentType="audio/x-wav"/>
  <Override PartName="/ppt/media/chimes.wav" ContentType="audio/x-wav"/>
  <Override PartName="/ppt/media/image21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10C0-FD70-4EB8-85F9-1A87E5145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2AAD-2B49-497A-B1C4-85E7A37C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7F69-CCA8-41C6-B176-34BC702BA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5CEC-D032-4EE6-93E8-C9DA61E7E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47BA-40C8-4791-AD23-B4F227966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BEFC-FF30-4BF2-88D2-73F6D741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E288-DAB6-4625-A491-74F37948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E79D-A913-4200-91BA-130146B3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8CBA-E25B-43A0-9C44-937D80C4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EE3C-CD03-4EB9-AD4A-C9F8F4A5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34AE-8A75-4348-9FB9-0910E6C4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0FA9-F72A-4A05-AF5A-4B5BB403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AB81-A7B7-4CFA-A89C-A6E11BF8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5FFF-E0C4-47FA-997D-A0A34AEA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3D57-7040-4540-BF5D-F50ED6B9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4B64-4AC3-4D94-8516-5CCEB0711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4EDC-42B7-4804-BC81-C92CE96F9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38A2-1AF2-40FB-BD08-029A80F6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BBE3-BC39-4EE6-9993-94536913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DF67-DE43-4FAA-8909-F2433042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EE1B-D7E0-4BDF-A478-FA40861B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2AAD-1BCC-4709-A184-334501A8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B1A8-AA0A-4625-AEBF-52360C1E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5E20-7887-4662-B55D-E8CF11B3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6125-DEEB-4F1A-AF6C-418F1D4DD69C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E19D-FDA7-476A-BC46-8FA884F22291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audio" Target="file:///tmp/home/.config/libreoffice/4/user/gallery/chimes.wav" TargetMode="External"/><Relationship Id="rId4" Type="http://schemas.microsoft.com/office/2007/relationships/media" Target="file:///tmp/home/.config/libreoffice/4/user/gallery/chimes.wav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8.xm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cc"/>
            </a:gs>
            <a:gs pos="5000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914400" y="1066680"/>
            <a:ext cx="5472000" cy="180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40458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主题班会：角色与责任感</a:t>
            </a:r>
            <a:endParaRPr b="1" lang="en-US" sz="4000" spc="1" strike="noStrike">
              <a:ln w="12600">
                <a:solidFill>
                  <a:srgbClr val="40458c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08" name=""/>
          <p:cNvSpPr/>
          <p:nvPr/>
        </p:nvSpPr>
        <p:spPr>
          <a:xfrm>
            <a:off x="2133720" y="35053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高三（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班主题班会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9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25092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019920" y="502920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  <a:ea typeface="华文新魏"/>
              </a:rPr>
              <a:t>2007.1.1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09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11280" y="2602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请你展开想象的翅膀设想下列行为如果缺乏必要的责任感将会怎样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8360" y="184464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、监考员由于疏忽漏收了一份试卷。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8360" y="2781360"/>
            <a:ext cx="645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、一位医生给病人错开了药。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8360" y="4869000"/>
            <a:ext cx="77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、某同学许下诺言帮助朋友，结果却忘记了。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8360" y="3795840"/>
            <a:ext cx="893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、自习课上，两名同学大声地讨论问题。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826920" y="26676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、一位司机酒后开车。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26920" y="10526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、随地吐痰，乱扔果皮纸屑。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187280" y="1989000"/>
            <a:ext cx="7632720" cy="4869000"/>
            <a:chOff x="1187280" y="1989000"/>
            <a:chExt cx="7632720" cy="4869000"/>
          </a:xfrm>
        </p:grpSpPr>
        <p:sp>
          <p:nvSpPr>
            <p:cNvPr id="271" name=""/>
            <p:cNvSpPr/>
            <p:nvPr/>
          </p:nvSpPr>
          <p:spPr>
            <a:xfrm>
              <a:off x="7596360" y="5707080"/>
              <a:ext cx="1223640" cy="1150920"/>
            </a:xfrm>
            <a:custGeom>
              <a:avLst/>
              <a:gdLst>
                <a:gd name="textAreaLeft" fmla="*/ 287640 w 1223640"/>
                <a:gd name="textAreaRight" fmla="*/ 935280 w 1223640"/>
                <a:gd name="textAreaTop" fmla="*/ 135360 h 1150920"/>
                <a:gd name="textAreaBottom" fmla="*/ 721800 h 1150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1187280" y="1989000"/>
              <a:ext cx="7632720" cy="3672000"/>
              <a:chOff x="1187280" y="1989000"/>
              <a:chExt cx="7632720" cy="3672000"/>
            </a:xfrm>
          </p:grpSpPr>
          <p:sp>
            <p:nvSpPr>
              <p:cNvPr id="273" name=""/>
              <p:cNvSpPr txBox="1"/>
              <p:nvPr/>
            </p:nvSpPr>
            <p:spPr>
              <a:xfrm>
                <a:off x="1187280" y="1989000"/>
                <a:ext cx="7632720" cy="1638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1" strike="noStrike">
                    <a:ln w="12600">
                      <a:solidFill>
                        <a:srgbClr val="eaeaea"/>
                      </a:solidFill>
                      <a:miter/>
                    </a:ln>
                    <a:gradFill rotWithShape="0">
                      <a:gsLst>
                        <a:gs pos="0">
                          <a:srgbClr val="9400ed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effectLst>
                      <a:outerShdw dist="153753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华文行楷"/>
                  </a:rPr>
                  <a:t>责任感在生活中无处不在，</a:t>
                </a:r>
                <a:endParaRPr b="0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行楷"/>
                  <a:ea typeface="华文行楷"/>
                </a:endParaRPr>
              </a:p>
            </p:txBody>
          </p:sp>
          <p:sp>
            <p:nvSpPr>
              <p:cNvPr id="274" name=""/>
              <p:cNvSpPr txBox="1"/>
              <p:nvPr/>
            </p:nvSpPr>
            <p:spPr>
              <a:xfrm>
                <a:off x="1332000" y="4076640"/>
                <a:ext cx="6480000" cy="1584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1" strike="noStrike">
                    <a:ln w="12600">
                      <a:solidFill>
                        <a:srgbClr val="eaeaea"/>
                      </a:solidFill>
                      <a:miter/>
                    </a:ln>
                    <a:gradFill rotWithShape="0">
                      <a:gsLst>
                        <a:gs pos="0">
                          <a:srgbClr val="9400ed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effectLst>
                      <a:outerShdw dist="153753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华文行楷"/>
                  </a:rPr>
                  <a:t>缺少它，将寸步难行。</a:t>
                </a:r>
                <a:endParaRPr b="0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行楷"/>
                  <a:ea typeface="华文行楷"/>
                </a:endParaRPr>
              </a:p>
            </p:txBody>
          </p:sp>
        </p:grpSp>
      </p:grpSp>
    </p:spTree>
  </p:cSld>
  <p:transition spd="slow">
    <p:pull dir="r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4643280" y="3286080"/>
            <a:ext cx="4681440" cy="2879640"/>
            <a:chOff x="4643280" y="3286080"/>
            <a:chExt cx="4681440" cy="2879640"/>
          </a:xfrm>
        </p:grpSpPr>
        <p:sp>
          <p:nvSpPr>
            <p:cNvPr id="276" name=""/>
            <p:cNvSpPr/>
            <p:nvPr/>
          </p:nvSpPr>
          <p:spPr>
            <a:xfrm>
              <a:off x="4643280" y="3286080"/>
              <a:ext cx="4681440" cy="2879640"/>
            </a:xfrm>
            <a:prstGeom prst="irregularSeal2">
              <a:avLst/>
            </a:prstGeom>
            <a:solidFill>
              <a:srgbClr val="9933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372000" y="4294080"/>
              <a:ext cx="187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ecd882"/>
                  </a:solidFill>
                  <a:latin typeface="Times New Roman"/>
                </a:rPr>
                <a:t>消极语言有：</a:t>
              </a: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332000" y="2131920"/>
            <a:ext cx="3744720" cy="3457800"/>
            <a:chOff x="1332000" y="2131920"/>
            <a:chExt cx="3744720" cy="3457800"/>
          </a:xfrm>
        </p:grpSpPr>
        <p:sp>
          <p:nvSpPr>
            <p:cNvPr id="279" name=""/>
            <p:cNvSpPr/>
            <p:nvPr/>
          </p:nvSpPr>
          <p:spPr>
            <a:xfrm>
              <a:off x="1332000" y="2131920"/>
              <a:ext cx="3744720" cy="3457800"/>
            </a:xfrm>
            <a:prstGeom prst="irregularSeal2">
              <a:avLst/>
            </a:prstGeom>
            <a:solidFill>
              <a:srgbClr val="00cc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050920" y="3317760"/>
              <a:ext cx="187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40458c"/>
                  </a:solidFill>
                  <a:latin typeface="Times New Roman"/>
                </a:rPr>
                <a:t>积极语言有：</a:t>
              </a: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554040" y="1125360"/>
            <a:ext cx="740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请你测测自己的责任感水平，从下面的语言中画出你的惯用语。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765440" y="4762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、我就是那样了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14400" y="1447920"/>
            <a:ext cx="64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、问题在于我们选择了什么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49440" y="249228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、他把我气急了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28720" y="335772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、问题在于我们选择了什么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20720" y="422100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、我们可以选择不同的办法。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28720" y="501480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、我只好那样做了。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66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476360" y="141300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、他们是不会同意那样做的。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044720" y="234936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9</a:t>
            </a:r>
            <a:r>
              <a:rPr b="1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、我能控制自己的情感。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03280" y="328464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10</a:t>
            </a:r>
            <a:r>
              <a:rPr b="1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、我现在该做什么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900000" y="422100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11</a:t>
            </a:r>
            <a:r>
              <a:rPr b="1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、要是</a:t>
            </a:r>
            <a:r>
              <a:rPr b="1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··· ···</a:t>
            </a:r>
            <a:r>
              <a:rPr b="1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该多好啊！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47640" y="522936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12</a:t>
            </a:r>
            <a:r>
              <a:rPr b="1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、我可以做得很好。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16000" y="48420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、我可以选择其它的办法。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8964720" cy="64008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447920" y="762120"/>
            <a:ext cx="49244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我就是这样了。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我只好那样做了。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他们是不会同意那样的。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要是……该多好呀。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我没办法。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他把我气急了。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1752480"/>
            <a:ext cx="0" cy="266724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diamond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-72000" y="1295280"/>
            <a:ext cx="13993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</a:rPr>
              <a:t>消极被动的语言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388800" cy="38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684360" y="115920"/>
            <a:ext cx="7561080" cy="5329080"/>
            <a:chOff x="684360" y="115920"/>
            <a:chExt cx="7561080" cy="5329080"/>
          </a:xfrm>
        </p:grpSpPr>
        <p:sp>
          <p:nvSpPr>
            <p:cNvPr id="300" name=""/>
            <p:cNvSpPr/>
            <p:nvPr/>
          </p:nvSpPr>
          <p:spPr>
            <a:xfrm>
              <a:off x="684360" y="115920"/>
              <a:ext cx="7561080" cy="5329080"/>
            </a:xfrm>
            <a:prstGeom prst="blockArc">
              <a:avLst>
                <a:gd name="adj1" fmla="val 7119162"/>
                <a:gd name="adj2" fmla="val 3680838"/>
                <a:gd name="adj3" fmla="val 16926"/>
              </a:avLst>
            </a:prstGeom>
            <a:solidFill>
              <a:srgbClr val="cc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763640" y="393228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请</a:t>
              </a: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32000" y="33638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从</a:t>
              </a: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00000" y="2708280"/>
              <a:ext cx="115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自己</a:t>
              </a: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042920" y="2060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或</a:t>
              </a: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332000" y="1419120"/>
              <a:ext cx="115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身</a:t>
              </a: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484360" y="620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的</a:t>
              </a: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059280" y="476280"/>
              <a:ext cx="86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人</a:t>
              </a: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780000" y="404640"/>
              <a:ext cx="86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中</a:t>
              </a: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572000" y="41112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找</a:t>
              </a: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64000" y="62712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出</a:t>
              </a: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940360" y="90792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惯</a:t>
              </a: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16720" y="126828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用</a:t>
              </a: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48360" y="170028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的</a:t>
              </a: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08720" y="2276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埋</a:t>
              </a: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236000" y="2859120"/>
              <a:ext cx="86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怨</a:t>
              </a: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93080" y="350028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语</a:t>
              </a: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835280" y="843120"/>
              <a:ext cx="115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边</a:t>
              </a: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948360" y="3932280"/>
              <a:ext cx="93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66"/>
                  </a:solidFill>
                  <a:latin typeface="Times New Roman"/>
                </a:rPr>
                <a:t>！</a:t>
              </a:r>
              <a:endParaRPr b="0" lang="en-US" sz="4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 txBox="1"/>
          <p:nvPr/>
        </p:nvSpPr>
        <p:spPr>
          <a:xfrm>
            <a:off x="762120" y="3886200"/>
            <a:ext cx="7848360" cy="233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埋怨如毒瘤，制约着我们的发展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320" name=""/>
          <p:cNvSpPr txBox="1"/>
          <p:nvPr/>
        </p:nvSpPr>
        <p:spPr>
          <a:xfrm rot="493800">
            <a:off x="2773080" y="1915920"/>
            <a:ext cx="331128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宋体"/>
              </a:rPr>
              <a:t>埋怨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pull dir="r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52280" y="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埋怨自己生不逢时，社会竞争太激烈，心理压力太大，没有宽松的学习环境。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9280" y="114300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埋怨父母对自己不理解，期望值过告，也不能给自己什么具体的指导和帮助，或者认为父母素质太低，不能以身作则。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2666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Times New Roman"/>
              </a:rPr>
              <a:t>埋怨老师对自己太苛求，学习负担过重；埋怨老师教学方法死板，不合自己口味，学习生活枯燥单调。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066680" y="47242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……  ……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04920" y="5410080"/>
            <a:ext cx="82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这些埋怨的共同点是</a:t>
            </a: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：</a:t>
            </a:r>
            <a:r>
              <a:rPr b="1" i="1" lang="zh-CN" sz="3600" spc="-1" strike="noStrike">
                <a:solidFill>
                  <a:srgbClr val="ff33cc"/>
                </a:solidFill>
                <a:latin typeface="Times New Roman"/>
              </a:rPr>
              <a:t>将不好的行为归因于外部环境，为自己推卸应负的责任。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3520" y="43434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埋怨是责任感薄弱的表现。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1905120" y="0"/>
            <a:ext cx="4647960" cy="13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25560">
                  <a:solidFill>
                    <a:srgbClr val="00cc66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学做一个有责任感的人</a:t>
            </a:r>
            <a:endParaRPr b="1" lang="en-US" sz="2400" spc="1" strike="noStrike">
              <a:ln w="25560">
                <a:solidFill>
                  <a:srgbClr val="00cc66"/>
                </a:solidFill>
                <a:miter/>
              </a:ln>
              <a:solidFill>
                <a:srgbClr val="ff9933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9" name=""/>
          <p:cNvSpPr/>
          <p:nvPr/>
        </p:nvSpPr>
        <p:spPr>
          <a:xfrm>
            <a:off x="1371600" y="1905120"/>
            <a:ext cx="487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改变自己的语言习惯，多说积极主动的话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95280" y="32767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改变自己的归因方式，不要抱怨无能为力的事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457200" y="4038480"/>
            <a:ext cx="7239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516720" y="476280"/>
            <a:ext cx="2233440" cy="1582560"/>
          </a:xfrm>
          <a:custGeom>
            <a:avLst/>
            <a:gdLst>
              <a:gd name="textAreaLeft" fmla="*/ 509760 w 2233440"/>
              <a:gd name="textAreaRight" fmla="*/ 1723680 w 2233440"/>
              <a:gd name="textAreaTop" fmla="*/ 361080 h 1582560"/>
              <a:gd name="textAreaBottom" fmla="*/ 1221480 h 1582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Arial"/>
                <a:ea typeface="华文行楷"/>
              </a:rPr>
              <a:t>测一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Arial"/>
                <a:ea typeface="华文行楷"/>
              </a:rPr>
              <a:t>测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1447560" cy="14763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539640" y="266688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你是一个有责任感的人吗？那么首先得看看你的意志力如何，意志力不强的人是不会有太高的责任感的，准备好了吗，跟我来，我们来测一测你的意志力如何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679560" y="568440"/>
            <a:ext cx="8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思考：我是一个有责任感的人吗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4935600"/>
            <a:ext cx="2819520" cy="19224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04920" y="304920"/>
            <a:ext cx="8130960" cy="49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Monotype Corsiva"/>
              </a:rPr>
              <a:t>Happy New Year!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Monotype Corsiva"/>
              </a:rPr>
              <a:t>Study hard, make progress every day.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Monotype Corsiva"/>
              </a:rPr>
              <a:t>Being admitted to an ideal university is not a dream for us.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Monotype Corsiva"/>
              </a:rPr>
              <a:t>Have confidence in ourselves and we’ll succeed!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895480" y="4648320"/>
            <a:ext cx="3886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What’s your aim?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952880" y="304920"/>
            <a:ext cx="351468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Symbol"/>
              </a:rPr>
              <a:t>Happy New Year!</a:t>
            </a:r>
            <a:endParaRPr b="1" i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Symbol"/>
              <a:ea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cc"/>
            </a:gs>
            <a:gs pos="5000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7620120" y="0"/>
            <a:ext cx="1187280" cy="5814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imes New Roman"/>
              </a:rPr>
              <a:t>测一测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8380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40458c"/>
                </a:solidFill>
                <a:latin typeface="宋体"/>
              </a:rPr>
              <a:t>、早上闹钟准时闹醒你，你常常能马上起床。        是   否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1676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40458c"/>
                </a:solidFill>
                <a:latin typeface="宋体"/>
              </a:rPr>
              <a:t>、你正努力储钱准备买个礼物送给亲人，但你看到一家店铺有件你非常喜欢的东西，你抗拒不了诱惑，改变自己的计划，马上买下。   是   否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327672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40458c"/>
                </a:solidFill>
                <a:latin typeface="宋体"/>
              </a:rPr>
              <a:t>、自己的衣服自己洗，不麻烦别人。是   否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38862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40458c"/>
                </a:solidFill>
                <a:latin typeface="宋体"/>
              </a:rPr>
              <a:t>、放假期间，作业常常拖到最后几天才潦草完事。    是   否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48006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40458c"/>
                </a:solidFill>
                <a:latin typeface="宋体"/>
              </a:rPr>
              <a:t>、老师的作业，一般能及时完成。                    是   否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579132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40458c"/>
                </a:solidFill>
                <a:latin typeface="宋体"/>
              </a:rPr>
              <a:t>、因为沉迷电视或游戏，常常打乱自己的学习计划。  是   否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52280" y="152280"/>
            <a:ext cx="5486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测测你的责任感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pull dir="l"/>
    <p:sndAc>
      <p:stSnd>
        <p:snd r:embed="rId2" name="camera.wav"/>
      </p:stSnd>
    </p:sndAc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7596360" y="404640"/>
            <a:ext cx="1187280" cy="5814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imes New Roman"/>
              </a:rPr>
              <a:t>测一测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7621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40458c"/>
                </a:solidFill>
                <a:latin typeface="宋体"/>
              </a:rPr>
              <a:t>、做眼保健操时，每个动作我都一丝不苟地做， 决不偷懒 。是   否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17524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40458c"/>
                </a:solidFill>
                <a:latin typeface="宋体"/>
              </a:rPr>
              <a:t>、医生建议你多做运动，你往往坚持几天就停下来。  是   否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26668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宋体"/>
              </a:rPr>
              <a:t>9</a:t>
            </a:r>
            <a:r>
              <a:rPr b="1" lang="zh-CN" sz="3200" spc="-1" strike="noStrike">
                <a:solidFill>
                  <a:srgbClr val="40458c"/>
                </a:solidFill>
                <a:latin typeface="宋体"/>
              </a:rPr>
              <a:t>、我从不抄别人的作业，自己独立思考，认真完成。  是   否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3733920"/>
            <a:ext cx="8839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40458c"/>
                </a:solidFill>
                <a:latin typeface="宋体"/>
              </a:rPr>
              <a:t>、我得罪了同学或他人，本应认错或道歉，可我往往是一拖再拖，结果朋友疏远了我。是  否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4648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宋体"/>
              </a:rPr>
              <a:t>11</a:t>
            </a:r>
            <a:r>
              <a:rPr b="1" lang="zh-CN" sz="3200" spc="-1" strike="noStrike">
                <a:solidFill>
                  <a:srgbClr val="40458c"/>
                </a:solidFill>
                <a:latin typeface="宋体"/>
              </a:rPr>
              <a:t>、学校倡议的捐款、捐物活动，尽我所能，积极参加。是   否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5594400"/>
            <a:ext cx="883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40458c"/>
                </a:solidFill>
                <a:latin typeface="宋体"/>
              </a:rPr>
              <a:t>、你正在朋友家中，茶几上放着几盒诱人的巧克力，但你的朋友无意给你吃，你会忍不住自个儿吃起来。        是   否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52280" y="152280"/>
            <a:ext cx="5486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测测你的责任感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pull dir="l"/>
    <p:sndAc>
      <p:stSnd>
        <p:snd r:embed="rId2" name="camera.wav"/>
      </p:stSnd>
    </p:sndAc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0" y="228600"/>
            <a:ext cx="8001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40458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评分参考：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黑体"/>
                <a:ea typeface="黑体"/>
              </a:rPr>
              <a:t>一、</a:t>
            </a:r>
            <a:r>
              <a:rPr b="1" lang="zh-CN" sz="3600" spc="-1" strike="noStrike">
                <a:solidFill>
                  <a:srgbClr val="40458c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40458c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40458c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40458c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40458c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40458c"/>
                </a:solidFill>
                <a:latin typeface="黑体"/>
                <a:ea typeface="黑体"/>
              </a:rPr>
              <a:t>、……</a:t>
            </a:r>
            <a:r>
              <a:rPr b="1" lang="zh-CN" sz="3600" spc="-1" strike="noStrike">
                <a:solidFill>
                  <a:srgbClr val="40458c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40458c"/>
                </a:solidFill>
                <a:latin typeface="黑体"/>
                <a:ea typeface="黑体"/>
              </a:rPr>
              <a:t>单数题，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40458c"/>
                </a:solidFill>
                <a:latin typeface="黑体"/>
                <a:ea typeface="黑体"/>
              </a:rPr>
              <a:t>选“是”得</a:t>
            </a:r>
            <a:r>
              <a:rPr b="1" lang="zh-CN" sz="3600" spc="-1" strike="noStrike">
                <a:solidFill>
                  <a:srgbClr val="40458c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40458c"/>
                </a:solidFill>
                <a:latin typeface="黑体"/>
                <a:ea typeface="黑体"/>
              </a:rPr>
              <a:t>分，选“否”不得分。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62120" y="2735280"/>
            <a:ext cx="7238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449568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二、</a:t>
            </a: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、……</a:t>
            </a: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双数题，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选“是”不得分，选“否”得</a:t>
            </a: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分。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2120" y="30481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我们要树立强烈的责任感，必须克服懒惰心理，形成坚强的意志力。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cover dir="d"/>
    <p:sndAc>
      <p:stSnd>
        <p:snd r:embed="rId1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cc"/>
            </a:gs>
            <a:gs pos="5000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62120" y="2735280"/>
            <a:ext cx="7238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228600"/>
            <a:ext cx="914400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三、</a:t>
            </a: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20~24</a:t>
            </a: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分为优秀，这个分数段的人很勤奋。毅力很顽强。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16~18</a:t>
            </a: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分为良好，这个分数段的人比较勤奋。毅力较顽强。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10~14</a:t>
            </a: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分为一般，这个分数段的人有一定的懒惰心理。坚持性较差。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0~8 </a:t>
            </a: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分为很差，这类人懒惰心理很严重，做事往往半途而废坚持到底的能   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力较差，应努力克服之。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cover dir="d"/>
    <p:sndAc>
      <p:stSnd>
        <p:snd r:embed="rId1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30492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40458c"/>
                </a:solidFill>
                <a:latin typeface="Arial"/>
              </a:rPr>
              <a:t>雷锋说过：一个人只有他把自己和集体事业融合在一起的时候，才能有力量。他把自己比作是一颗永不生锈的螺丝钉，使自己永远不远离集体之外，在祖国需要的每一个工作岗位都发光发热，雷锋的话和他一生的行动，都深刻地揭示了个人与集体的关系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集体是由个人组成的，而每一个人都离不开集体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295280" y="5943600"/>
            <a:ext cx="5486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40458c"/>
                  </a:solidFill>
                  <a:miter/>
                </a:ln>
                <a:gradFill rotWithShape="0">
                  <a:gsLst>
                    <a:gs pos="0">
                      <a:srgbClr val="99ff99"/>
                    </a:gs>
                    <a:gs pos="100000">
                      <a:srgbClr val="ffff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对集体负责就是对自己负责</a:t>
            </a:r>
            <a:endParaRPr b="0" lang="en-US" sz="2400" spc="1" strike="noStrike">
              <a:ln w="19080">
                <a:solidFill>
                  <a:srgbClr val="40458c"/>
                </a:solidFill>
                <a:miter/>
              </a:ln>
              <a:gradFill rotWithShape="0">
                <a:gsLst>
                  <a:gs pos="0">
                    <a:srgbClr val="99ff99"/>
                  </a:gs>
                  <a:gs pos="100000">
                    <a:srgbClr val="ffff9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250920" y="404640"/>
            <a:ext cx="3384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66ff99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各抒己见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66ff99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3610080" cy="50673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1480680" y="1700280"/>
            <a:ext cx="6069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我来说一说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733920" y="3352680"/>
            <a:ext cx="51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作为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世纪的我们，肩负着重大的责任，那么，我们应该怎么做呢？请大家各抒己见，谈谈你的看法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564000" y="76500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对于同学们来说，我们的班级就是大家的一个大集体，作为这个集体中的一员，我们应该如何为这个集体做出你的一份贡献呢？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1295280" y="838080"/>
            <a:ext cx="65534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我们周围有很多很有责任感的同学，</a:t>
            </a:r>
            <a:endParaRPr b="0" lang="en-US" sz="32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2057400" y="5334120"/>
            <a:ext cx="48006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请选出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8</a:t>
            </a: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位这样的同学。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1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468360" y="685800"/>
            <a:ext cx="7467480" cy="61722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32756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622840" y="24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736640" y="1620720"/>
            <a:ext cx="6340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0160" y="990720"/>
            <a:ext cx="89438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ahoma"/>
                <a:ea typeface="隶书"/>
              </a:rPr>
              <a:t>时间用忙碌拒绝蹉跎，角色让拼搏获取成功！岁月用繁茂拒绝荒芜，责任让耕耘承纳收获！</a:t>
            </a:r>
            <a:endParaRPr b="0" lang="en-US" sz="6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81280" cy="342900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6172200" y="0"/>
            <a:ext cx="2971800" cy="25304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152280" y="1295280"/>
            <a:ext cx="899172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ahoma"/>
                <a:ea typeface="华文彩云"/>
              </a:rPr>
              <a:t>     </a:t>
            </a:r>
            <a:r>
              <a:rPr b="1" lang="zh-CN" sz="6000" spc="-1" strike="noStrike">
                <a:solidFill>
                  <a:srgbClr val="ff0000"/>
                </a:solidFill>
                <a:latin typeface="Tahoma"/>
                <a:ea typeface="华文彩云"/>
              </a:rPr>
              <a:t>让我们扮演好自己的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ahoma"/>
                <a:ea typeface="华文彩云"/>
              </a:rPr>
              <a:t>角色，担负起生命的责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ahoma"/>
                <a:ea typeface="华文彩云"/>
              </a:rPr>
              <a:t>任，去拥抱壮丽的未来。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400800" y="46483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700360" cy="2340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0" y="2637000"/>
            <a:ext cx="2773440" cy="42210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2771640" y="0"/>
            <a:ext cx="3313080" cy="45813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6012000" y="0"/>
            <a:ext cx="3132000" cy="45813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2843280" y="530064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2b2b2"/>
                </a:solidFill>
                <a:latin typeface="Times New Roman"/>
              </a:rPr>
              <a:t>你能介绍一下他们 吗？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228600" y="152280"/>
            <a:ext cx="5495760" cy="10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活动一：小组讨论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250920" y="1557360"/>
            <a:ext cx="2501640" cy="35272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895480" y="1295280"/>
            <a:ext cx="5834160" cy="2438640"/>
          </a:xfrm>
          <a:prstGeom prst="wedgeRoundRectCallout">
            <a:avLst>
              <a:gd name="adj1" fmla="val -52287"/>
              <a:gd name="adj2" fmla="val 103189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59280" y="155736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imes New Roman"/>
              </a:rPr>
              <a:t>演员在不同的电影、电视剧中认真地扮演不同的角色，那么你们知道在现实生活中，他们又扮演着怎样的角色呢？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5118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58c"/>
                </a:solidFill>
                <a:latin typeface="Times New Roman"/>
              </a:rPr>
              <a:t>要求：以四人为一个小组，每个小组选择一个本组       同学都熟悉的演员进行分析，然后派代表回答。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250920" y="0"/>
            <a:ext cx="288108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活动二：我的角色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7" name=""/>
          <p:cNvSpPr/>
          <p:nvPr/>
        </p:nvSpPr>
        <p:spPr>
          <a:xfrm>
            <a:off x="684360" y="1484280"/>
            <a:ext cx="7543800" cy="32004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3276720" y="2260440"/>
            <a:ext cx="2514600" cy="16002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4038480" y="134604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165096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67480" y="279396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324480" y="401328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447048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52480" y="416556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3880" y="165096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294624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13320" y="4941720"/>
            <a:ext cx="353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58c"/>
                </a:solidFill>
                <a:latin typeface="Times New Roman"/>
              </a:rPr>
              <a:t>你能说出你过去、现在和将来扮演或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58c"/>
                </a:solidFill>
                <a:latin typeface="Times New Roman"/>
              </a:rPr>
              <a:t>可能扮演的社会角色吗？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09480" y="1447920"/>
            <a:ext cx="7543800" cy="32004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201840" y="2246400"/>
            <a:ext cx="2514600" cy="16002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963960" y="13320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汉族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7680" y="163656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科学家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2960" y="277956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顾客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249960" y="399888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志愿者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63960" y="445608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乘客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77960" y="415116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学生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49360" y="163656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中国公民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2514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女儿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057040" y="508464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在这些社会角色中，哪些是先天就有的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哪些是社会安排的？哪些是期望扮演的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91440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ahoma"/>
                <a:ea typeface="方正舒体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Tahoma"/>
                <a:ea typeface="方正舒体"/>
              </a:rPr>
              <a:t>人的一生在扮演不同的角色，而不同的角色要担负不同的责任，所以说人的一生是责任的一生。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ahoma"/>
                <a:ea typeface="方正舒体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Tahoma"/>
                <a:ea typeface="方正舒体"/>
              </a:rPr>
              <a:t>没了角色，生命就失去了重心。没了责任，角色变得萎靡不振，找不到人生的航标。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50920" y="0"/>
            <a:ext cx="3352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请记住：</a:t>
            </a:r>
            <a:endParaRPr b="0" lang="en-US" sz="6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pull dir="r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77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770" fill="hold"/>
                                        <p:tgtEl>
                                          <p:spTgt spid="2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11280" y="404640"/>
            <a:ext cx="8532720" cy="5113440"/>
          </a:xfrm>
          <a:prstGeom prst="cloudCallout">
            <a:avLst>
              <a:gd name="adj1" fmla="val -19041"/>
              <a:gd name="adj2" fmla="val 7958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00200" y="1125360"/>
            <a:ext cx="640080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40458c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40458c"/>
                </a:solidFill>
                <a:latin typeface="Times New Roman"/>
              </a:rPr>
              <a:t>世纪初，美国意大利移民弗兰克开办了一家银，生意兴隆。不幸的是，银行遭强盗抢劫，万贯家财顷刻化为乌有，还欠下顾客巨额债务。从此他和他的家人便开始了艰辛的生活，</a:t>
            </a:r>
            <a:r>
              <a:rPr b="1" lang="zh-CN" sz="3200" spc="-1" strike="noStrike">
                <a:solidFill>
                  <a:srgbClr val="40458c"/>
                </a:solidFill>
                <a:latin typeface="Times New Roman"/>
              </a:rPr>
              <a:t>39</a:t>
            </a:r>
            <a:r>
              <a:rPr b="1" lang="zh-CN" sz="3200" spc="-1" strike="noStrike">
                <a:solidFill>
                  <a:srgbClr val="40458c"/>
                </a:solidFill>
                <a:latin typeface="Times New Roman"/>
              </a:rPr>
              <a:t>年后，他虽然还一贫如洗，却非常欣慰，他已经偿还了他的所有债务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2514600" cy="19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小故事</a:t>
            </a:r>
            <a:endParaRPr b="0" lang="en-US" sz="6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0" y="0"/>
            <a:ext cx="2484360" cy="20606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2801880" y="91440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40458c"/>
                </a:solidFill>
                <a:latin typeface="Times New Roman"/>
              </a:rPr>
              <a:t>弗兰克该负责任的吗？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81080" y="2362320"/>
            <a:ext cx="773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58c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40458c"/>
                </a:solidFill>
                <a:latin typeface="Times New Roman"/>
              </a:rPr>
              <a:t>、弗兰克为什么要这么做？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65120" y="38098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58c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40458c"/>
                </a:solidFill>
                <a:latin typeface="Times New Roman"/>
              </a:rPr>
              <a:t>、如果你是弗兰克你会怎么做？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12800" y="52578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58c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40458c"/>
                </a:solidFill>
                <a:latin typeface="Times New Roman"/>
              </a:rPr>
              <a:t>、你认为大部分青年会怎么做？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413000" y="2514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2268360" y="990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755640" y="3886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>
            <a:off x="179280" y="5257800"/>
            <a:ext cx="457200" cy="457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00:20:46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27:22Z</dcterms:modified>
  <cp:revision>87</cp:revision>
  <dc:subject>主题班会课件(分28大类): http://shop62905894.taobao.com</dc:subject>
  <dc:title>主题班会课件(分28大类): http://shop62905894.taobao.com</dc:title>
</cp:coreProperties>
</file>