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6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46F-3568-4E5C-BC41-F4D7C14F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2DA-1226-4884-86DC-AEFAA31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028-83C1-4BB3-92C1-78276B71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862-BADA-4B10-9B45-08A3A26C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02E-F9A9-45F9-AFC0-58E57743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E59-8EDA-4F3D-9E0A-5BD1DE0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F3D-8B91-4CE5-8AC7-3451921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62D-70EC-43F0-989A-C1C84B8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030-4FEE-45A8-98C6-1F1F94E5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466-7AD1-4BEE-BD17-5EF710B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637-0348-46CC-9F46-C540DB1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4AD-AAF7-474D-9BC9-1C3535A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6BB-100C-4A56-86A9-E6954B0513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6858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向左走，向右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21337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良好责任心的培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做一个有责任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89692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午放学，同学相约小明去看球，可是小明是值日生，到底是去看球还是做值日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60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三幕：值日事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拍 摄 现 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3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92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做完值日再去看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3860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去看球，反正少我一个也无所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刚才我们在片场看到的《小明的一天》，我想大家都会发现，这就是发生在我们身边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84920" y="3270240"/>
            <a:ext cx="17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很小，道理却深。每一次行为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不同的选择，都会导致不同的行为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1760" y="4508640"/>
            <a:ext cx="4810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孰是孰非？我想大家心中都会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自己的判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播 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2280" y="2332080"/>
            <a:ext cx="8686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信念播种下去，收获的将是一个行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5640" y="3068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行动播种下去，收获的将是一个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5640" y="3860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习惯播种下去，收获的将是一种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30040" y="4653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性格关系到一个人的命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344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了责任心的性格，就会收获金色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1800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692360" y="1268280"/>
            <a:ext cx="590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e end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当我们站在一个路口上，我们都要做出选择——向左走，还是向右走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360" y="321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校园生活也同样如此，我们时时刻刻都处在选择的十字路口上，那么如何选择才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培养我们的责任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229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是我们每个人都必须面对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8002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面让我们来看一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《小明的一天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62240" cy="105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集体荣誉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清晨上学，忘了戴胸卡，被值周生拦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76360" y="26028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一幕：上学两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2679840"/>
            <a:ext cx="6842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跑回家拿胸卡，迟到了也好解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88960" y="4292640"/>
            <a:ext cx="106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硬闯进去，争取蒙混过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分寸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习时间，同学欲与小明讨论问题，是讨论问题，还是力劝同学遵守纪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189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二幕：课堂纠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该如何做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920" y="2679840"/>
            <a:ext cx="7058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上课不说闲话，以免影响其他同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4040" y="422100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讨论很正常，真的不会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4:36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1:46Z</dcterms:modified>
  <cp:revision>45</cp:revision>
  <dc:subject>主题班会课件(分28大类): http://shop62905894.taobao.com</dc:subject>
  <dc:title>主题班会课件(分28大类): http://shop62905894.taobao.com</dc:title>
</cp:coreProperties>
</file>