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gif" ContentType="image/gif"/>
  <Override PartName="/ppt/media/image16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8.gif" ContentType="image/gif"/>
  <Override PartName="/ppt/media/image6.gif" ContentType="image/gif"/>
  <Override PartName="/ppt/media/image15.gif" ContentType="image/gi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83F5-3989-4CF3-A087-1489F61D5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82D6-80BF-4032-96AB-6CB7835A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E983-2B5A-4B55-9032-91F1E90D9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63AD-9C8D-474D-91B3-090210E80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5E85-C1E7-4EE4-BB09-C91EE39D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8AEC-8804-4F51-88B6-0EC570F8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143F-541B-4BAF-A604-6BEC6DB6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BEA4-D871-4BD4-82B4-F7E1BD9D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EC17-14D5-4C3F-9375-53F70B73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B781-091A-4F8B-96B1-B756EBCD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3FDE-0BAF-4DD1-943B-4028CC68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CDEC-158B-48B6-86C0-A276109E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ADE0-3F81-4CC8-9C13-1F6CF5658D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28800" y="685800"/>
            <a:ext cx="5410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向左走，向右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14600" y="2133720"/>
            <a:ext cx="53341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良好责任心的培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3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做一个有责任感的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896920"/>
            <a:ext cx="8229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午放学，同学相约小明去看球，可是小明是值日生，到底是去看球还是做值日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260280"/>
            <a:ext cx="59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第三幕：值日事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2120" y="518148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华文行楷"/>
              </a:rPr>
              <a:t>拍 摄 现 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560" y="1341000"/>
            <a:ext cx="536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华文行楷"/>
              </a:rPr>
              <a:t>该如何做</a:t>
            </a:r>
            <a:r>
              <a:rPr b="0" lang="zh-CN" sz="5400" spc="-1" strike="noStrike">
                <a:solidFill>
                  <a:srgbClr val="0000ff"/>
                </a:solidFill>
                <a:latin typeface="华文行楷"/>
                <a:ea typeface="华文行楷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292392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先做完值日再去看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42920" y="3860640"/>
            <a:ext cx="70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去看球，反正少我一个也无所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5280" y="765000"/>
            <a:ext cx="5689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Free Talk!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刚才我们在片场看到的《小明的一天》，我想大家都会发现，这就是发生在我们身边的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84920" y="3270240"/>
            <a:ext cx="171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事情很小，道理却深。每一次行为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不同的选择，都会导致不同的行为结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01760" y="4508640"/>
            <a:ext cx="48103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么孰是孰非？我想大家心中都会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自己的判断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播 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22280" y="2332080"/>
            <a:ext cx="868680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一个信念播种下去，收获的将是一个行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85640" y="306864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一个行动播种下去，收获的将是一个习惯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085640" y="386064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一个习惯播种下去，收获的将是一种性格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30040" y="465300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种性格关系到一个人的命运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93440" y="5300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具有了责任心的性格，就会收获金色的人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076720" y="189000"/>
            <a:ext cx="180036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65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692360" y="1268280"/>
            <a:ext cx="5904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The end!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每当我们站在一个路口上，我们都要做出选择——向左走，还是向右走。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36360" y="3213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校园生活也同样如此，我们时时刻刻都处在选择的十字路口上，那么如何选择才能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培养我们的责任心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522936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这是我们每个人都必须面对的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09480" y="2514600"/>
            <a:ext cx="8002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面让我们来看一下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《小明的一天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13622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做一个有集体荣誉感的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27810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明清晨上学，忘了戴胸卡，被值周生拦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62120" y="518148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476360" y="260280"/>
            <a:ext cx="629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第一幕：上学两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064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华文行楷"/>
              </a:rPr>
              <a:t>该如何做</a:t>
            </a:r>
            <a:r>
              <a:rPr b="0" lang="zh-CN" sz="5400" spc="-1" strike="noStrike">
                <a:solidFill>
                  <a:srgbClr val="0000ff"/>
                </a:solidFill>
                <a:latin typeface="华文行楷"/>
                <a:ea typeface="华文行楷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58920" y="2679840"/>
            <a:ext cx="684216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跑回家拿胸卡，迟到了也好解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88960" y="4292640"/>
            <a:ext cx="106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硬闯进去，争取蒙混过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064280" y="0"/>
            <a:ext cx="2079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835280" y="765000"/>
            <a:ext cx="5689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Free Talk!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做一个有分寸的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609640"/>
            <a:ext cx="8229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习时间，同学欲与小明讨论问题，是讨论问题，还是力劝同学遵守纪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62120" y="518148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187280" y="189000"/>
            <a:ext cx="59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第二幕：课堂纠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064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该如何做</a:t>
            </a:r>
            <a:r>
              <a:rPr b="0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42920" y="2679840"/>
            <a:ext cx="705816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坚持上课不说闲话，以免影响其他同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4040" y="4221000"/>
            <a:ext cx="116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B.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讨论很正常，真的不会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003640" y="836640"/>
            <a:ext cx="10382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835280" y="765000"/>
            <a:ext cx="5689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Free Talk!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04:36:4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37:54Z</dcterms:modified>
  <cp:revision>1</cp:revision>
  <dc:subject>主题班会课件(分28大类): http://shop62905894.taobao.com</dc:subject>
  <dc:title>主题班会课件(分28大类): http://shop62905894.taobao.com</dc:title>
</cp:coreProperties>
</file>