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26B-0BFD-4D57-BDB2-64D9EB58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3DB-AC21-4094-8801-8B27B85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610-ACCC-439A-9C4A-D716FD62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ED1-0DBC-403F-A70C-820037E5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0FB8-8752-4953-93D8-BF0E81DD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E7CF-90A2-4AD0-B30D-A53720E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2D24-CC4F-4CB9-8562-8567B1ED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2398-E4BB-45B6-B3C7-1198951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878B-8588-4422-BEAD-97A22DF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4488-14C3-4DC5-A4F2-4C381D2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1F09-E1D8-401B-8D74-7FF2DD1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CB6-FA39-4AD4-A786-DF84AC04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9D6-AA0B-4A3A-9219-CC777EE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201E-4FB1-4726-9BB6-2CC6246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B5FA-151D-4A3E-A9A5-846AD138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846-FE23-4B4E-A5C5-FA170978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B79-9776-4593-91D1-D2CACFF0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260F-DF49-480C-94AE-7FE487AE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44DE-C844-480E-A4B4-4C49EF20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1A30-ECB6-4594-9E90-ECF2EF75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375E-4343-4185-8AC9-8332971B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7FD6-B212-44A6-9FDD-24A6AD8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0F5-0609-4A89-96A6-434B9BF0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1EB1C-DF20-4042-A2DF-881D46D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69B00-3D73-4011-855C-0951DDE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E5A4-717E-4D2B-93A7-8923605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8595-34CB-44ED-B5E1-917D000A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477C-83B4-45A3-9AE0-E0CDF12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7CE5-C859-4F99-A56C-866B07DD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D4AB-FED9-48F4-9D45-86215C17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4E2E-DFEA-41F0-808C-55805958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2F89-595C-4130-869F-195BEC8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4ED2-07FB-4D94-B888-5E3B90DF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332-384A-4C4F-9025-2133B6A1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A7CA-2A1A-4C30-B3D2-E9A3D3AB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B24C-70C7-4ED5-8BE8-FE266CA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99B1-4DAE-43C7-BFA7-121762C5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1DBF-42D5-4026-B078-338C114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3422-B4E6-422B-A002-ACC97E5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4C74-5C2C-49E2-887B-A59D67F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5552-BA85-4BB0-BCA1-6D6B73F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87D4-9B00-4C28-A630-0CA29C7E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726A4-2E73-4115-8AC0-303718B8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41A6-C7F0-40A5-88F5-119C62CA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6FC-F811-4709-9D8D-575C058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214B-4667-4779-A301-3E0A252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EFD4-A410-4E77-AABB-62095A5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F870E-8546-455A-BA98-CFA4917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16EA-E98F-4057-9EA0-9FDCBE1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4534-EE88-400B-8AAD-03DDFB0C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D569-09E8-4627-B575-C57ABEFD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3E31-F150-47F0-890A-DA02D2C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F3AB-02CE-40C3-A3AC-B4AC0FE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0379-C80D-4FED-9E19-A889FD78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7061-7CB3-4496-B3A8-21B15A77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D5A-63D2-4C04-A8AD-82C273D9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D5E4-5335-48EA-9654-35A62B95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0020-FBB4-43AD-96C7-06C2AB33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2361D-BBA2-4758-BE30-4D79926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93D5E-7633-44D6-BBEA-7FD67F0C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7D1E-B594-4042-9F15-4D92F50D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FFD9E-6549-4207-B578-0B79289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C7A7-22B2-491D-B936-817186F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DBD8-607B-49DD-A21B-66C96144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0A1B6-6DC4-47D5-A62A-01E622B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2DAE-372D-4DC4-8C35-269F2D2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F0B-38C4-4B10-A554-56BAEAC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4AF19-59F9-4122-B732-49BC52C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89B0-332B-4EE7-8980-C990BD01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5F1E-EE16-42FC-B3B8-DD252AA5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82C-A726-403C-9BDF-BA4D989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C48-45DE-4883-8949-B8F780B3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B4CF-4E37-4C6C-9E28-6B0FCB885A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9C4-531A-476D-9A01-06BBCE856E5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4797-B711-4013-81E0-FED6281D88A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078B-77A5-46C9-AF38-7DB1930988A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5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978-1F6A-40C6-AB8D-96E2D1FC68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461-A585-4030-913C-0C429BF31F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5800" y="533412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 rot="5400000">
            <a:off x="3177360" y="1358640"/>
            <a:ext cx="7620120" cy="2400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              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性格决定命运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        </a:t>
            </a: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习惯决定性格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行为决定习惯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264360" cy="4376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 rot="5400000">
            <a:off x="-1124640" y="2716920"/>
            <a:ext cx="352764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481800" cy="5050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 rot="5400000">
            <a:off x="-693000" y="264528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90000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联系实际列举我们生活中一些不文明的例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60360" y="54936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都来说两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277040" y="4363920"/>
            <a:ext cx="1866960" cy="2494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518200" y="11732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乱抛垃圾倒污水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7640" y="1700280"/>
            <a:ext cx="487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的人将生活垃圾和污水不按照规定的地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进行处理，随便乱扔乱倒；有的人从自家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或窗户直接将垃圾抛到楼下；有的人从汽车内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皮、纸屑、烟头等扔到车外；还有的人外出游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用过的东西随手乱扔。这些现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增加了环卫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人的劳动量，给路人带来了危险，同时也会破坏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围的环境，对河流、土壤等都造成严重污染；长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堆积的垃圾和存留的污水还会腐烂变臭，使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致病菌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55640" y="1890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74040" y="11685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随地吐痰擤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30560" y="1773360"/>
            <a:ext cx="487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生活中经常可以看到一些人走在大街上或在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，一声咳嗽后一口浓痰飞射而出，随后用鞋一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事；一些人在公共场所毫无顾忌地用手指挖鼻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擤鼻涕，甚至将污物到处乱抹，用刚挖过鼻孔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他人接触或直接拿东西。痰和鼻涕是呼吸道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泌物，研究表明，一口痰中会“驻扎”着成千上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菌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患传染性非典型肺炎、肺结核、流行性感冒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霍乱、麻疹等疾病的患者，其痰中的致病微生物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发到空气中，可使健康人通过呼吸这些带有病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空气而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19000" y="1890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28960" y="2076480"/>
            <a:ext cx="506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常生活中，有些人吃东西和饮水前后、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后、接触不洁物品、打扫卫生、接触钱币、户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、购物后不爱洗手。尽管“饭前便后要洗手”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从口入”的道理人人皆知，但并不是每个人都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遵守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洗手是预防呼吸道传染病和食源性传染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重要措施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同时，不勤洗澡和不常换衣，也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引起皮肤的炎症，降低机体的抵抗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96520" y="1260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３、饭前便后懒洗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19000" y="25092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358360" y="140976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大声喧哗、干扰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2349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许多人在公共汽车、火车、飞机以及车站、机场、医院、餐厅等公共场所，高谈阔论、口若悬河，或者大声叫喊他人，与他人争论，根本无视他人的反应。这些行为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严重地破坏了他人和谐的工作和生活环境，是一种不尊重他人和不礼貌的行为，也是个人素质修养不高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19000" y="322200"/>
            <a:ext cx="5121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最令人深恶痛绝的生活陋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学生活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组讨论，每组至少列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文明规范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55640" y="26208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文明行为规范知多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 rot="21037200">
            <a:off x="6732720" y="472392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 rot="16200000">
            <a:off x="4574160" y="2345040"/>
            <a:ext cx="472428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14240" y="260280"/>
            <a:ext cx="378648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彩云"/>
              </a:rPr>
              <a:t>中学生校园礼仪规范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396" name=""/>
          <p:cNvSpPr/>
          <p:nvPr/>
        </p:nvSpPr>
        <p:spPr>
          <a:xfrm>
            <a:off x="2873160" y="3414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24320" y="4076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24320" y="4781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324320" y="55738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1527120"/>
            <a:ext cx="895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言语要文明，见面问声好。友善共相处热情礼相待。 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714240" y="260280"/>
            <a:ext cx="378648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华文彩云"/>
              </a:rPr>
              <a:t>中学生校园礼仪规范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02" name=""/>
          <p:cNvSpPr/>
          <p:nvPr/>
        </p:nvSpPr>
        <p:spPr>
          <a:xfrm>
            <a:off x="4230720" y="17589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30720" y="24922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3072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９、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45480" y="3141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进出校门，主动下车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36200" y="45655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０、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0" t="0" r="23" b="-14"/>
          <a:stretch/>
        </p:blipFill>
        <p:spPr>
          <a:xfrm>
            <a:off x="7034040" y="3284640"/>
            <a:ext cx="1859040" cy="3024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3670200" cy="62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Xiaoxiao de w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212256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天地间走来了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要问我姓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哦叫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山间一滴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生命的浪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地上一棵小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生命的绿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投入急流就是大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拥抱大地就是春之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465800" y="549360"/>
            <a:ext cx="39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天地间走来了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要问我姓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哦叫什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山间一缕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能燃起一团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我是地上一多小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也有春天的颜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全部的爱献给祖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小的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谱写一首爱之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0" y="4653000"/>
            <a:ext cx="396072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小小的我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543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456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74456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260360" y="1413000"/>
            <a:ext cx="54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初次见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客人到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好久不见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欢迎购物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求人解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赞人见解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请人帮助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谦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麻烦别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与人分手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02000" y="134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3072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5692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久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0380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光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5692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45120" y="350028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高见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826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多关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10360" y="44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不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10000" y="47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拜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再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71640" y="189000"/>
            <a:ext cx="439236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常用文明礼貌用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944360" y="213372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3236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05680" y="2709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77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0172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328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0172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2828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8136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636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73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7484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36080" y="148428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42920" y="333360"/>
            <a:ext cx="43927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常用文明礼貌用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024360" cy="2244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284200" cy="2448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1730520" cy="2232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rcRect l="0" t="0" r="0" b="-73"/>
          <a:stretch/>
        </p:blipFill>
        <p:spPr>
          <a:xfrm>
            <a:off x="5651640" y="404640"/>
            <a:ext cx="1911240" cy="25196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1619280" y="2852640"/>
            <a:ext cx="5657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魏碑简"/>
              </a:rPr>
              <a:t>告别陋习，走向文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魏碑简"/>
              <a:ea typeface="汉仪魏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1d4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2000" y="2492280"/>
            <a:ext cx="6622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方正舒体"/>
              </a:rPr>
              <a:t>告别陋习，走向文明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067280" y="4438800"/>
            <a:ext cx="3960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姚体"/>
              </a:rPr>
              <a:t>---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姚体"/>
              </a:rPr>
              <a:t>培养良好文明习惯主题班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或许我们认为某些事情已是司空见惯的，已是熟视无睹了，甚至麻木了。可是只要仔细想想，就会发现这些事里有着许多与文明不合拍的东西。文明，就差这一点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3672000" cy="2494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311280" cy="2430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692360" y="1170000"/>
            <a:ext cx="2868480" cy="21877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003640" y="1197000"/>
            <a:ext cx="3168720" cy="2160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 rot="5400000">
            <a:off x="-747720" y="2070000"/>
            <a:ext cx="324036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028880" y="476280"/>
            <a:ext cx="6711840" cy="5373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 rot="5400000">
            <a:off x="-1053360" y="350892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6193080" cy="4943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 rot="5400000">
            <a:off x="-837360" y="3222000"/>
            <a:ext cx="352728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696000" cy="5163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 rot="5400000">
            <a:off x="-1269360" y="3582000"/>
            <a:ext cx="352728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048360" cy="4299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 rot="5400000">
            <a:off x="-837360" y="3077280"/>
            <a:ext cx="3527640" cy="63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华文行楷"/>
              </a:rPr>
              <a:t>陋习集中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0:00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7:32Z</dcterms:modified>
  <cp:revision>1</cp:revision>
  <dc:subject>主题班会课件(分28大类): http://shop62905894.taobao.com</dc:subject>
  <dc:title>主题班会课件(分28大类): http://shop62905894.taobao.com</dc:title>
</cp:coreProperties>
</file>