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B74-7698-461B-916D-A0091CCC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4C0-FE37-4AC4-8ACE-D5610C36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925-C253-44F0-8FF2-DF7DDC77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476-9107-48C6-86ED-EA5D9595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2B1-59FF-44AE-A97F-204E5B4F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FF7-1855-473A-9B06-7B0ADDE9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C19-E68C-47A4-90DC-F319EEF3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EE3-BD4F-4BBE-A2BD-F84F6A25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ABA-B526-47E0-8F67-9D3DDCF6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1D8-EF04-456E-894C-2978AF9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CF3-2E10-4BF1-B8CB-76407EB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218-EDE3-4FF6-B939-E6B8988A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640-6EF0-43C0-8C7B-672C79FA5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5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5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37160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自理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-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自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43434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高一（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）班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3581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76212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算算结果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600200"/>
            <a:ext cx="76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，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  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，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429000"/>
            <a:ext cx="76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，你的自理能力很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，你的自理能力一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以下，    你的自理能力较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666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9144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欣赏小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7400" y="18288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参不参加球赛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038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表演者： 梁志华  冯伟泉  胡祖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629400" y="380880"/>
            <a:ext cx="1847880" cy="167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14400" y="91440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各抒己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——雨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后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——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记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22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1480" y="1714680"/>
            <a:ext cx="4752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宿舍在晚上熄灯之前，通常都会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场热烈精彩的谈话，倘若你刚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说到一半，灯熄了你会怎么办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6094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讨论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81280" y="685800"/>
            <a:ext cx="11430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49200" y="628560"/>
            <a:ext cx="4978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纪律是一切制度的基石，组织与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队要能长久存在，其重要的维系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就是团队纪律。“纪律可以促使一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人走上成功之路”。一个成功的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必定是懂得自律的人，而且也一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可以坚持及带动团队遵守纪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14400" y="83808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班主任总结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14400" y="6094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共唱一首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5120" y="259092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有用的人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20040" y="954000"/>
            <a:ext cx="493560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不希望自己是聪明的人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不希望什么都能一百分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能希望自己又呆又傻又愚蠢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谁会愿意听到你真的好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50640" y="878040"/>
            <a:ext cx="456984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事情就是这样的残忍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道路没有直通那扇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游戏结果不一定要获胜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收获不在终点只在过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733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主持人：钟柏林     罗斯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38088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自理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-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自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990720"/>
            <a:ext cx="68580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不会心灰意冷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会给自己掌声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不是你想象的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也有我自己的门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762120"/>
            <a:ext cx="7315200" cy="67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其实你不是不能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只是你肯不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给自己多一个机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都是</a:t>
            </a:r>
            <a:r>
              <a:rPr b="0" lang="zh-CN" sz="6600" spc="-1" strike="noStrike">
                <a:solidFill>
                  <a:srgbClr val="e10900"/>
                </a:solidFill>
                <a:latin typeface="Arial"/>
                <a:ea typeface="华文行楷"/>
              </a:rPr>
              <a:t>有用的人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50640" y="878040"/>
            <a:ext cx="456984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事情就是这样的残忍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道路没有直通那扇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游戏结果不一定要获胜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有些收获不在终点只在过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914400"/>
            <a:ext cx="6858000" cy="74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不会心灰意冷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们会给自己掌声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不是你想象的笨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我也有我自己的门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838080"/>
            <a:ext cx="7239240" cy="74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其实你不是不能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只是你肯不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给自己多一个机会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因为我们都是</a:t>
            </a:r>
            <a:r>
              <a:rPr b="0" lang="zh-CN" sz="6600" spc="-1" strike="noStrike">
                <a:solidFill>
                  <a:srgbClr val="e10900"/>
                </a:solidFill>
                <a:latin typeface="Arial"/>
                <a:ea typeface="华文行楷"/>
              </a:rPr>
              <a:t>有用的人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144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欣赏小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18288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开学前一天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80988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表演者： 父亲      高伟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儿子      黄建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609480"/>
            <a:ext cx="1314360" cy="131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8380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各抒己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914400"/>
            <a:ext cx="3962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生活能力小测试：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905120"/>
            <a:ext cx="4648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钉纽扣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9144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欣赏小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1600" y="18288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《考试之后》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09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表演者： 罗玉婷  陈燕微  陈梓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86600" y="609480"/>
            <a:ext cx="1314360" cy="13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838080"/>
            <a:ext cx="2666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各抒己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666880" y="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测测自己的自理能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9" name=""/>
          <p:cNvSpPr/>
          <p:nvPr/>
        </p:nvSpPr>
        <p:spPr>
          <a:xfrm>
            <a:off x="1829160" y="723960"/>
            <a:ext cx="559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时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遇到困难时，你是否不知所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是否经常帮父母做一些家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且自己能做些简单的饭菜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是否会经常找不到自己的东西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班会上你是否能发表一些独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意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独自在家，突然下起大雨，你是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主动关好门窗，收好衣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5029200"/>
            <a:ext cx="1408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438280" y="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测测自己的自理能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6094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确定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是否能够独立地制定一个学习计划并顺利完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假如你家人生病了，你是否会主动帮他们倒水拿药，给予照顾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是否积极参加学校组织的劳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在班级里，你是否能主动关心集体，对同学友好相待，互相帮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是否能够当天功课当天弄懂及                                                   时查漏补缺，努力提高学习成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4079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07:25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1:06Z</dcterms:modified>
  <cp:revision>14</cp:revision>
  <dc:subject>主题班会课件(分28大类): http://shop62905894.taobao.com</dc:subject>
  <dc:title>主题班会课件(分28大类): http://shop62905894.taobao.com</dc:title>
</cp:coreProperties>
</file>