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jpeg" ContentType="image/jpeg"/>
  <Override PartName="/ppt/media/image9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5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4.png" ContentType="image/png"/>
  <Override PartName="/ppt/media/image28.wmf" ContentType="image/x-wmf"/>
  <Override PartName="/ppt/media/image27.jpeg" ContentType="image/jpeg"/>
  <Override PartName="/ppt/media/image25.gif" ContentType="image/gif"/>
  <Override PartName="/ppt/media/image29.png" ContentType="image/png"/>
  <Override PartName="/ppt/media/image26.gif" ContentType="image/gif"/>
  <Override PartName="/ppt/media/image24.gif" ContentType="image/gif"/>
  <Override PartName="/ppt/media/image21.gif" ContentType="image/gif"/>
  <Override PartName="/ppt/media/image20.gif" ContentType="image/gif"/>
  <Override PartName="/ppt/media/image19.jpeg" ContentType="image/jpeg"/>
  <Override PartName="/ppt/media/image23.gif" ContentType="image/gif"/>
  <Override PartName="/ppt/media/image17.jpeg" ContentType="image/jpeg"/>
  <Override PartName="/ppt/media/image16.gif" ContentType="image/gif"/>
  <Override PartName="/ppt/media/image1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48F-21D8-4497-98E5-300C74C2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666880" y="418392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FC2-C0F1-4802-A3F0-499A449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66688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8816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906-11AF-4647-B59A-3967BC34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2320" y="16765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17760" y="16765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666880" y="41839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792320" y="41839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17760" y="41839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F08-036D-4939-BF50-DE7C9B8F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BC84-FED1-4831-A2F9-8489B5D3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666880" y="167652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938C-51BF-45B1-AB91-0D6FEE9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8390-F650-4451-93A0-78FB027B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B383-87C2-4EAA-9546-259A2D97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2F84-8BCE-4767-A6F9-A5E372A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464F-1E8C-4758-B16C-01AAE879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66688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6256-3375-42B0-8DF5-5D95C528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666880" y="167652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058-FABB-4906-BC71-AC4F1D78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816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033A-FE3F-4F28-8EF0-8B4AD25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666880" y="418392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2761-DC48-4EB1-A0A0-19EBB56D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666880" y="418392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EE4B-6C73-4825-A869-9B46EAC5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66688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88816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6B97-772D-49EB-B1A8-9527DC6C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92320" y="16765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17760" y="16765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666880" y="41839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792320" y="41839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917760" y="418392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0FE1-5740-429E-B2B7-0D2FE51C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91C-5416-4481-ABA4-D153AE4B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F8C-E211-4E0D-9EF1-D6811704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A4C-76B1-47E3-AF80-81058C6D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DD6-1ED4-43BA-A128-927618AB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88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7E9-D69B-42F2-AB3F-687C422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88160" y="41839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C5F-5702-45BF-ACDA-60ECE533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8160" y="167652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880" y="418392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0FA-36A3-43B0-92B3-2FCD897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10920" y="66690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0033"/>
                </a:solidFill>
                <a:latin typeface="Times New Roman"/>
              </a:rPr>
              <a:t>&lt;date/time&gt;</a:t>
            </a:r>
            <a:r>
              <a:rPr b="0" lang="zh-CN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fld id="{D1725F89-EE85-4277-9EF9-5E67AC25D851}" type="datetime10">
              <a:rPr b="0" lang="zh-CN" sz="1200" spc="-1" strike="noStrike">
                <a:solidFill>
                  <a:srgbClr val="990033"/>
                </a:solidFill>
                <a:latin typeface="Times New Roman"/>
              </a:rPr>
              <a:t>03:4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1252-B14B-48AD-9B8B-DB3026E5F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035000"/>
            <a:ext cx="8226720" cy="46080"/>
          </a:xfrm>
          <a:prstGeom prst="rect">
            <a:avLst/>
          </a:prstGeom>
          <a:gradFill rotWithShape="0">
            <a:gsLst>
              <a:gs pos="0">
                <a:srgbClr val="fdd7e7"/>
              </a:gs>
              <a:gs pos="100000">
                <a:srgbClr val="0000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5960" y="304920"/>
            <a:ext cx="31680" cy="10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6400" y="1035000"/>
            <a:ext cx="8226720" cy="46080"/>
          </a:xfrm>
          <a:prstGeom prst="rect">
            <a:avLst/>
          </a:prstGeom>
          <a:gradFill rotWithShape="0">
            <a:gsLst>
              <a:gs pos="0">
                <a:srgbClr val="fdd7e7"/>
              </a:gs>
              <a:gs pos="100000">
                <a:srgbClr val="00005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5960" y="304920"/>
            <a:ext cx="31680" cy="10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EC4DA5D-6CD1-414D-9FBA-81AD15A9167D}" type="datetime10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03:4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3EF1-15C7-4994-A14A-2A20DE016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slide" Target="slide23.xml"/><Relationship Id="rId8" Type="http://schemas.openxmlformats.org/officeDocument/2006/relationships/slide" Target="slide15.xml"/><Relationship Id="rId9" Type="http://schemas.openxmlformats.org/officeDocument/2006/relationships/slide" Target="slide24.xml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12.jpeg"/><Relationship Id="rId4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9.gif"/><Relationship Id="rId43" Type="http://schemas.openxmlformats.org/officeDocument/2006/relationships/image" Target="../media/image18.jpeg"/><Relationship Id="rId4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9.gif"/><Relationship Id="rId32" Type="http://schemas.openxmlformats.org/officeDocument/2006/relationships/image" Target="../media/image9.gif"/><Relationship Id="rId33" Type="http://schemas.openxmlformats.org/officeDocument/2006/relationships/image" Target="../media/image9.gif"/><Relationship Id="rId34" Type="http://schemas.openxmlformats.org/officeDocument/2006/relationships/image" Target="../media/image9.gif"/><Relationship Id="rId35" Type="http://schemas.openxmlformats.org/officeDocument/2006/relationships/image" Target="../media/image9.gif"/><Relationship Id="rId36" Type="http://schemas.openxmlformats.org/officeDocument/2006/relationships/image" Target="../media/image9.gif"/><Relationship Id="rId37" Type="http://schemas.openxmlformats.org/officeDocument/2006/relationships/image" Target="../media/image9.gif"/><Relationship Id="rId38" Type="http://schemas.openxmlformats.org/officeDocument/2006/relationships/image" Target="../media/image9.gif"/><Relationship Id="rId39" Type="http://schemas.openxmlformats.org/officeDocument/2006/relationships/image" Target="../media/image9.gif"/><Relationship Id="rId40" Type="http://schemas.openxmlformats.org/officeDocument/2006/relationships/image" Target="../media/image9.gif"/><Relationship Id="rId41" Type="http://schemas.openxmlformats.org/officeDocument/2006/relationships/image" Target="../media/image9.gif"/><Relationship Id="rId42" Type="http://schemas.openxmlformats.org/officeDocument/2006/relationships/image" Target="../media/image7.png"/><Relationship Id="rId4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15.gif"/><Relationship Id="rId6" Type="http://schemas.openxmlformats.org/officeDocument/2006/relationships/image" Target="../media/image21.gif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032360" y="1989000"/>
            <a:ext cx="51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　　第十周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班学习工作总结与反思及下一周的学习工作计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508640"/>
            <a:ext cx="2879640" cy="1944720"/>
          </a:xfrm>
          <a:prstGeom prst="rect">
            <a:avLst/>
          </a:prstGeom>
          <a:solidFill>
            <a:srgbClr val="99cc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相信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成就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5661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C35B06-4854-4D6E-9F1D-69F6333DE648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2920" y="184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自律性稍差，做事比较随心而不受约束。这样的生活看似快乐，实际会对健康和事业产生负面影响。建议做事前三思而行，将自己的合理计划贴在身边醒目的地方，必要时由他人帮忙监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B23A5-931A-49AA-B3F9-59A44D4D3BEE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1557360"/>
            <a:ext cx="7561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自律性适中。多数情况下，你都能很好地控制自己的言行举止，但偶尔也会放纵一下。其实，只要对他人无损、对自己无害，偶尔的随性与放松都无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385F7-A70D-490E-BA8B-5202934FFC3F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58920" y="1484280"/>
            <a:ext cx="741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自律性很强。看来你平时严于律己，认为不该说的话、不该做的事，绝不轻易去说去做。但过于约束自己，有时反而失去了一些生活的乐趣。只有把握好“度”，工作与生活才能相得益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1DB9B-1458-46F9-8BE3-CF4B321F3287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00" y="404640"/>
            <a:ext cx="1235160" cy="8686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3635280" y="189000"/>
            <a:ext cx="4881600" cy="330120"/>
            <a:chOff x="3635280" y="189000"/>
            <a:chExt cx="4881600" cy="330120"/>
          </a:xfrm>
        </p:grpSpPr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36352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38638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40924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6"/>
            <a:stretch/>
          </p:blipFill>
          <p:spPr>
            <a:xfrm>
              <a:off x="434664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4832280" y="211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8"/>
            <a:stretch/>
          </p:blipFill>
          <p:spPr>
            <a:xfrm>
              <a:off x="4594320" y="203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5094360" y="196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0"/>
            <a:stretch/>
          </p:blipFill>
          <p:spPr>
            <a:xfrm>
              <a:off x="534816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1"/>
            <a:stretch/>
          </p:blipFill>
          <p:spPr>
            <a:xfrm>
              <a:off x="563076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2"/>
            <a:stretch/>
          </p:blipFill>
          <p:spPr>
            <a:xfrm>
              <a:off x="588960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3"/>
            <a:stretch/>
          </p:blipFill>
          <p:spPr>
            <a:xfrm>
              <a:off x="733752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4"/>
            <a:stretch/>
          </p:blipFill>
          <p:spPr>
            <a:xfrm>
              <a:off x="708192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5"/>
            <a:stretch/>
          </p:blipFill>
          <p:spPr>
            <a:xfrm>
              <a:off x="6829560" y="246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6"/>
            <a:stretch/>
          </p:blipFill>
          <p:spPr>
            <a:xfrm>
              <a:off x="661824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7"/>
            <a:stretch/>
          </p:blipFill>
          <p:spPr>
            <a:xfrm>
              <a:off x="637848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8"/>
            <a:stretch/>
          </p:blipFill>
          <p:spPr>
            <a:xfrm>
              <a:off x="6140520" y="223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9"/>
            <a:stretch/>
          </p:blipFill>
          <p:spPr>
            <a:xfrm>
              <a:off x="7569360" y="265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0"/>
            <a:stretch/>
          </p:blipFill>
          <p:spPr>
            <a:xfrm>
              <a:off x="826596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1"/>
            <a:stretch/>
          </p:blipFill>
          <p:spPr>
            <a:xfrm>
              <a:off x="8039160" y="268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2"/>
            <a:stretch/>
          </p:blipFill>
          <p:spPr>
            <a:xfrm>
              <a:off x="7802640" y="246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47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0" y="1484280"/>
            <a:ext cx="9144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成功需要很强的自律能力，比如，别人在看电视的时候，你能否去工作？别人在娱乐的时候，你能否去学习？别人在睡觉的时候，你能不能早点起来？这一切，就是你必须强迫自己成功付出的代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15246-0912-454A-A18C-90A4C73E9CC2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11280" y="1125360"/>
            <a:ext cx="82818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　你之所以无法克服自己的这种懒惰的习性，最重要的原因就是你缺乏自律。对学习也是如此，一个缺乏自律的人，在学习上也同样会给自己一些拖拉的借口：时间还早，再玩一会儿。就这样一次次地“再玩一会儿”，最终把学习的时间全部了，我们对学生的这种偷懒行为往往会说他们是“平时不努力，临时抱佛脚”，其实这句话不仅适合学生，对任何人都适合。古人说“书到用时方恨少”，一个不能自律的人，往往会到需要的时候，才后悔自己平时没有抓紧时间学习，浪费了许多大好的时光，虽然为此后悔不已，却也已经无济于事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91FB7-63B6-4D30-8C3C-BC9D239D0AFD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484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55640" y="126828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800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自己的追求是什么？</a:t>
            </a:r>
            <a:endParaRPr b="0" lang="en-US" sz="6000" spc="1" strike="noStrike">
              <a:ln cap="sq" w="9360">
                <a:solidFill>
                  <a:srgbClr val="00800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1828800" y="2514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热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2895480" y="37339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3352680" y="50292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坚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295280" y="464832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73200" y="5700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71640" y="148428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800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自己的追求是什么？</a:t>
            </a:r>
            <a:endParaRPr b="0" lang="en-US" sz="6000" spc="1" strike="noStrike">
              <a:ln cap="sq" w="9360">
                <a:solidFill>
                  <a:srgbClr val="00800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9" name="">
            <a:hlinkClick r:id="rId7" action="ppaction://hlinksldjump"/>
          </p:cNvPr>
          <p:cNvSpPr/>
          <p:nvPr/>
        </p:nvSpPr>
        <p:spPr>
          <a:xfrm>
            <a:off x="2044800" y="27306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热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3111480" y="394956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9" action="ppaction://hlinksldjump"/>
          </p:cNvPr>
          <p:cNvSpPr/>
          <p:nvPr/>
        </p:nvSpPr>
        <p:spPr>
          <a:xfrm>
            <a:off x="3568680" y="5245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黑体"/>
              </a:rPr>
              <a:t>人生需要坚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1511280" y="4863960"/>
            <a:ext cx="960480" cy="96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65AA-23D6-4BFE-A6F6-4EE3E4EE0BEE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8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3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5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9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207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" descr=""/>
          <p:cNvPicPr/>
          <p:nvPr/>
        </p:nvPicPr>
        <p:blipFill>
          <a:blip r:embed="rId43"/>
          <a:stretch/>
        </p:blipFill>
        <p:spPr>
          <a:xfrm>
            <a:off x="250920" y="333360"/>
            <a:ext cx="6553080" cy="6264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235200" y="692280"/>
            <a:ext cx="21913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自律成就梦想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43280" y="579420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哈佛大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5062E-0DB7-4A49-93D4-60E739C72F94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2286000" y="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17528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952680" y="333360"/>
            <a:ext cx="21913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自律是成功之门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E7254-7E79-4E83-B0B0-F18DB34AF8E9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3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5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9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260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43"/>
          <a:stretch/>
        </p:blipFill>
        <p:spPr>
          <a:xfrm>
            <a:off x="2771640" y="692280"/>
            <a:ext cx="6156360" cy="56894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8080" y="1484280"/>
            <a:ext cx="458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93720" y="1582560"/>
            <a:ext cx="7336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05760" y="175680"/>
            <a:ext cx="1826280" cy="69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否注意到竞争对手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身边的同学是如何学习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000C7-4B08-4F18-8CD2-7B989D0899AC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286" name="" descr=""/>
            <p:cNvPicPr/>
            <p:nvPr/>
          </p:nvPicPr>
          <p:blipFill>
            <a:blip r:embed="rId2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5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6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7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8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9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10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11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12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3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15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16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17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8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9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0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1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307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27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32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34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38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395280" y="112536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昨日的习惯，已经造就了今日的我们和性格；今日的习惯，决定明天的我们和前途。好习惯，益终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42"/>
          <a:stretch/>
        </p:blipFill>
        <p:spPr>
          <a:xfrm>
            <a:off x="0" y="6202440"/>
            <a:ext cx="792000" cy="655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-181080" y="2924280"/>
            <a:ext cx="9601200" cy="27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学习的痛苦是暂时的</a:t>
            </a: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,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未学到的痛苦是终生的</a:t>
            </a: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楷体_GB2312"/>
              </a:rPr>
              <a:t>!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40F48-96BB-483B-BFD6-5E21B3A6A220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十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班学习工作总结与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22200" y="981000"/>
            <a:ext cx="7921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一、非常好且很突出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在全班同学的大力配合下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班的教室继续获得“文明教室”荣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“三操”质量大幅度提高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（早操：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9.95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分　课间：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9.90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　眼操：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9.92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分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我班的“公车站”获得进入校庆晚会入场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（文娱委员和全班同学努力的结果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我班的“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陈、刘、苏、黄、叶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”得到刘校长的亲切关怀和指导。希望他们以后做得更好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三操检查员对我班的做操表示肯定和希望我们能够长期坚持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、上课和自习课纪律大大的好转。（睡觉、小说、手机）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还有好人好事等等很多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311E6-1756-46D4-AEBE-00EDE1B35BB6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152720" cy="1050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1752480" y="4876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179280" y="620640"/>
            <a:ext cx="4254480" cy="5327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00720" y="1916280"/>
            <a:ext cx="39114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没有艰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便无所获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AC97A-F530-41E3-878F-D7CF0130A16B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0" y="4788000"/>
            <a:ext cx="2268360" cy="18698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7740720" y="4797360"/>
            <a:ext cx="1214280" cy="1387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7924680" y="59515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125000"/>
            <a:ext cx="7704360" cy="453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一个班的班风是关系到每一个同学的，因此我们要自觉维护班级体的荣誉。每一个人出自己的一份力，每一个人都不损害集体的利益，那班风便会得到改善，成为一个优秀的班级！记住下面一句话：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千人同心，则得千人力；万人异心，则无一人之用。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——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淮南子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兵略训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A31D2-2B05-4A92-B327-07E1EF1A7084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87280" y="19890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艰苦奋斗、奋发进取，从绝望中寻找希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生终将辉煌！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永远是必要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吃苦永远是必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败永远是必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真学习，充分吃苦，迎接失败，直至成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71640" y="112536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1268280" cy="2260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771640" y="1916280"/>
            <a:ext cx="525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21760" y="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我要马上行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BABAD-2EBD-4605-958A-9C97990D934D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24000" y="69228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开学第一天，古希腊大哲学家苏格拉底对学生们说：“今天我们只学一件最简单也是最容易做的事儿。每人把胳膊尽量往前甩，然后再尽量往后甩。”说完，苏格拉底示范了一遍。“从今天开始，每天做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下。大家能做到吗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学生们都笑了。这么简单的事，有什么做不到的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过了一个月，苏格拉底问学生们：“每天甩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下，哪些同学坚持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％的同学骄傲地举起了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又过了一个月，苏格拉底又问，这回，坚持下来的学生只剩下八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一年过后，苏格拉底再一次问大家：“请告诉我，最简单的甩手运动，还有哪几位同学坚持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这时，整个教室里，只有一人举起了手。这个学生就是后来成为古希腊另一位大哲学家的柏拉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84360" y="836640"/>
            <a:ext cx="60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开学第一天，古希腊大哲学家苏格拉底对学生们说：“今天我们只学一件最简单也是最容易做的事儿。每人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胳膊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尽量往前甩，然后再尽量往后甩。”说完，苏格拉底示范了一遍。“从今天开始，每天做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下。大家能做到吗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　学生们都笑了。这么简单的事，有什么做不到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过了一个星期，苏格拉底问学生们：“每天甩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下，哪些同学坚持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％的同学骄傲地举起了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又过了一个月，苏格拉底又问，这回，坚持下来的学生只剩下八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一年过后，苏格拉底再一次问大家：“请告诉我，最简单的甩手运动，还有哪几位同学坚持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这时，整个教室里，只有一人举起了手。这个学生就是后来成为古希腊另一位大哲学家的柏拉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DD720-32F1-4582-994A-085496C68747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一句话说说今后你将如何面对遇到的困难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贵在坚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难在坚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在坚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50920" y="692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一句话说说今后你将如何面对遇到的困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2362320"/>
            <a:ext cx="9144000" cy="18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宋体"/>
              </a:rPr>
              <a:t>在你确得无法坚持不下去时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宋体"/>
              </a:rPr>
              <a:t>努力坚持下去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宋体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b2b2b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宋体"/>
              </a:rPr>
              <a:t>你就是成功的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b2b2b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57" name=""/>
          <p:cNvSpPr/>
          <p:nvPr/>
        </p:nvSpPr>
        <p:spPr>
          <a:xfrm>
            <a:off x="2127600" y="5084640"/>
            <a:ext cx="505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贵在坚持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难在坚持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成在坚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854B6-5287-4D08-85FE-6427D207D7A7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295280" y="1600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484280"/>
            <a:ext cx="6732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2712960" cy="819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95280" y="4508640"/>
            <a:ext cx="8569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为了美好的明天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从现在开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奋斗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7F43B-499D-4F00-A145-CC34DD4B02B5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179280" y="597708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CB559-CE00-4086-8CFE-CDD999D0F60C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29215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阳光总在风雨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79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生路上甜苦和喜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与你分担所有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难免曾经跌倒和等候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要勇敢的抬头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谁愿常躲在避风的港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宁有波涛汹涌的自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是你心中灯塔的守候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迷雾中让你看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1600200"/>
            <a:ext cx="3962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光总在风雨后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乌云上有睛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惜所有的感动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一份希望在你手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阳光总在风雨后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相信有彩虹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风雨雨都接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一直会在你的左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708B7-C76E-4597-924F-6A6EC1806457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304737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332000" y="1052640"/>
            <a:ext cx="7632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、要改进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还有同学迟到：刘振宇　黄永华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（星期四早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到，校门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教室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同学穿怪衣服被扣分：李滨雷　何春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男女生宿舍一直都做得很好，如果努力改进，能获“文明宿舍”最能让人开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同学趁机博懵，不出操、迟到或不带校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不懂得排队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仪表、拖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同学提前下课去打球：张福流，苏汉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星期四第八节提前下课拿球去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还有同学不吃早餐，带早餐到教室吃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早晚读、抄作业、不交作业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74680"/>
            <a:ext cx="6491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十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班学习工作总结与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39F01-2265-411F-930F-DB0C7DBA4FBF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95640" y="274680"/>
            <a:ext cx="6491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十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班下周的学习工作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47640" y="1197000"/>
            <a:ext cx="727236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重点：全面做好期中试的复习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提倡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五到：人到、心到、眼到、手机、耳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　争取考出水平，每一个人在年级上前进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名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、克服迟到和早退现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、长期做好各项常规工作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</a:rPr>
              <a:t>、全身心投入到学习当中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1CE6F-C5E5-4308-9C06-9F0D04D7F6E9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44956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1600200" cy="190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68360" y="4797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高二（</a:t>
            </a:r>
            <a:r>
              <a:rPr b="1" lang="en-US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0" y="6049800"/>
            <a:ext cx="808200" cy="808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409760" y="1447920"/>
            <a:ext cx="6324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自律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成绩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感恩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353D7-0CCD-4F03-AC90-E96E48C7AF17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01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小到大，我所制定的计划基本能实施或长期坚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不常跟别人有代价地打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即使在无人看管的情况下，我也能坚持遵守交通规则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除非迫于工作，我的作息很有规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从不随意动他人的东西。</a:t>
            </a:r>
            <a:br>
              <a:rPr sz="40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以“是”、“否”回答下列问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请尽量真实地回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15D4D-D25A-4861-826D-BA967C275D6D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16000" y="1413000"/>
            <a:ext cx="77040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节假日时，我不会因为玩或其他娱乐活动而彻夜不 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上班或赴约极少迟到或早退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论在家还是出门，我的头发和服饰都是整洁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旦参加了业余培训班，我一向风雨无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记事本或工作日志从第一页到最后一页，字迹都很工整。</a:t>
            </a:r>
            <a:br>
              <a:rPr sz="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以“是”、“否”回答下列问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请尽量真实地回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D3421-16A2-4F1A-8577-AE85B81441BA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95280" y="1484280"/>
            <a:ext cx="856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了几次，我就能成功地戒坏习惯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论多么困，只要闹钟一响，我都会很快起床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我正在工作时，很少受其他人的干扰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曾用心研究或长期购买彩票，但不会一次投入很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每次做什么事情，都能够很好的控制自己的情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以“是”、“否”回答下列问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请尽量真实地回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84E26-64FC-4894-AAE9-A078B694F934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8920" y="2276640"/>
            <a:ext cx="6481800" cy="14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“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是”计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1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分，“否”计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0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84CBD-0C6A-4F71-87CA-28CA8034B15D}" type="datetime10">
              <a:rPr lang="en-US"/>
              <a:t>03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4:53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6:55Z</dcterms:modified>
  <cp:revision>6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7662052</vt:lpwstr>
  </property>
</Properties>
</file>