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drumroll.wav" ContentType="audio/x-wav"/>
  <Override PartName="/ppt/media/image15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applause.wav" ContentType="audio/x-wav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AB6-3EA1-422D-8069-35FC811C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2F5-DDB4-4254-8DD1-45F2F7C0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65E-DA25-4B15-98A4-6C87997F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9C8-23F8-4E61-BDED-347EBEE2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10A4-D756-4532-9E83-B855A461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14D2-72C9-403A-8ABA-9C2144B7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8659-96EB-432D-8F27-CAC6CD95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AEAF-495E-4DA5-9C8A-8962B9E4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B1A3-2E00-4E85-BE68-0E03FAEC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D289-1D49-442D-B60F-F4BE9360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8D0C-0587-4D16-BE4B-E2D8FEE8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E2F-4FA4-45A6-A1C6-AF27851C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8A93-6B9D-4B57-867E-B0AD2FDF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A8A1-5F98-4E58-97E1-63C0F445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5086-FCFC-4714-8EEC-802CF840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77F9-8D87-4245-BE94-D4692047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9F56-D3F1-47E6-B8E2-AA24E93B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1D45B-78C8-4A28-B9F0-E68BCCE4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CD576-8E0B-4D43-8454-92ED8457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C0C78-B9E7-455C-ACD3-D340B2CE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5E9F7-AD66-4E52-94EB-476C2506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70BD7-FBEE-436C-96A5-E26CE475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BFD-515B-4C53-BBFF-F5204F37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E53C5-E732-4F42-A2F6-EDE9F6B6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A96AD-82E5-450A-AC5D-6A5C332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1EE6D-BDE5-43AF-B18A-F15022CC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2FA1E-FF4D-4516-AA66-B9A06E03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DD267-DCA3-466C-8FFC-59540228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ED65-EC45-425F-A18A-B13FD476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CE42D-62B1-4052-9CCB-0FEFC667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5AEE6-1342-4221-B089-1687382A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D2D61-D551-4DD1-9922-92283275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88A23-0669-4F21-8514-15346D4C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FF2-D985-417C-9154-F0F2D924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6DB35-7EBC-46DA-B2E7-13FB68D7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A6727-D154-410B-9B4F-39150D8D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DB447-573D-4AC2-9331-D72EC755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5B352-6385-4A9A-9483-60330C37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6608C-48B1-4A45-8382-A71EDF63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48251-01CF-4D6A-90D3-E1D3A301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9028-A82C-43E0-B440-64B3238C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20936-BB31-45F1-84AE-D2A1A178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5247-87AE-4F1C-98A3-12806AA2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15B-1A20-43E5-9453-D6FE7916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644-AD5A-42F5-9719-D7C80491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F07-8022-4B79-BB9F-A34A3052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3A2-5ACD-4357-882F-D869F772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E4E-8538-4BFB-9A6D-A0747298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C356-F093-447E-94A5-EE7E63BBDE3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F0BE-8BEB-4AD9-9167-FE4F00E3E12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A683-CECA-4D3E-B412-3AA1FC139CA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31C8-D178-44E3-97B3-DD99C3B1800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98.swf" TargetMode="Externa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539640" y="1773360"/>
            <a:ext cx="8064720" cy="109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07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a679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三</a:t>
            </a:r>
            <a:r>
              <a:rPr b="1" lang="en-US" sz="1800" spc="1" strike="noStrike">
                <a:ln w="9360">
                  <a:solidFill>
                    <a:srgbClr val="ffa679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(4)</a:t>
            </a:r>
            <a:r>
              <a:rPr b="1" lang="zh-CN" sz="1800" spc="1" strike="noStrike">
                <a:ln w="9360">
                  <a:solidFill>
                    <a:srgbClr val="ffa679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班主题班会</a:t>
            </a:r>
            <a:endParaRPr b="1" lang="en-US" sz="1800" spc="1" strike="noStrike">
              <a:ln w="9360">
                <a:solidFill>
                  <a:srgbClr val="ffa679"/>
                </a:solidFill>
                <a:miter/>
              </a:ln>
              <a:solidFill>
                <a:srgbClr val="ff0000"/>
              </a:solidFill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大连一名公交车司机黄志全，行车途中突发心脏病，在生命的最后一分钟，他做了三件事：把车缓缓地停在马路边，并用生命的最后力气拉下了手动刹车闸；把车门打开，让乘客安全地下了车；将发动机熄火，确保了车和乘客、行人的安全。他做完了三件事，安详地趴在方向盘上停止了呼吸。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</a:t>
            </a:r>
            <a:r>
              <a:rPr b="1" lang="zh-CN" sz="44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作为一名即将毕业的初三学子，我们应尽的责任是什么？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064040" y="3670200"/>
            <a:ext cx="5079960" cy="31878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0" y="3670200"/>
            <a:ext cx="4427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716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寒假即将来临，作为一名肩负着中考重任的初三学子，我们该怎样度过？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692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现在正是期末复习阶段，我们该怎样做才叫负责任？</a:t>
            </a:r>
            <a:br>
              <a:rPr sz="36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近代著名学者梁启超先生在他的《饮冰室全集》中这样论述责任：人生最苦的事莫苦于身上背着一种未来的责任。人生第一乐事当然就是这责任的完成。责任越重大，负责的日子越长久，到责任完了时，海阔天空，心安理得，那快乐还要加几倍。</a:t>
            </a:r>
            <a:br>
              <a:rPr sz="3600"/>
            </a:b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所以，希望同学们时时谨记身上背负的重任，到六月中考时一展风采，一鸣惊人，皆大欢喜</a:t>
            </a: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,</a:t>
            </a: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扬我校威。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 rot="5400000">
            <a:off x="-1549440" y="2852640"/>
            <a:ext cx="5905440" cy="11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a679"/>
                  </a:solidFill>
                  <a:miter/>
                </a:ln>
                <a:solidFill>
                  <a:srgbClr val="cc3300"/>
                </a:solidFill>
                <a:latin typeface="隶书"/>
              </a:rPr>
              <a:t>三年苦读立志乃为真君子</a:t>
            </a:r>
            <a:endParaRPr b="0" lang="en-US" sz="1800" spc="1" strike="noStrike">
              <a:ln w="9360">
                <a:solidFill>
                  <a:srgbClr val="ffa679"/>
                </a:solidFill>
                <a:miter/>
              </a:ln>
              <a:solidFill>
                <a:srgbClr val="cc3300"/>
              </a:solidFill>
              <a:latin typeface="隶书"/>
              <a:ea typeface="隶书"/>
            </a:endParaRPr>
          </a:p>
        </p:txBody>
      </p:sp>
      <p:sp>
        <p:nvSpPr>
          <p:cNvPr id="315" name=""/>
          <p:cNvSpPr txBox="1"/>
          <p:nvPr/>
        </p:nvSpPr>
        <p:spPr>
          <a:xfrm rot="5400000">
            <a:off x="5003640" y="2781000"/>
            <a:ext cx="597708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a679"/>
                  </a:solidFill>
                  <a:miter/>
                </a:ln>
                <a:solidFill>
                  <a:srgbClr val="cc3300"/>
                </a:solidFill>
                <a:latin typeface="隶书"/>
              </a:rPr>
              <a:t>六月中考夺魁方为大丈夫</a:t>
            </a:r>
            <a:endParaRPr b="0" lang="en-US" sz="1800" spc="1" strike="noStrike">
              <a:ln w="9360">
                <a:solidFill>
                  <a:srgbClr val="ffa679"/>
                </a:solidFill>
                <a:miter/>
              </a:ln>
              <a:solidFill>
                <a:srgbClr val="cc3300"/>
              </a:solidFill>
              <a:latin typeface="隶书"/>
              <a:ea typeface="隶书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700360" y="333360"/>
            <a:ext cx="3887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a679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中考必胜</a:t>
            </a:r>
            <a:endParaRPr b="0" lang="en-US" sz="1800" spc="1" strike="noStrike">
              <a:ln w="19080">
                <a:solidFill>
                  <a:srgbClr val="ffa679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771640" y="4221000"/>
            <a:ext cx="3745080" cy="15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舒体"/>
              </a:rPr>
              <a:t>再见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几年前，美国著名心理学博士艾尔森对世界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名各领域的杰出人士做了一项问卷调查，结果让他十分惊讶——其中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1%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人承认，他们所从事的职业并非他们最喜欢的，至少不是最理想的。一个人竟然能够在自己不太理想的领域里，取得那样辉煌的业绩，除了聪颖和勤奋，靠的还有什么呢？艾尔森博士又走访了多位商界英才，纽约证券公司的金领丽人苏珊给了他一个满意的答案。</a:t>
            </a:r>
            <a:br>
              <a:rPr sz="3600"/>
            </a:b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042920" y="6095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5435640" y="5734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6372360" y="5805360"/>
            <a:ext cx="100800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7740720" y="60958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3276720" y="60958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4356000" y="5734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2268360" y="6095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9217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苏珊出身于中国台北的一个音乐世家，她非常喜欢音乐，却阴差阳错地考进了大学的工商管理系。如今已是美国证券业界风云人物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艾尔森博士问她：“你不喜欢你的专业，为何你学得那么棒？不喜欢眼下的工作，为何你又做得那么优秀？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“</a:t>
            </a:r>
            <a:r>
              <a:rPr b="0" lang="zh-CN" sz="3600" spc="-1" strike="noStrike" u="sng">
                <a:solidFill>
                  <a:srgbClr val="ccecff"/>
                </a:solidFill>
                <a:uFillTx/>
                <a:latin typeface="仿宋_GB2312"/>
                <a:ea typeface="仿宋_GB2312"/>
                <a:hlinkClick r:id="rId2"/>
              </a:rPr>
              <a:t>因为我在那个位置上，那里有我应尽的责任，我必须认真对待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不管喜不喜欢，那都是自己必须面对的，都没有理由草草应付，都必须尽心尽力，那是对工作负责，也是对自己负责。”苏珊认真回答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58560" y="4581360"/>
            <a:ext cx="7056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80f06"/>
                </a:solidFill>
                <a:latin typeface="隶书"/>
                <a:ea typeface="隶书"/>
              </a:rPr>
              <a:t>[</a:t>
            </a:r>
            <a:r>
              <a:rPr b="1" lang="zh-CN" sz="4400" spc="-1" strike="noStrike">
                <a:solidFill>
                  <a:srgbClr val="880f06"/>
                </a:solidFill>
                <a:latin typeface="隶书"/>
                <a:ea typeface="隶书"/>
              </a:rPr>
              <a:t>中国</a:t>
            </a:r>
            <a:r>
              <a:rPr b="1" lang="zh-CN" sz="4400" spc="-1" strike="noStrike">
                <a:solidFill>
                  <a:srgbClr val="880f06"/>
                </a:solidFill>
                <a:latin typeface="隶书"/>
                <a:ea typeface="隶书"/>
              </a:rPr>
              <a:t>]</a:t>
            </a:r>
            <a:r>
              <a:rPr b="1" lang="zh-CN" sz="4400" spc="-1" strike="noStrike">
                <a:solidFill>
                  <a:srgbClr val="880f06"/>
                </a:solidFill>
                <a:latin typeface="隶书"/>
                <a:ea typeface="隶书"/>
              </a:rPr>
              <a:t>陶行知《每天四问》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89000"/>
            <a:ext cx="86421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80f06"/>
                </a:solidFill>
                <a:latin typeface="幼圆"/>
              </a:rPr>
              <a:t>知责任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80f06"/>
                </a:solidFill>
                <a:latin typeface="幼圆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80f06"/>
                </a:solidFill>
                <a:latin typeface="幼圆"/>
              </a:rPr>
              <a:t>明责任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80f06"/>
                </a:solidFill>
                <a:latin typeface="幼圆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80f06"/>
                </a:solidFill>
                <a:latin typeface="幼圆"/>
              </a:rPr>
              <a:t>负责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80f06"/>
              </a:solidFill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3645000"/>
            <a:ext cx="756144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责任：分内应做的事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责任感：即责任心，自觉地把分内的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事做好的心情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71640" y="333360"/>
            <a:ext cx="504036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隶书"/>
              </a:rPr>
              <a:t>第一篇章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[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知责任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]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8526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什么是责任、责任感？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35640" y="609300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566748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知道哪些关于责任的名言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 </a:t>
            </a:r>
            <a:br>
              <a:rPr sz="36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8748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天下兴亡，匹夫有责。——顾炎武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先天下之忧而忧，后天下之乐而乐。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——范仲淹《岳阳楼记》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责任就是对自己要求去做的事情有一种爱。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</a:t>
            </a: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[</a:t>
            </a: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德国</a:t>
            </a: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]</a:t>
            </a: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歌德《格言与感想》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责任并不是一种由外部强加在人身上的义务，而是我需要对我所关心的事情作出反应。                               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</a:t>
            </a: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[</a:t>
            </a: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美国</a:t>
            </a: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]</a:t>
            </a: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弗洛姆《为自己的人》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责任心就是关心别人，关心整个社会。有了责任心，生活就有了真正的含义和灵魂。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[</a:t>
            </a: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科威特</a:t>
            </a: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]</a:t>
            </a: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穆尼尔</a:t>
            </a: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i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纳素夫《愿你生活更美好》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87280" y="333360"/>
            <a:ext cx="3456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99ff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格言</a:t>
            </a:r>
            <a:endParaRPr b="1" i="1" lang="en-US" sz="1800" spc="1" strike="noStrike">
              <a:ln w="9360">
                <a:solidFill>
                  <a:srgbClr val="99ff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582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76360" y="691920"/>
            <a:ext cx="61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李金华铁面刮起“审计风暴”，使“问题官员”成批落马；高正义愤声讨“有毒”奶粉，令劣质食品被迫下架。刘亮冲冠一怒，捅出了彩票造假黑幕；杨元庆大胆出手，演了出“蛇吞象”的大戏。袁隆平海南砺志，任长霞剑胆琴心……这些人在不同的位置，却有着相同的责任心。让人在热血沸腾，荡气回肠的同时，又对他们肃然起敬。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 rot="5400000">
            <a:off x="5771880" y="3163680"/>
            <a:ext cx="5185080" cy="673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ff66"/>
                  </a:solidFill>
                  <a:miter/>
                </a:ln>
                <a:solidFill>
                  <a:srgbClr val="cc3300"/>
                </a:solidFill>
                <a:latin typeface="隶书"/>
              </a:rPr>
              <a:t>2004</a:t>
            </a:r>
            <a:r>
              <a:rPr b="1" lang="zh-CN" sz="1800" spc="1" strike="noStrike">
                <a:ln w="9360">
                  <a:solidFill>
                    <a:srgbClr val="99ff66"/>
                  </a:solidFill>
                  <a:miter/>
                </a:ln>
                <a:solidFill>
                  <a:srgbClr val="cc3300"/>
                </a:solidFill>
                <a:latin typeface="隶书"/>
              </a:rPr>
              <a:t>年大事记</a:t>
            </a:r>
            <a:endParaRPr b="1" lang="en-US" sz="1800" spc="1" strike="noStrike">
              <a:ln w="9360">
                <a:solidFill>
                  <a:srgbClr val="99ff66"/>
                </a:solidFill>
                <a:miter/>
              </a:ln>
              <a:solidFill>
                <a:srgbClr val="cc3300"/>
              </a:solidFill>
              <a:latin typeface="隶书"/>
              <a:ea typeface="隶书"/>
            </a:endParaRPr>
          </a:p>
        </p:txBody>
      </p:sp>
      <p:sp>
        <p:nvSpPr>
          <p:cNvPr id="296" name=""/>
          <p:cNvSpPr txBox="1"/>
          <p:nvPr/>
        </p:nvSpPr>
        <p:spPr>
          <a:xfrm rot="5400000">
            <a:off x="-1981440" y="2997360"/>
            <a:ext cx="5329080" cy="71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ff66"/>
                  </a:solidFill>
                  <a:miter/>
                </a:ln>
                <a:solidFill>
                  <a:srgbClr val="cc3300"/>
                </a:solidFill>
                <a:latin typeface="隶书"/>
              </a:rPr>
              <a:t>责任的神圣与可贵</a:t>
            </a:r>
            <a:endParaRPr b="1" lang="en-US" sz="1800" spc="1" strike="noStrike">
              <a:ln w="9360">
                <a:solidFill>
                  <a:srgbClr val="99ff66"/>
                </a:solidFill>
                <a:miter/>
              </a:ln>
              <a:solidFill>
                <a:srgbClr val="cc33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92000" y="1412640"/>
            <a:ext cx="432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Arial"/>
                <a:ea typeface="隶书"/>
              </a:rPr>
              <a:t>第二篇章</a:t>
            </a:r>
            <a:br>
              <a:rPr sz="6000"/>
            </a:br>
            <a:br>
              <a:rPr sz="3600"/>
            </a:b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明责任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]</a:t>
            </a:r>
            <a:br>
              <a:rPr sz="4800"/>
            </a:b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96640" y="4796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自己负责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96640" y="4075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别人负责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50560" y="335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家庭负责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81960" y="5831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集体负责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67560" y="4940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社会负责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67560" y="4148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国家负责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21480" y="335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人类负责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20</a:t>
            </a:r>
            <a:r>
              <a:rPr b="1" lang="zh-CN" sz="32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世纪初的一位美国意大利移民弗兰克，他经过艰苦的积蓄开办了一家小银行，但一次银行遭抢劫改变了他的人生之路。他破了产，储户失去了存款。当他带着妻子和四个儿女从头开始的时候，他决定偿还那笔天文数字般的存款。所有的人都劝他：“你为什么要这样做呢？这件事你是没有责任的。”但他回答：“是的，在法律上也许我没有责任，但在道义上，我有责任，我应该还钱。”</a:t>
            </a:r>
            <a:br>
              <a:rPr sz="3200"/>
            </a:br>
            <a:r>
              <a:rPr b="1" lang="zh-CN" sz="32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偿还的代价是三十年的艰苦生活，寄出最后一笔“债务”时，他轻叹：“现在我终于无债一身轻了。”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05:30:2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0:55:19Z</dcterms:modified>
  <cp:revision>115</cp:revision>
  <dc:subject>主题班会课件(分28大类): http://shop62905894.taobao.com</dc:subject>
  <dc:title>主题班会课件(分28大类): http://shop62905894.taobao.com</dc:title>
</cp:coreProperties>
</file>