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5.wmf" ContentType="image/x-wmf"/>
  <Override PartName="/ppt/media/image6.png" ContentType="image/png"/>
  <Override PartName="/ppt/media/image3.gif" ContentType="image/gif"/>
  <Override PartName="/ppt/media/image7.png" ContentType="image/png"/>
  <Override PartName="/ppt/media/image4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80B8-E2A5-4204-9C7B-AC90EE488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0670-195E-4D7D-821D-6B95DFBC7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6302-6B89-40C1-9A7D-1402C13E4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E2D7-D20F-4FD4-8E39-C11D18384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3B41-22F0-4271-BBB5-9C1610134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32D3-AE4C-405C-A18C-A50D946C8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651A-DF76-45E0-8BFE-F425FC394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87CF-AC0C-4F0E-A6C1-3D0D5B483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F058-8D15-4CF7-BF9E-0068954DF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1940-9348-443D-80D0-1B2DF572C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D3CC-BA77-4978-8B5E-9288E3D56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84E3-E78A-4598-B88D-01E3E774B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B5E8A-37C4-485C-AA90-438B476DABE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2.gif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00200" y="129528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76360" cy="12970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2411280" y="4581360"/>
            <a:ext cx="50292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99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班级自习纪律班会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352680" y="2514600"/>
            <a:ext cx="166716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886200" y="914400"/>
            <a:ext cx="48769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每天由值日班长记录各组加减分情况，并写明原因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、 每周一在班会上公布各组上周得分情况，并根据各组得分进行奖惩措施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886200" y="5486400"/>
            <a:ext cx="52578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为方便值日班长监督，晚自习期间值日班长可以与最后一排的同学换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 rot="5400000">
            <a:off x="-914400" y="1294920"/>
            <a:ext cx="3733920" cy="19051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惩罚措施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：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5" name=""/>
          <p:cNvSpPr/>
          <p:nvPr/>
        </p:nvSpPr>
        <p:spPr>
          <a:xfrm>
            <a:off x="4038480" y="1752480"/>
            <a:ext cx="51055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、抬一周饭并兼任摆自行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、由小组负责办下一周板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、主持以自我批评为主的班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、抄自习规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762120" y="76320"/>
          <a:ext cx="7696080" cy="6781680"/>
        </p:xfrm>
        <a:graphic>
          <a:graphicData uri="http://schemas.openxmlformats.org/drawingml/2006/table">
            <a:tbl>
              <a:tblPr/>
              <a:tblGrid>
                <a:gridCol w="1282680"/>
                <a:gridCol w="2984400"/>
                <a:gridCol w="3429000"/>
              </a:tblGrid>
              <a:tr h="94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加分及理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减分及理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" name=""/>
          <p:cNvSpPr/>
          <p:nvPr/>
        </p:nvSpPr>
        <p:spPr>
          <a:xfrm>
            <a:off x="838080" y="5335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小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447920" y="1522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加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0" y="914400"/>
            <a:ext cx="8991720" cy="434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f16363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宋体"/>
              </a:rPr>
              <a:t>以上内容只为草案，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16363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f16363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宋体"/>
              </a:rPr>
              <a:t>同学们若有好的提议，欢迎提供！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16363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f16363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宋体"/>
              </a:rPr>
              <a:t>！！！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16363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04920" y="1371600"/>
            <a:ext cx="464796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今天我终于站上这</a:t>
            </a:r>
            <a:r>
              <a:rPr b="1" lang="zh-CN" sz="2000" spc="-1" strike="noStrike">
                <a:solidFill>
                  <a:srgbClr val="e10900"/>
                </a:solidFill>
                <a:latin typeface="Times New Roman"/>
              </a:rPr>
              <a:t>年轻的战场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请你给我一束爱的光芒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今天我将要走向这挑战的远方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我要把这世界为你点亮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我的梦想在每个醒来的早晨敲打我的心房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告诉自己成功的道路还很漫长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我的梦想在每次把握机会表达自我主张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展现给你年轻但一样宽阔的胸膛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所有经历风雨的温柔与坚强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所有青春无悔烦恼与成长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所有奔向未来的理想与张扬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所有冲破捆绑的热爱与癫狂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今天我终于站上这</a:t>
            </a:r>
            <a:r>
              <a:rPr b="1" lang="zh-CN" sz="2000" spc="-1" strike="noStrike">
                <a:solidFill>
                  <a:srgbClr val="e10900"/>
                </a:solidFill>
                <a:latin typeface="Times New Roman"/>
              </a:rPr>
              <a:t>年轻的战场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请你为我骄傲鼓掌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今天我将要走向这挑战的远方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我要让这世界为我激荡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952880" y="822240"/>
            <a:ext cx="3962520" cy="54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我的梦想在每个失败的时候迎来祝福目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懂得幸福就是彼此依靠的肩膀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我的梦想在每次付出汗水创造生命绽放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告诉世界我们这一代自信的力量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所有经历风雨的温柔与坚强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所有青春无悔烦恼与成长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所有奔向未来的理想与张扬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所有冲破捆绑的热爱与癫狂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今天我终于站在这</a:t>
            </a:r>
            <a:r>
              <a:rPr b="1" lang="zh-CN" sz="2000" spc="-1" strike="noStrike">
                <a:solidFill>
                  <a:srgbClr val="e10900"/>
                </a:solidFill>
                <a:latin typeface="Times New Roman"/>
              </a:rPr>
              <a:t>年轻的战场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请你给我一束爱的光芒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今天我将要走向这胜利的远方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我要把这世界为你点亮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今天我终于站上这</a:t>
            </a:r>
            <a:r>
              <a:rPr b="1" lang="zh-CN" sz="2000" spc="-1" strike="noStrike">
                <a:solidFill>
                  <a:srgbClr val="e10900"/>
                </a:solidFill>
                <a:latin typeface="Times New Roman"/>
              </a:rPr>
              <a:t>年轻的战场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请你为我骄傲鼓掌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今天我想要走向这挑战的远方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我要让这世界为我激荡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我要让这世界为我激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85800" y="0"/>
            <a:ext cx="3962520" cy="1376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年轻的战场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3352680" y="0"/>
            <a:ext cx="1667160" cy="19051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92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5" dur="260992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0" y="533520"/>
            <a:ext cx="8153280" cy="248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最后，祝我们班当选成功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762120" y="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590920" y="320040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57200"/>
            <a:ext cx="815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       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为了自习纪律明星班的成功当选，我们制订出以下措施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295280" y="2514600"/>
            <a:ext cx="60199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分组管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制定自习纪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班委监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2057400"/>
            <a:ext cx="990360" cy="914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3520" y="3124080"/>
            <a:ext cx="990360" cy="914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95480" y="2057400"/>
            <a:ext cx="914400" cy="914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752480" y="2057400"/>
            <a:ext cx="990720" cy="914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95480" y="3124080"/>
            <a:ext cx="914400" cy="914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52480" y="3124080"/>
            <a:ext cx="990720" cy="914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33520" y="4191120"/>
            <a:ext cx="327636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533520"/>
            <a:ext cx="579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为了方便管理，我们将大家分成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7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个组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52280" y="4724280"/>
            <a:ext cx="876312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每组选出一名组长，由组长管理本组同学作业收发及收钱，并向课代表报告作业情况。每组同学将轮流主办板报，可以请求班委协助写字、画图，但必须由本组出板报材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990720" y="762120"/>
            <a:ext cx="708660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为了保证我们班可以取得自习纪律明星班的称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也为了保证大家有一个好的自习环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752480" y="5105520"/>
            <a:ext cx="441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我们订立以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5181480" y="4952880"/>
            <a:ext cx="18288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自习要求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0"/>
            <a:ext cx="8915400" cy="60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必须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前进班进班坐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值日班长提醒同学保持安静，同学们务必尽快安静下来，进入自习状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若须借东西请于上自习前办好，上自习后禁止借东西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看自习老师来之前由值日班长管理自习纪律，同学不得说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课上认真学习，不做与学习无关的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课上不许私自谈论问题，务必保持自习纪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禁止吃东西、喝水、玩游戏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不许外出问老师问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自习期间不许上厕所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同桌之间不许玩游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自习期间禁止外出，若有事必须出去须向自习老师说明原因，征得同意后方可离开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228600"/>
            <a:ext cx="914400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合理安排自习时间，充分利用自习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班委若有事要宣布，须向看自习老师说明情况得到允许才可以说，并且要将影响减到最低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当有检查老师来检查，做自己的事不要东张西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值日班长必须认真负责，协助看自习老师维持好自习纪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第一节自习下课后，同学们可到楼道窗口放松一下，但不许打闹喧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第二节自习上课后尽快进入自习状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课代表若要发作业，须在课下发好，自习课上禁止发作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9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擦黑板同学要在上自习前将黑板擦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禁止提前收拾书包，打下课铃后方可收拾用品，离开教室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离开时，向老师再见并请老师先走，不许和老师抢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38080" y="6400800"/>
            <a:ext cx="7391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若有违纪，将按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Times New Roman"/>
                <a:hlinkClick r:id="rId1" action="ppaction://hlinksldjump"/>
              </a:rPr>
              <a:t>加减分标准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对小组进行处理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09680" y="0"/>
            <a:ext cx="6705720" cy="66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迟到或未经允许私自离校扣二分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不做值日扣一分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不写、不交作业扣一分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上课私自说话、讨论问题、吃东西、喝水、故意起哄扣一分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未经老师允许擅自走动或离开教室的同学扣二分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不认真做间操扣二分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桌面不整洁扣一分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桌子对不齐扣一分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延期完成板报扣一分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周一至周五不穿校服扣一分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晚自习不能及时回班扣一分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自习前经值日班长提醒仍不能安静下来扣一分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自习课上做与学习无关的事扣二分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自习课上厕所扣一分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自习外出问题扣一分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不能安心学习或提前收拾书包扣一分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14160" y="2057400"/>
            <a:ext cx="729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扣分标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781680" y="0"/>
            <a:ext cx="205740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981080" y="228600"/>
            <a:ext cx="4572000" cy="62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值日完成情况较好的同学给所在组加一分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作业完成质量高的组加一分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能坚持进班后自动学习，不斗闹加一分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间操站队快、静、齐加一分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坚持认真做操加一分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关心班级体、为班级体做出贡献加二分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提前完成板报任务加一分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板报办得好加二分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主动帮助老师及同学加一分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运动会上取得名次加二分，参加未取得名次加一分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积极参加学校活动并取得一定成绩加二分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月考成绩进步较大的同学加二分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收费时最快的组加一分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能长期保持自习课学习效率高加二分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一周表现最好的组加三分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37840" y="1219320"/>
            <a:ext cx="729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加分标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990720" y="3809880"/>
            <a:ext cx="99036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304920" y="609480"/>
            <a:ext cx="861048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3366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为增强大家的集体荣誉感，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3366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3366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我们将实行捆绑式管理。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3366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3366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即哪组分数最少，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3366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3366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将对那一组的所有组员进行处罚措施。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3366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209680" y="2743200"/>
            <a:ext cx="3730680" cy="37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02:42:44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4T01:35:33Z</dcterms:modified>
  <cp:revision>2</cp:revision>
  <dc:subject>主题班会课件(分28大类): http://shop62905894.taobao.com</dc:subject>
  <dc:title>主题班会课件(分28大类): http://shop62905894.taobao.com</dc:title>
</cp:coreProperties>
</file>