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7.gif" ContentType="image/gif"/>
  <Override PartName="/ppt/media/image26.gif" ContentType="image/gif"/>
  <Override PartName="/ppt/media/image29.jpeg" ContentType="image/jpeg"/>
  <Override PartName="/ppt/media/image7.gif" ContentType="image/gif"/>
  <Override PartName="/ppt/media/image2.png" ContentType="image/png"/>
  <Override PartName="/ppt/media/image4.jpeg" ContentType="image/jpeg"/>
  <Override PartName="/ppt/media/image22.gif" ContentType="image/gif"/>
  <Override PartName="/ppt/media/image8.gif" ContentType="image/gif"/>
  <Override PartName="/ppt/media/image33.gif" ContentType="image/gif"/>
  <Override PartName="/ppt/media/image13.gif" ContentType="image/gif"/>
  <Override PartName="/ppt/media/image9.wmf" ContentType="image/x-wmf"/>
  <Override PartName="/ppt/media/image5.jpeg" ContentType="image/jpeg"/>
  <Override PartName="/ppt/media/image12.gif" ContentType="image/gif"/>
  <Override PartName="/ppt/media/image11.png" ContentType="image/png"/>
  <Override PartName="/ppt/media/image31.gif" ContentType="image/gif"/>
  <Override PartName="/ppt/media/image10.gif" ContentType="image/gif"/>
  <Override PartName="/ppt/media/image34.gif" ContentType="image/gif"/>
  <Override PartName="/ppt/media/image3.png" ContentType="image/png"/>
  <Override PartName="/ppt/media/image1.png" ContentType="image/png"/>
  <Override PartName="/ppt/media/image19.gif" ContentType="image/gif"/>
  <Override PartName="/ppt/media/image21.gif" ContentType="image/gif"/>
  <Override PartName="/ppt/media/image14.gif" ContentType="image/gif"/>
  <Override PartName="/ppt/media/image15.jpeg" ContentType="image/jpeg"/>
  <Override PartName="/ppt/media/image16.gif" ContentType="image/gif"/>
  <Override PartName="/ppt/media/image17.gif" ContentType="image/gif"/>
  <Override PartName="/ppt/media/image18.gif" ContentType="image/gif"/>
  <Override PartName="/ppt/media/image20.gif" ContentType="image/gif"/>
  <Override PartName="/ppt/media/image23.png" ContentType="image/png"/>
  <Override PartName="/ppt/media/image30.gif" ContentType="image/gif"/>
  <Override PartName="/ppt/media/image32.jpeg" ContentType="image/jpeg"/>
  <Override PartName="/ppt/media/image24.gif" ContentType="image/gif"/>
  <Override PartName="/ppt/media/image6.jpeg" ContentType="image/jpeg"/>
  <Override PartName="/ppt/media/image25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76E8-116A-4C8D-9CFF-1647F6DD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2CC6-00AD-4A1F-B548-219D92AE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140A-6952-4D53-AEF9-13E7CA77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207A-2CBC-4A8B-AA16-2B7364CF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0B38-D8E6-46E5-BEB0-03BCBDED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2B0B-4477-4BB1-875D-6A6214C0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4E6A-2552-449F-A94C-C009FC93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3269-BAA2-497F-A4EB-8EA55DCE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5DAA-D5A2-4C98-AEDE-C33DCD62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ACC5-C687-499C-A639-D4991199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D132-B6B5-48B2-8AA9-B6DEAD2D8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CB40-312B-406B-8F63-5BB0BE89E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E2D2-6FCB-43FB-9EE1-FE204BE0A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73F7-E8A2-42E7-BE81-AF510B8D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C502-6547-4A59-8E0C-4901C746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0C17-F24B-4566-81D5-CB7EDF5D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587C-49ED-4A5E-A99B-8BE06599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8F33-FE5C-403F-A5DB-0A8FCB78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7EA2-D8A8-497E-998C-EE77E6EB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3402-A6E9-4B27-B647-A922F17A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B983-C710-4F2C-89E5-2D91D06B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4279-928D-4917-AC41-BE05C768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C985-9912-46CA-975C-F7D636B52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423E-B2CB-4B91-8603-7E68EE6EE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9411C-B07D-47BE-810F-089F9E72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94FB1-BBEB-481F-82CA-66FF65C8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356B6-F4F6-4A8F-A47F-F59C1D52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1F476-176C-40C1-921C-0F5E91B1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382E8-8B7D-4BED-B216-F794F933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46390-060C-475D-925E-1A27F441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87718-5D76-47C6-BF21-A42D36D5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FF0D7-9F9F-4BB4-A881-85AFA263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F5908-2E7B-4A2E-B94C-753D6969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8E14C-C35F-42F3-B837-0A4D5482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E2ABC-91D5-42CA-93C9-F61B58E0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041EF-BE02-4D56-8877-F2132AA0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7FA4-34E8-4EC1-8EE5-731C4DD9DD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D204-2D1D-454E-9E21-21A4EF3C4F09}" type="slidenum"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ABFF-B8C2-42FE-9A3B-6354E4882C62}" type="slidenum"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32.jpeg"/><Relationship Id="rId5" Type="http://schemas.openxmlformats.org/officeDocument/2006/relationships/image" Target="../media/image21.gif"/><Relationship Id="rId6" Type="http://schemas.openxmlformats.org/officeDocument/2006/relationships/image" Target="../media/image33.gif"/><Relationship Id="rId7" Type="http://schemas.openxmlformats.org/officeDocument/2006/relationships/image" Target="../media/image34.gif"/><Relationship Id="rId8" Type="http://schemas.openxmlformats.org/officeDocument/2006/relationships/image" Target="../media/image20.gi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wmf"/><Relationship Id="rId3" Type="http://schemas.openxmlformats.org/officeDocument/2006/relationships/image" Target="../media/image10.gif"/><Relationship Id="rId4" Type="http://schemas.openxmlformats.org/officeDocument/2006/relationships/image" Target="../media/image11.png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image" Target="../media/image14.gif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-108000"/>
            <a:ext cx="9288360" cy="696600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1547640" y="981000"/>
            <a:ext cx="6166080" cy="3625560"/>
            <a:chOff x="1547640" y="981000"/>
            <a:chExt cx="6166080" cy="3625560"/>
          </a:xfrm>
        </p:grpSpPr>
        <p:sp>
          <p:nvSpPr>
            <p:cNvPr id="167" name=""/>
            <p:cNvSpPr txBox="1"/>
            <p:nvPr/>
          </p:nvSpPr>
          <p:spPr>
            <a:xfrm>
              <a:off x="1547640" y="981000"/>
              <a:ext cx="6166080" cy="182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20644"/>
                  <a:gd name="adj2" fmla="val -31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宋体"/>
                </a:rPr>
                <a:t>What should we do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2250720" y="2889000"/>
              <a:ext cx="4732560" cy="171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20644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宋体"/>
                </a:rPr>
                <a:t>for Class 9?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334120" y="59929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39640" y="4365720"/>
            <a:ext cx="1623960" cy="22478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7620120" y="260280"/>
            <a:ext cx="1523880" cy="15242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124000" y="566100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 u="sng">
                <a:solidFill>
                  <a:srgbClr val="cc3300"/>
                </a:solidFill>
                <a:uFillTx/>
                <a:latin typeface="Arial"/>
                <a:ea typeface="仿宋_GB2312"/>
              </a:rPr>
              <a:t>我们该为九班做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227640" y="63025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仿宋_GB2312"/>
              </a:rPr>
              <a:t>高二九班班会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-304920"/>
            <a:ext cx="1371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名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言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361960" y="304920"/>
            <a:ext cx="65530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滴水只有放进大海里才永远不会干涸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一个人只有当他把自己和集体事业融合在一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起的时候才能最有力量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——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雷锋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一堆沙子是松散的，可是它和水泥、石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子、水混合后，比花岗岩还坚韧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——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王杰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人是要有帮助的。荷花虽好，也要绿叶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扶持。一个篱笆打三个桩，一个好汉要有三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个帮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——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毛泽东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只有在集体中，个人才能获得全面发展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其才能的手段，也就是说，只有在集体中才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可能有个人自由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——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马克思、恩格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85800" y="4351320"/>
            <a:ext cx="1708200" cy="2125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-76320"/>
            <a:ext cx="1371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名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言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438280" y="75960"/>
            <a:ext cx="655344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科学家不是依赖于个人的思想，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是综合了几千人的智慧，所有的人想一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个问题，并且每人做它的部分工作，添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加到正建立起来的伟大知识大厦之中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——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卢瑟福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劳动者的组织性、纪律性、坚毅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神以及同全世界劳动者的团结一致，是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取得最后胜利的保证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——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列宁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我们知道个人是微弱的，但是我们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也知道整体就是力量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——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马克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团结就是力量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——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XOXOXX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65200" y="4267080"/>
            <a:ext cx="1797120" cy="2370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7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7315200" y="3809880"/>
            <a:ext cx="1447920" cy="12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419720" y="4419720"/>
            <a:ext cx="2895480" cy="2187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1620720" cy="2994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6248520" y="228600"/>
            <a:ext cx="2609640" cy="33526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228600" y="422928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2057400" y="685800"/>
            <a:ext cx="2819520" cy="21621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3276720" y="5029200"/>
            <a:ext cx="1199880" cy="12002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8"/>
          <a:stretch/>
        </p:blipFill>
        <p:spPr>
          <a:xfrm>
            <a:off x="4165560" y="2209680"/>
            <a:ext cx="1778040" cy="21337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716240" y="5715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Arial"/>
                <a:ea typeface="仿宋_GB2312"/>
              </a:rPr>
              <a:t>谢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600200" y="11080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所谓人无完人，没有人能够做到百分百的完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66cc"/>
                </a:solidFill>
                <a:latin typeface="Times New Roman"/>
              </a:rPr>
              <a:t>但是，为什么大家都是高一的学生，别的班能够出色完成的，而我们班却不能做好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5715000" y="4648320"/>
            <a:ext cx="1752480" cy="990360"/>
          </a:xfrm>
          <a:prstGeom prst="flowChartDecision">
            <a:avLst/>
          </a:prstGeom>
          <a:gradFill rotWithShape="0">
            <a:gsLst>
              <a:gs pos="0">
                <a:srgbClr val="ffff99"/>
              </a:gs>
              <a:gs pos="50000">
                <a:srgbClr val="757546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仿宋_GB2312"/>
              </a:rPr>
              <a:t>案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2514600" y="4572000"/>
            <a:ext cx="2514600" cy="19940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7620120" y="53341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304920" y="54100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228600" y="228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7238880" y="228600"/>
            <a:ext cx="1698840" cy="1455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67840" y="0"/>
            <a:ext cx="135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仿宋_GB2312"/>
                <a:ea typeface="仿宋_GB2312"/>
              </a:rPr>
              <a:t>案例</a:t>
            </a:r>
            <a:r>
              <a:rPr b="1" lang="zh-CN" sz="3200" spc="-1" strike="noStrike">
                <a:solidFill>
                  <a:srgbClr val="3366ff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3366ff"/>
                </a:solidFill>
                <a:latin typeface="仿宋_GB2312"/>
                <a:ea typeface="仿宋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533520"/>
            <a:ext cx="86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66"/>
                </a:solidFill>
                <a:latin typeface="宋体"/>
              </a:rPr>
              <a:t>   </a:t>
            </a:r>
            <a:r>
              <a:rPr b="1" lang="zh-CN" sz="2500" spc="-1" strike="noStrike">
                <a:solidFill>
                  <a:srgbClr val="ff0066"/>
                </a:solidFill>
                <a:latin typeface="宋体"/>
              </a:rPr>
              <a:t>2004</a:t>
            </a:r>
            <a:r>
              <a:rPr b="1" lang="zh-CN" sz="2500" spc="-1" strike="noStrike">
                <a:solidFill>
                  <a:srgbClr val="ff0066"/>
                </a:solidFill>
                <a:latin typeface="宋体"/>
              </a:rPr>
              <a:t>年雅典奥运会上，美国男篮精英们组成的梦六队可以说对“协作型团队”团队是最好的诠释。他们每一个虽然都是技艺超群的球员，但是</a:t>
            </a:r>
            <a:r>
              <a:rPr b="1" lang="zh-CN" sz="2500" spc="-1" strike="noStrike" u="sng">
                <a:solidFill>
                  <a:srgbClr val="cc66ff"/>
                </a:solidFill>
                <a:uFillTx/>
                <a:latin typeface="宋体"/>
              </a:rPr>
              <a:t>由于仓促组队，各自为政，队员和队员之间，队员和教练之间，缺乏默契和配合，</a:t>
            </a:r>
            <a:r>
              <a:rPr b="1" lang="zh-CN" sz="2500" spc="-1" strike="noStrike">
                <a:solidFill>
                  <a:srgbClr val="ff0066"/>
                </a:solidFill>
                <a:latin typeface="宋体"/>
              </a:rPr>
              <a:t>并没有发挥出团队应有的效能，所以变成了一个笑话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7840" y="2514600"/>
            <a:ext cx="135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仿宋_GB2312"/>
                <a:ea typeface="仿宋_GB2312"/>
              </a:rPr>
              <a:t>案例</a:t>
            </a:r>
            <a:r>
              <a:rPr b="1" lang="zh-CN" sz="3200" spc="-1" strike="noStrike">
                <a:solidFill>
                  <a:srgbClr val="3366ff"/>
                </a:solidFill>
                <a:latin typeface="仿宋_GB2312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3366ff"/>
                </a:solidFill>
                <a:latin typeface="仿宋_GB2312"/>
                <a:ea typeface="仿宋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3048120"/>
            <a:ext cx="864072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412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66"/>
                </a:solidFill>
                <a:latin typeface="宋体"/>
              </a:rPr>
              <a:t>  </a:t>
            </a:r>
            <a:r>
              <a:rPr b="1" lang="zh-CN" sz="2500" spc="-1" strike="noStrike">
                <a:solidFill>
                  <a:srgbClr val="ff0066"/>
                </a:solidFill>
                <a:latin typeface="Arial"/>
              </a:rPr>
              <a:t>任何时代，英雄的业绩都不是一个人创造的，包括乔丹。那时的芝加哥公牛还有皮蓬、罗德曼、科尔、朗利、库科奇、格兰特等杰出的运动员，他们组成的那支优秀的团队，才成就了芝加哥公牛的二个三年冠的霸业。可以说没有乔丹，就没有芝加哥的公牛上个世纪</a:t>
            </a:r>
            <a:r>
              <a:rPr b="1" lang="zh-CN" sz="2500" spc="-1" strike="noStrike">
                <a:solidFill>
                  <a:srgbClr val="ff0066"/>
                </a:solidFill>
                <a:latin typeface="Arial"/>
              </a:rPr>
              <a:t>90</a:t>
            </a:r>
            <a:r>
              <a:rPr b="1" lang="zh-CN" sz="2500" spc="-1" strike="noStrike">
                <a:solidFill>
                  <a:srgbClr val="ff0066"/>
                </a:solidFill>
                <a:latin typeface="Arial"/>
              </a:rPr>
              <a:t>年代的辉煌；</a:t>
            </a:r>
            <a:r>
              <a:rPr b="1" lang="zh-CN" sz="2500" spc="-1" strike="noStrike" u="sng">
                <a:solidFill>
                  <a:srgbClr val="cc66ff"/>
                </a:solidFill>
                <a:uFillTx/>
                <a:latin typeface="Arial"/>
              </a:rPr>
              <a:t>没有乔丹那帮伙伴，也同样不会有一个辉煌的时代。</a:t>
            </a:r>
            <a:r>
              <a:rPr b="1" lang="zh-CN" sz="2500" spc="-1" strike="noStrike">
                <a:solidFill>
                  <a:srgbClr val="cc66ff"/>
                </a:solidFill>
                <a:latin typeface="Arial"/>
              </a:rPr>
              <a:t>时代需要英雄，</a:t>
            </a:r>
            <a:r>
              <a:rPr b="1" lang="zh-CN" sz="2500" spc="-1" strike="noStrike" u="sng">
                <a:solidFill>
                  <a:srgbClr val="cc66ff"/>
                </a:solidFill>
                <a:uFillTx/>
                <a:latin typeface="Arial"/>
              </a:rPr>
              <a:t>更需要伟大的团队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38640" y="5943600"/>
            <a:ext cx="48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问题：以上两个例子给我们什么启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7391520" y="2133720"/>
            <a:ext cx="1133280" cy="10857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76320" y="5562720"/>
            <a:ext cx="1523880" cy="1085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8600" y="22860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66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ff0066"/>
                </a:solidFill>
                <a:latin typeface="宋体"/>
              </a:rPr>
              <a:t>从以上的案例，我们可以了解到，对于一个集体，彼此之间是否有默契和能否配合好，关系到整个集体的发展，也关系到集体的荣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66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ff0066"/>
                </a:solidFill>
                <a:latin typeface="宋体"/>
              </a:rPr>
              <a:t>我们也明白到，集体的凝聚力是非常重要的。然而综观</a:t>
            </a:r>
            <a:r>
              <a:rPr b="1" lang="zh-CN" sz="3000" spc="-1" strike="noStrike">
                <a:solidFill>
                  <a:srgbClr val="ff0066"/>
                </a:solidFill>
                <a:latin typeface="宋体"/>
              </a:rPr>
              <a:t>9</a:t>
            </a:r>
            <a:r>
              <a:rPr b="1" lang="zh-CN" sz="3000" spc="-1" strike="noStrike">
                <a:solidFill>
                  <a:srgbClr val="ff0066"/>
                </a:solidFill>
                <a:latin typeface="宋体"/>
              </a:rPr>
              <a:t>班，显然是缺乏集体凝聚力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25588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ff"/>
                </a:solidFill>
                <a:latin typeface="Arial"/>
                <a:ea typeface="仿宋_GB2312"/>
              </a:rPr>
              <a:t>问题①：什么叫做集体凝聚力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3244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仿宋_GB2312"/>
              </a:rPr>
              <a:t>答案：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 集体凝聚力是集体成员的吸引力和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员之间的相互吸引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41590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ff"/>
                </a:solidFill>
                <a:latin typeface="Arial"/>
                <a:ea typeface="仿宋_GB2312"/>
              </a:rPr>
              <a:t>问题②：集体凝聚力有什么特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4829040"/>
            <a:ext cx="866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答案：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集体里成员归属感强，乐于参加集体活动并承担集体工作的相关责任，维护集体利益和荣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；成员之间信息沟通快，互相了解比较深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关系和谐，并具有民主气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86600" y="2666880"/>
            <a:ext cx="1790640" cy="14655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7620120" y="5334120"/>
            <a:ext cx="1265040" cy="1265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7088040" y="42670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0600" y="131760"/>
            <a:ext cx="8794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有一段从网上摘录的关于团体合作的衡量标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ff"/>
                </a:solidFill>
                <a:latin typeface="Arial"/>
              </a:rPr>
              <a:t>第一级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人们认为自己在独自做一项工作，而不是在团队中工作。各工作间的合作不协凋。工人们与管理层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能一条心，任何一项改革都引起猜疑和反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ff"/>
                </a:solidFill>
                <a:latin typeface="宋体"/>
              </a:rPr>
              <a:t>第二级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员工都对公司准备出台的改进措施持合作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度。团队有明确的、可衡量的团队目标。员工都知道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是他们的顾客，不管是内部的还是外部的。他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看上去是一个团队，为完成工作而互相帮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ff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6699ff"/>
                </a:solidFill>
                <a:latin typeface="Arial"/>
              </a:rPr>
              <a:t>第三级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工作团队每天聚集一次，或至少每月聚一次。团队成员和领导在团队中有明确的角色定位。他们和自己的顾客之间订立了明确的合约，他们把运作数据公开在团队的工作场所。员工有多种技能，可以做多种不同的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7238880" y="16002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76320" y="3657600"/>
            <a:ext cx="1295280" cy="125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　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6440" y="133200"/>
            <a:ext cx="8778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ff"/>
                </a:solidFill>
                <a:latin typeface="宋体"/>
              </a:rPr>
              <a:t>第四级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围绕运作程序或产品生产将团队组织起来。建立跨部门的项目团队，以解决重大项目问题。团队设定自己的目标，管理自己的预算，解决自己的问题，并进行自我创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ff"/>
                </a:solidFill>
                <a:latin typeface="宋体"/>
              </a:rPr>
              <a:t>第五级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到处都有团队合作，这已经成为人们的生活方式。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建立了可以自我发展的团队，并且进行着有效地运作。 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团队的多才多能意味着他们能很好地适应变化，团队庆贺自己的成就，并渴望得到成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825480" y="4419720"/>
            <a:ext cx="1841400" cy="22096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5715000" y="4152960"/>
            <a:ext cx="2552760" cy="25527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3276720" y="4648320"/>
            <a:ext cx="2057400" cy="1881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735920" y="15876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经过观察，发现我们班的问题主要有以下几方面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2280" y="76212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Arial"/>
                <a:ea typeface="仿宋_GB2312"/>
              </a:rPr>
              <a:t>⑴</a:t>
            </a:r>
            <a:r>
              <a:rPr b="1" lang="zh-CN" sz="2800" spc="-1" strike="noStrike">
                <a:solidFill>
                  <a:srgbClr val="6666ff"/>
                </a:solidFill>
                <a:latin typeface="Arial"/>
                <a:ea typeface="仿宋_GB2312"/>
              </a:rPr>
              <a:t>早读：由于人的惰性，有一部分同学因睡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Arial"/>
                <a:ea typeface="仿宋_GB2312"/>
              </a:rPr>
              <a:t>还浓，不愿意开口读书。更有的同学，由于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Arial"/>
                <a:ea typeface="仿宋_GB2312"/>
              </a:rPr>
              <a:t>睡晚起，而用早读的时间吃早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220968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⑵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卫生：一部分同学不重视卫生的维护工作，认为那只是由当天的值日生负责。而卫生部在眼保健操期间对班级进行卫生突击检查，这时容易造成扣分。另外，个别同学轻视自己的值日工作，在自己值日时报着无所谓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态度，这是对集体荣誉不重视的表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0600" y="4524480"/>
            <a:ext cx="879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               ⑶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自习课、晚自修：在这期间，大部分同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都能认真地学习。但是，由于个别同学的讨论和“讨论” ，课堂上常常有“嗡嗡”的说话声，这不仅令到想认真学习的同学受到干扰，无法集中精神学习，也为班级带来了扣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7467480" y="685800"/>
            <a:ext cx="1422360" cy="16002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171360" y="396252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52280" y="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⑷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仪表：部分女生在头发上“造文章”，但在本学期已经有了明显的改善。但“旧患未愈，新伤又至”。取“头发问题”而代之的是“首饰问题”。一些同学因为追求漂亮，或者是追求个性，又或者是出于某种“意义”而佩带首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6440" y="1752480"/>
            <a:ext cx="877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ff"/>
                </a:solidFill>
                <a:latin typeface="Arial"/>
                <a:ea typeface="仿宋_GB2312"/>
              </a:rPr>
              <a:t>⑸</a:t>
            </a:r>
            <a:r>
              <a:rPr b="1" lang="zh-CN" sz="2800" spc="-1" strike="noStrike">
                <a:solidFill>
                  <a:srgbClr val="9966ff"/>
                </a:solidFill>
                <a:latin typeface="Arial"/>
                <a:ea typeface="仿宋_GB2312"/>
              </a:rPr>
              <a:t>集体活动：例如男女子篮球赛、队列操比赛等，许多同学总有种“事不关己，高高挂起”的思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ff"/>
                </a:solidFill>
                <a:latin typeface="Arial"/>
                <a:ea typeface="仿宋_GB2312"/>
              </a:rPr>
              <a:t>令这些活动在气势上、成绩上都差人一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2280" y="319716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仿宋_GB2312"/>
              </a:rPr>
              <a:t>⑹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仿宋_GB2312"/>
              </a:rPr>
              <a:t>礼貌：很多同学见到老师不会主动向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仿宋_GB2312"/>
              </a:rPr>
              <a:t>师问好，这是不尊敬师长的表现。另外，有相当一部分同学喜欢说脏话，更有的同学认为这是一种“很有型”的行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仿宋_GB2312"/>
              </a:rPr>
              <a:t>P.S.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仿宋_GB2312"/>
              </a:rPr>
              <a:t>有同学反映自己主动向老师问好，但有些老师似乎听而不闻，认为老师不尊重自己，以这作为不向老师问好的借口。但希望同学们能够明白，“有礼貌”是属于自己的，与他人怎样对待你的礼貌问好没有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934320" y="2286000"/>
            <a:ext cx="1904760" cy="1398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幼圆"/>
                <a:ea typeface="幼圆"/>
              </a:rPr>
              <a:t>          </a:t>
            </a:r>
            <a:endParaRPr b="0" lang="en-US" sz="28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00320" y="763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2983"/>
                </a:solidFill>
                <a:latin typeface="Arial"/>
              </a:rPr>
              <a:t>总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09520" y="685800"/>
            <a:ext cx="377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9ac"/>
                </a:solidFill>
                <a:latin typeface="宋体"/>
              </a:rPr>
              <a:t>问题：</a:t>
            </a:r>
            <a:r>
              <a:rPr b="1" lang="zh-CN" sz="3200" spc="-1" strike="noStrike">
                <a:solidFill>
                  <a:srgbClr val="009900"/>
                </a:solidFill>
                <a:latin typeface="宋体"/>
              </a:rPr>
              <a:t>我们该为</a:t>
            </a:r>
            <a:r>
              <a:rPr b="1" lang="zh-CN" sz="3200" spc="-1" strike="noStrike">
                <a:solidFill>
                  <a:srgbClr val="009900"/>
                </a:solidFill>
                <a:latin typeface="宋体"/>
              </a:rPr>
              <a:t>9</a:t>
            </a:r>
            <a:r>
              <a:rPr b="1" lang="zh-CN" sz="3200" spc="-1" strike="noStrike">
                <a:solidFill>
                  <a:srgbClr val="009900"/>
                </a:solidFill>
                <a:latin typeface="宋体"/>
              </a:rPr>
              <a:t>班做些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1219320"/>
            <a:ext cx="87631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</a:rPr>
              <a:t>答案：</a:t>
            </a:r>
            <a:r>
              <a:rPr b="1" lang="zh-CN" sz="3000" spc="-1" strike="noStrike">
                <a:solidFill>
                  <a:srgbClr val="3366ff"/>
                </a:solidFill>
                <a:latin typeface="Arial"/>
              </a:rPr>
              <a:t>㈠</a:t>
            </a:r>
            <a:r>
              <a:rPr b="1" lang="zh-CN" sz="3000" spc="-1" strike="noStrike">
                <a:solidFill>
                  <a:srgbClr val="080808"/>
                </a:solidFill>
                <a:latin typeface="Arial"/>
              </a:rPr>
              <a:t>早睡早起，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不迟到</a:t>
            </a:r>
            <a:r>
              <a:rPr b="1" lang="zh-CN" sz="3000" spc="-1" strike="noStrike">
                <a:solidFill>
                  <a:srgbClr val="080808"/>
                </a:solidFill>
                <a:latin typeface="Arial"/>
              </a:rPr>
              <a:t>，升旗时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严肃些</a:t>
            </a:r>
            <a:r>
              <a:rPr b="1" lang="zh-CN" sz="3000" spc="-1" strike="noStrike">
                <a:solidFill>
                  <a:srgbClr val="080808"/>
                </a:solidFill>
                <a:latin typeface="Arial"/>
              </a:rPr>
              <a:t>；</a:t>
            </a:r>
            <a:r>
              <a:rPr b="1" lang="zh-CN" sz="3000" spc="-1" strike="noStrike">
                <a:solidFill>
                  <a:srgbClr val="3366ff"/>
                </a:solidFill>
                <a:latin typeface="Arial"/>
              </a:rPr>
              <a:t>㈡</a:t>
            </a:r>
            <a:r>
              <a:rPr b="1" lang="zh-CN" sz="3000" spc="-1" strike="noStrike">
                <a:solidFill>
                  <a:srgbClr val="080808"/>
                </a:solidFill>
                <a:latin typeface="Arial"/>
              </a:rPr>
              <a:t>早读时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整齐些</a:t>
            </a:r>
            <a:r>
              <a:rPr b="1" lang="zh-CN" sz="3000" spc="-1" strike="noStrike">
                <a:solidFill>
                  <a:srgbClr val="080808"/>
                </a:solidFill>
                <a:latin typeface="Arial"/>
              </a:rPr>
              <a:t>，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响亮些</a:t>
            </a:r>
            <a:r>
              <a:rPr b="1" lang="zh-CN" sz="3000" spc="-1" strike="noStrike">
                <a:solidFill>
                  <a:srgbClr val="080808"/>
                </a:solidFill>
                <a:latin typeface="Arial"/>
              </a:rPr>
              <a:t>；</a:t>
            </a:r>
            <a:r>
              <a:rPr b="1" lang="zh-CN" sz="3000" spc="-1" strike="noStrike">
                <a:solidFill>
                  <a:srgbClr val="3366ff"/>
                </a:solidFill>
                <a:latin typeface="Arial"/>
              </a:rPr>
              <a:t>㈢</a:t>
            </a:r>
            <a:r>
              <a:rPr b="1" lang="zh-CN" sz="3000" spc="-1" strike="noStrike">
                <a:solidFill>
                  <a:srgbClr val="080808"/>
                </a:solidFill>
                <a:latin typeface="Arial"/>
              </a:rPr>
              <a:t>做操时不缺席。做早操时动作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幅度大些</a:t>
            </a:r>
            <a:r>
              <a:rPr b="1" lang="zh-CN" sz="3000" spc="-1" strike="noStrike">
                <a:solidFill>
                  <a:srgbClr val="080808"/>
                </a:solidFill>
                <a:latin typeface="Arial"/>
              </a:rPr>
              <a:t>，做眼操时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认真些</a:t>
            </a:r>
            <a:r>
              <a:rPr b="1" lang="zh-CN" sz="3000" spc="-1" strike="noStrike">
                <a:solidFill>
                  <a:srgbClr val="080808"/>
                </a:solidFill>
                <a:latin typeface="Arial"/>
              </a:rPr>
              <a:t>；</a:t>
            </a:r>
            <a:r>
              <a:rPr b="1" lang="zh-CN" sz="3000" spc="-1" strike="noStrike">
                <a:solidFill>
                  <a:srgbClr val="3366ff"/>
                </a:solidFill>
                <a:latin typeface="Arial"/>
              </a:rPr>
              <a:t>㈣</a:t>
            </a:r>
            <a:r>
              <a:rPr b="1" lang="zh-CN" sz="3000" spc="-1" strike="noStrike">
                <a:solidFill>
                  <a:srgbClr val="080808"/>
                </a:solidFill>
                <a:latin typeface="Arial"/>
              </a:rPr>
              <a:t>经常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留意</a:t>
            </a:r>
            <a:r>
              <a:rPr b="1" lang="zh-CN" sz="3000" spc="-1" strike="noStrike">
                <a:solidFill>
                  <a:srgbClr val="080808"/>
                </a:solidFill>
                <a:latin typeface="Arial"/>
              </a:rPr>
              <a:t>自己以自己座位为圆心的一米范围内是否有垃圾。无论是否你的垃圾，有的话，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捡起来</a:t>
            </a:r>
            <a:r>
              <a:rPr b="1" lang="zh-CN" sz="3000" spc="-1" strike="noStrike">
                <a:solidFill>
                  <a:srgbClr val="080808"/>
                </a:solidFill>
                <a:latin typeface="Arial"/>
              </a:rPr>
              <a:t>；</a:t>
            </a:r>
            <a:r>
              <a:rPr b="1" lang="zh-CN" sz="3000" spc="-1" strike="noStrike">
                <a:solidFill>
                  <a:srgbClr val="3366ff"/>
                </a:solidFill>
                <a:latin typeface="Arial"/>
              </a:rPr>
              <a:t>㈤</a:t>
            </a:r>
            <a:r>
              <a:rPr b="1" lang="zh-CN" sz="3000" spc="-1" strike="noStrike">
                <a:solidFill>
                  <a:srgbClr val="080808"/>
                </a:solidFill>
                <a:latin typeface="Arial"/>
              </a:rPr>
              <a:t>在自习课和晚自修时，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安静些</a:t>
            </a:r>
            <a:r>
              <a:rPr b="1" lang="zh-CN" sz="3000" spc="-1" strike="noStrike">
                <a:solidFill>
                  <a:srgbClr val="080808"/>
                </a:solidFill>
                <a:latin typeface="Arial"/>
              </a:rPr>
              <a:t>。若发现附近有同学说闲话，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先劝告</a:t>
            </a:r>
            <a:r>
              <a:rPr b="1" lang="zh-CN" sz="3000" spc="-1" strike="noStrike">
                <a:solidFill>
                  <a:srgbClr val="080808"/>
                </a:solidFill>
                <a:latin typeface="Arial"/>
              </a:rPr>
              <a:t>无效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后告诉</a:t>
            </a:r>
            <a:r>
              <a:rPr b="1" lang="zh-CN" sz="3000" spc="-1" strike="noStrike">
                <a:solidFill>
                  <a:srgbClr val="080808"/>
                </a:solidFill>
                <a:latin typeface="Arial"/>
              </a:rPr>
              <a:t>值日生；</a:t>
            </a:r>
            <a:r>
              <a:rPr b="1" lang="zh-CN" sz="3000" spc="-1" strike="noStrike">
                <a:solidFill>
                  <a:srgbClr val="3366ff"/>
                </a:solidFill>
                <a:latin typeface="Arial"/>
              </a:rPr>
              <a:t>㈥</a:t>
            </a:r>
            <a:r>
              <a:rPr b="1" lang="zh-CN" sz="3000" spc="-1" strike="noStrike">
                <a:solidFill>
                  <a:srgbClr val="080808"/>
                </a:solidFill>
                <a:latin typeface="Arial"/>
              </a:rPr>
              <a:t>在轮到自己值日时，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卖力些</a:t>
            </a:r>
            <a:r>
              <a:rPr b="1" lang="zh-CN" sz="3000" spc="-1" strike="noStrike">
                <a:solidFill>
                  <a:srgbClr val="080808"/>
                </a:solidFill>
                <a:latin typeface="Arial"/>
              </a:rPr>
              <a:t>，将其视为锻炼自己的机会；</a:t>
            </a:r>
            <a:r>
              <a:rPr b="1" lang="zh-CN" sz="3000" spc="-1" strike="noStrike">
                <a:solidFill>
                  <a:srgbClr val="3366ff"/>
                </a:solidFill>
                <a:latin typeface="Arial"/>
              </a:rPr>
              <a:t>㈦</a:t>
            </a:r>
            <a:r>
              <a:rPr b="1" lang="zh-CN" sz="3000" spc="-1" strike="noStrike">
                <a:solidFill>
                  <a:srgbClr val="080808"/>
                </a:solidFill>
                <a:latin typeface="Arial"/>
              </a:rPr>
              <a:t>提醒自己“自然就是美”，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摘下首饰</a:t>
            </a:r>
            <a:r>
              <a:rPr b="1" lang="zh-CN" sz="3000" spc="-1" strike="noStrike">
                <a:solidFill>
                  <a:srgbClr val="080808"/>
                </a:solidFill>
                <a:latin typeface="Arial"/>
              </a:rPr>
              <a:t>；</a:t>
            </a:r>
            <a:r>
              <a:rPr b="1" lang="zh-CN" sz="3000" spc="-1" strike="noStrike">
                <a:solidFill>
                  <a:srgbClr val="3366ff"/>
                </a:solidFill>
                <a:latin typeface="Arial"/>
              </a:rPr>
              <a:t>㈧</a:t>
            </a:r>
            <a:r>
              <a:rPr b="1" lang="zh-CN" sz="3000" spc="-1" strike="noStrike">
                <a:solidFill>
                  <a:srgbClr val="080808"/>
                </a:solidFill>
                <a:latin typeface="Arial"/>
              </a:rPr>
              <a:t>在宿舍午睡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80808"/>
                </a:solidFill>
                <a:latin typeface="Arial"/>
              </a:rPr>
              <a:t>晚睡时，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说话少一些</a:t>
            </a:r>
            <a:r>
              <a:rPr b="1" lang="zh-CN" sz="3000" spc="-1" strike="noStrike">
                <a:solidFill>
                  <a:srgbClr val="080808"/>
                </a:solidFill>
                <a:latin typeface="Arial"/>
              </a:rPr>
              <a:t>。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卫生搞好些</a:t>
            </a:r>
            <a:r>
              <a:rPr b="1" lang="zh-CN" sz="3000" spc="-1" strike="noStrike">
                <a:solidFill>
                  <a:srgbClr val="080808"/>
                </a:solidFill>
                <a:latin typeface="Arial"/>
              </a:rPr>
              <a:t>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66ff"/>
                </a:solidFill>
                <a:latin typeface="Arial"/>
              </a:rPr>
              <a:t>㈨</a:t>
            </a:r>
            <a:r>
              <a:rPr b="1" lang="zh-CN" sz="3000" spc="-1" strike="noStrike">
                <a:solidFill>
                  <a:srgbClr val="080808"/>
                </a:solidFill>
                <a:latin typeface="Arial"/>
              </a:rPr>
              <a:t>在集体活动时，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投入些</a:t>
            </a:r>
            <a:r>
              <a:rPr b="1" lang="zh-CN" sz="3000" spc="-1" strike="noStrike">
                <a:solidFill>
                  <a:srgbClr val="080808"/>
                </a:solidFill>
                <a:latin typeface="Arial"/>
              </a:rPr>
              <a:t>，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认真些</a:t>
            </a:r>
            <a:r>
              <a:rPr b="1" lang="zh-CN" sz="30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781680" y="4937040"/>
            <a:ext cx="1768680" cy="1768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1T13:22:20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17:56Z</dcterms:modified>
  <cp:revision>64</cp:revision>
  <dc:subject>主题班会课件(分28大类): http://shop62905894.taobao.com</dc:subject>
  <dc:title>主题班会课件(分28大类): http://shop62905894.taobao.com</dc:title>
</cp:coreProperties>
</file>