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57E-9513-4509-910F-A2B5E5A5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6E3-2B7A-4C3E-8B66-74C3A49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355-980D-469E-B917-8DCBA547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822-A809-4D3C-A82D-C4ED536D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B553-F621-4214-85FE-67315CF8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A85E-8921-4966-9E4A-9E6A6AB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13FA-1280-4285-B24A-B23213C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1DC-401C-4ED1-AE3F-5D87AF3F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62D-7BA5-4E73-9F9D-EF7AEBB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5153-9DE6-43EE-8A7B-F3A453B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38E-1CC6-4D4F-900E-D96C508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60B-08CA-4894-984A-12FD508B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6888-C25E-49C1-B958-53A4EB8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B969-F098-477B-9576-D605E5CF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48B8-C886-46AD-AFDB-344ADB1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8F89-1AD3-417A-9957-08D1CD6F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A852-AA8B-45CB-940B-38A1316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ED8-49D2-4EB7-B13B-58E66D6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574-300D-4AF8-B46D-DD81712E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3FF-854B-4996-B031-905E5725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0F4-3A08-4A49-AF56-0D126E87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47E-DF12-4E9A-8EDF-53FB704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CBF-2009-4D83-AA23-8AA15FA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698-7D07-4F84-9D24-16FEB5C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118D-C815-407E-900D-1E98902EE90A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051F-ECFB-4309-8AE9-09F21894D9C8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891480" y="404640"/>
            <a:ext cx="2252520" cy="302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39640" y="981000"/>
            <a:ext cx="5688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决定命运</a:t>
            </a:r>
            <a:endParaRPr b="0" lang="en-US" sz="2400" spc="1" strike="noStrike">
              <a:ln w="19080">
                <a:solidFill>
                  <a:srgbClr val="00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6119640" y="6237360"/>
            <a:ext cx="3024360" cy="287280"/>
          </a:xfrm>
          <a:prstGeom prst="rect">
            <a:avLst/>
          </a:prstGeom>
          <a:solidFill>
            <a:srgbClr val="cefee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高一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(1)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</a:rPr>
              <a:t>主题班会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587700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0" y="2924280"/>
            <a:ext cx="4392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应养成的好习惯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692280"/>
            <a:ext cx="5040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人有礼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礼貌用语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坚持锻炼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独立完成作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讲卫生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护环境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集会时不喧哗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0" y="404640"/>
            <a:ext cx="334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专家支招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2411280" cy="2737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51280" y="620640"/>
            <a:ext cx="2448000" cy="13669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fad2"/>
                </a:solidFill>
                <a:latin typeface="Verdana"/>
              </a:rPr>
              <a:t>先要建立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fad2"/>
                </a:solidFill>
                <a:latin typeface="Verdana"/>
              </a:rPr>
              <a:t>一个”规范”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2781360"/>
            <a:ext cx="1584360" cy="64764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做人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299736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7280" y="263700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爱心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3860640"/>
            <a:ext cx="1584360" cy="57492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做事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00536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371628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规则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5013360"/>
            <a:ext cx="1584360" cy="574560"/>
          </a:xfrm>
          <a:prstGeom prst="rect">
            <a:avLst/>
          </a:prstGeom>
          <a:solidFill>
            <a:srgbClr val="fdcff8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Verdana"/>
              </a:rPr>
              <a:t>学习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5157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4797360"/>
            <a:ext cx="1800000" cy="1081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创新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516720" y="3213000"/>
            <a:ext cx="2627280" cy="32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6732720" cy="4597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 rot="5400000">
            <a:off x="6264000" y="1447560"/>
            <a:ext cx="30956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47000"/>
                  </a:srgbClr>
                </a:solidFill>
                <a:latin typeface="宋体"/>
              </a:rPr>
              <a:t>怎样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47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 rot="2112600">
            <a:off x="7019640" y="3860640"/>
            <a:ext cx="1800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476280"/>
            <a:ext cx="64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克服坏习惯</a:t>
            </a:r>
            <a:r>
              <a:rPr b="1" lang="en-US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cap="rnd" w="1584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养成好习惯</a:t>
            </a:r>
            <a:endParaRPr b="1" lang="en-US" sz="2400" spc="1" strike="noStrike">
              <a:ln cap="rnd" w="1584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2200" y="126828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重视别人的批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200" y="198900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从改变行为开始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2200" y="2637000"/>
            <a:ext cx="8497800" cy="50292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用一种习惯代替另一种习惯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200" y="342900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坚持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(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养成一个习惯至少需要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21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天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2200" y="429264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5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从家长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同学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老师中找一个监督者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2200" y="5157720"/>
            <a:ext cx="8497800" cy="503280"/>
          </a:xfrm>
          <a:prstGeom prst="rect">
            <a:avLst/>
          </a:prstGeom>
          <a:solidFill>
            <a:srgbClr val="fdcff8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6.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及时给予奖惩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 rot="120000">
            <a:off x="174600" y="401760"/>
            <a:ext cx="32418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我该怎做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492280"/>
          <a:ext cx="7859520" cy="3622680"/>
        </p:xfrm>
        <a:graphic>
          <a:graphicData uri="http://schemas.openxmlformats.org/drawingml/2006/table">
            <a:tbl>
              <a:tblPr/>
              <a:tblGrid>
                <a:gridCol w="3240000"/>
                <a:gridCol w="4619520"/>
              </a:tblGrid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姓名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要改正的习惯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我的誓言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时限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监督人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cff8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755640" y="1557360"/>
            <a:ext cx="7632720" cy="2531880"/>
          </a:xfrm>
          <a:prstGeom prst="rect">
            <a:avLst/>
          </a:prstGeom>
          <a:solidFill>
            <a:srgbClr val="cef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想一想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: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我最需要改正的习惯是什么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?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我怎样才能做到</a:t>
            </a:r>
            <a:r>
              <a:rPr b="1" i="1" lang="zh-CN" sz="8000" spc="-1" strike="noStrike">
                <a:solidFill>
                  <a:srgbClr val="ff3300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fdcff8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许多需要的东西我们可以等待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但是学生不能等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他的骨骼正在形成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血液正在生成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心智正在发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对学生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我们不能说明天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他的名字是今天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494080" y="2133720"/>
            <a:ext cx="4022640" cy="3527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1581120" cy="1419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93080" y="0"/>
            <a:ext cx="1581120" cy="1419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920" y="2565360"/>
            <a:ext cx="8640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Verdana"/>
              </a:rPr>
              <a:t>最搞笑的人？最爱笑的人？声音最洪亮的人？胆子最大的人？最喜欢帮助别人的人？桌面抽屉最整洁的人？班级工作最负责任的人？上课举手最积极的人？最爱问老师的人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┄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549360"/>
            <a:ext cx="417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评一评  </a:t>
            </a:r>
            <a:endParaRPr b="1" lang="en-US" sz="2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</a:t>
            </a:r>
            <a:r>
              <a:rPr b="1" lang="zh-CN" sz="2400" spc="1" strike="noStrike">
                <a:ln w="15840">
                  <a:solidFill>
                    <a:srgbClr val="00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一比</a:t>
            </a:r>
            <a:endParaRPr b="1" lang="en-US" sz="2400" spc="1" strike="noStrike">
              <a:ln w="15840">
                <a:solidFill>
                  <a:srgbClr val="00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932360" y="476280"/>
            <a:ext cx="388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班级之最</a:t>
            </a:r>
            <a:endParaRPr b="1" lang="en-US" sz="4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24000" y="333360"/>
            <a:ext cx="583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惯为什么重要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242100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别人的思想</a:t>
            </a: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2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滋养我们的灵魂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11640" y="4797360"/>
            <a:ext cx="439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格言警句交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297000"/>
            <a:ext cx="500364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华盛顿是美国历史上最令人尊敬的、堪称美德典范的总统，他的诚实故事家喻户晓。他从小看得最多的一本书，是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一本随身携带的小册子———《与人交谈和相处时必须遵循的文明礼貌规则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110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条》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。好习惯成就了一个伟大的总统和一个伟大的人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70224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378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一九八八年世界各国诺贝尔奖得主在巴黎聚会。有人问一位诺贝尔科学奖得主：“您在哪所大学、哪个实验室学到了您认为是最主要的东西呢？”这位白发苍苍的老学者回答道：“是幼儿园。”“在幼儿园能学到什么东西呢？”“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把自己的东西分一半给小伙伴们，不是自己的东西不要，东西放整齐，吃饭前要洗手，做错事要表示道歉，午饭后安安静静地休息，要观察周围的大自然……”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可见养成良好的行为习惯对一个人的成功影响是多么巨大！如果作为道德素养的最重要的真理在青少年时期没有成为习惯，那么，所造成的损失是永远无法弥补的。有人对一个人的良好行为习惯有过恰当的比喻――“</a:t>
            </a: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良好习惯乃是人在神经系统中存入的道德资本，这个资本不断地在增值，而人在其整个一生中就享受着它的利息。”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 中学时期是青少年生理、心理急剧发育、变化的重要时期，正是增长知识，接受良好道德品质和行为习惯养成教育的最佳时期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7365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200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8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日下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时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6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时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5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），眼睁睁地失去了考试资格。一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，我很有信心考上，老师给我一次机会吧。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80360" y="5249880"/>
            <a:ext cx="1763640" cy="1608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47192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2007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年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日下午，广州</a:t>
            </a: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市一位考生按照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准考证上注明的时间赶到考场参加英语考试，却被告之迟到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分钟，不能进场，无奈的母女二人在考点外痛哭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9280" y="-387360"/>
            <a:ext cx="93636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数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数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我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们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坏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习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惯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132000" cy="3046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402080" cy="323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549360"/>
            <a:ext cx="3510000" cy="2631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356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6985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讲话不文明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言粗语秽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上课易走神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不喜自觉记笔记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随手丢弃垃圾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4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抄作业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作弊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5.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乱穿马路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</a:rPr>
              <a:t>　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1733760" cy="1486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995640" y="2637000"/>
            <a:ext cx="4608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最应改正的坏习惯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920" y="512640"/>
            <a:ext cx="1152360" cy="558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好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习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惯</a:t>
            </a:r>
            <a:r>
              <a:rPr b="1" lang="en-US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,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人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生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的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财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富</a:t>
            </a:r>
            <a:endParaRPr b="1" lang="en-US" sz="3200" spc="1" strike="noStrike">
              <a:ln w="22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52720" y="88920"/>
            <a:ext cx="6191280" cy="6769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619280" y="378000"/>
            <a:ext cx="7524720" cy="6100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619280" y="404640"/>
            <a:ext cx="752472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书利华教育网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4:25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9:12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