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68C-141D-48E7-99B5-F15B2412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7A1-9DD9-4ABC-AC1B-DCFFB12C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011-E1E0-4817-81A0-C817121E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EBE-EB9D-4407-AD42-2696AFBE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98E-EA64-4355-A88E-A88263B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EC7-FE67-4B8F-8802-1E05B197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1B8-A1ED-46AA-8253-3FEE9D32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3A4-3A25-4218-AC03-3E107EAF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3DF-CDEF-46CF-943A-420D4963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F05-496C-4061-81F5-2A6BEB0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214-CEE2-4D24-B0AA-7798CE2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735-CA05-4935-8CA7-7225DC21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4B16-C12D-43AD-9AB4-A964AAA72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9080" y="246240"/>
            <a:ext cx="9083520" cy="6225840"/>
          </a:xfrm>
          <a:custGeom>
            <a:avLst/>
            <a:gdLst/>
            <a:ahLst/>
            <a:rect l="l" t="t" r="r" b="b"/>
            <a:pathLst>
              <a:path w="5722" h="3922">
                <a:moveTo>
                  <a:pt x="40" y="3922"/>
                </a:moveTo>
                <a:cubicBezTo>
                  <a:pt x="40" y="3406"/>
                  <a:pt x="0" y="1432"/>
                  <a:pt x="37" y="816"/>
                </a:cubicBezTo>
                <a:cubicBezTo>
                  <a:pt x="74" y="200"/>
                  <a:pt x="136" y="348"/>
                  <a:pt x="264" y="227"/>
                </a:cubicBezTo>
                <a:cubicBezTo>
                  <a:pt x="392" y="106"/>
                  <a:pt x="574" y="114"/>
                  <a:pt x="808" y="91"/>
                </a:cubicBezTo>
                <a:cubicBezTo>
                  <a:pt x="1042" y="68"/>
                  <a:pt x="952" y="91"/>
                  <a:pt x="1670" y="91"/>
                </a:cubicBezTo>
                <a:cubicBezTo>
                  <a:pt x="2388" y="91"/>
                  <a:pt x="4512" y="0"/>
                  <a:pt x="5117" y="91"/>
                </a:cubicBezTo>
                <a:cubicBezTo>
                  <a:pt x="5722" y="182"/>
                  <a:pt x="5239" y="446"/>
                  <a:pt x="5299" y="635"/>
                </a:cubicBezTo>
                <a:cubicBezTo>
                  <a:pt x="5359" y="824"/>
                  <a:pt x="5495" y="983"/>
                  <a:pt x="5480" y="1225"/>
                </a:cubicBezTo>
                <a:cubicBezTo>
                  <a:pt x="5465" y="1467"/>
                  <a:pt x="5203" y="1841"/>
                  <a:pt x="5208" y="2086"/>
                </a:cubicBezTo>
                <a:cubicBezTo>
                  <a:pt x="5213" y="2331"/>
                  <a:pt x="5447" y="2567"/>
                  <a:pt x="5510" y="2694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105520" y="3917880"/>
            <a:ext cx="4125600" cy="2976120"/>
            <a:chOff x="5105520" y="3917880"/>
            <a:chExt cx="4125600" cy="2976120"/>
          </a:xfrm>
        </p:grpSpPr>
        <p:grpSp>
          <p:nvGrpSpPr>
            <p:cNvPr id="7" name=""/>
            <p:cNvGrpSpPr/>
            <p:nvPr/>
          </p:nvGrpSpPr>
          <p:grpSpPr>
            <a:xfrm>
              <a:off x="8163720" y="5298480"/>
              <a:ext cx="889920" cy="898560"/>
              <a:chOff x="8163720" y="5298480"/>
              <a:chExt cx="889920" cy="898560"/>
            </a:xfrm>
          </p:grpSpPr>
          <p:sp>
            <p:nvSpPr>
              <p:cNvPr id="8" name=""/>
              <p:cNvSpPr/>
              <p:nvPr/>
            </p:nvSpPr>
            <p:spPr>
              <a:xfrm rot="2040000">
                <a:off x="8294400" y="5417640"/>
                <a:ext cx="628560" cy="6598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2040000">
                <a:off x="8421840" y="5571360"/>
                <a:ext cx="450720" cy="4791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053200" y="3917880"/>
              <a:ext cx="431640" cy="287280"/>
              <a:chOff x="8053200" y="3917880"/>
              <a:chExt cx="431640" cy="287280"/>
            </a:xfrm>
          </p:grpSpPr>
          <p:sp>
            <p:nvSpPr>
              <p:cNvPr id="11" name=""/>
              <p:cNvSpPr/>
              <p:nvPr/>
            </p:nvSpPr>
            <p:spPr>
              <a:xfrm flipH="1">
                <a:off x="8052840" y="391788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8067960" y="397044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736760" y="4057560"/>
              <a:ext cx="1494360" cy="947880"/>
              <a:chOff x="7736760" y="4057560"/>
              <a:chExt cx="1494360" cy="947880"/>
            </a:xfrm>
          </p:grpSpPr>
          <p:grpSp>
            <p:nvGrpSpPr>
              <p:cNvPr id="14" name=""/>
              <p:cNvGrpSpPr/>
              <p:nvPr/>
            </p:nvGrpSpPr>
            <p:grpSpPr>
              <a:xfrm>
                <a:off x="7736760" y="4188600"/>
                <a:ext cx="910080" cy="725040"/>
                <a:chOff x="7736760" y="4188600"/>
                <a:chExt cx="910080" cy="725040"/>
              </a:xfrm>
            </p:grpSpPr>
            <p:sp>
              <p:nvSpPr>
                <p:cNvPr id="15" name=""/>
                <p:cNvSpPr/>
                <p:nvPr/>
              </p:nvSpPr>
              <p:spPr>
                <a:xfrm rot="4365000">
                  <a:off x="7935480" y="4154040"/>
                  <a:ext cx="512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rot="4365000">
                  <a:off x="7988760" y="4326480"/>
                  <a:ext cx="36756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" name=""/>
              <p:cNvGrpSpPr/>
              <p:nvPr/>
            </p:nvGrpSpPr>
            <p:grpSpPr>
              <a:xfrm>
                <a:off x="8356680" y="4057560"/>
                <a:ext cx="874440" cy="811440"/>
                <a:chOff x="8356680" y="4057560"/>
                <a:chExt cx="874440" cy="811440"/>
              </a:xfrm>
            </p:grpSpPr>
            <p:sp>
              <p:nvSpPr>
                <p:cNvPr id="18" name=""/>
                <p:cNvSpPr/>
                <p:nvPr/>
              </p:nvSpPr>
              <p:spPr>
                <a:xfrm rot="20194200">
                  <a:off x="8443080" y="4173120"/>
                  <a:ext cx="701640" cy="58032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20194200">
                  <a:off x="8622000" y="4246920"/>
                  <a:ext cx="503280" cy="42120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8154360" y="4214160"/>
                <a:ext cx="861840" cy="791280"/>
                <a:chOff x="8154360" y="4214160"/>
                <a:chExt cx="861840" cy="791280"/>
              </a:xfrm>
            </p:grpSpPr>
            <p:sp>
              <p:nvSpPr>
                <p:cNvPr id="21" name=""/>
                <p:cNvSpPr/>
                <p:nvPr/>
              </p:nvSpPr>
              <p:spPr>
                <a:xfrm rot="1246200">
                  <a:off x="8234280" y="4319640"/>
                  <a:ext cx="701640" cy="58032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rot="1246200">
                  <a:off x="8394840" y="4451040"/>
                  <a:ext cx="503280" cy="42120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" name=""/>
            <p:cNvGrpSpPr/>
            <p:nvPr/>
          </p:nvGrpSpPr>
          <p:grpSpPr>
            <a:xfrm>
              <a:off x="8556840" y="4925880"/>
              <a:ext cx="412560" cy="286920"/>
              <a:chOff x="8556840" y="4925880"/>
              <a:chExt cx="412560" cy="286920"/>
            </a:xfrm>
          </p:grpSpPr>
          <p:sp>
            <p:nvSpPr>
              <p:cNvPr id="24" name=""/>
              <p:cNvSpPr/>
              <p:nvPr/>
            </p:nvSpPr>
            <p:spPr>
              <a:xfrm>
                <a:off x="8556840" y="4925880"/>
                <a:ext cx="412560" cy="28692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59440" y="4978440"/>
                <a:ext cx="29592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5105520" y="6059880"/>
              <a:ext cx="948960" cy="831960"/>
              <a:chOff x="5105520" y="6059880"/>
              <a:chExt cx="948960" cy="831960"/>
            </a:xfrm>
          </p:grpSpPr>
          <p:grpSp>
            <p:nvGrpSpPr>
              <p:cNvPr id="27" name=""/>
              <p:cNvGrpSpPr/>
              <p:nvPr/>
            </p:nvGrpSpPr>
            <p:grpSpPr>
              <a:xfrm>
                <a:off x="5105520" y="6286320"/>
                <a:ext cx="623880" cy="605520"/>
                <a:chOff x="5105520" y="6286320"/>
                <a:chExt cx="623880" cy="605520"/>
              </a:xfrm>
            </p:grpSpPr>
            <p:sp>
              <p:nvSpPr>
                <p:cNvPr id="28" name=""/>
                <p:cNvSpPr/>
                <p:nvPr/>
              </p:nvSpPr>
              <p:spPr>
                <a:xfrm rot="3118800">
                  <a:off x="5225040" y="6343200"/>
                  <a:ext cx="3844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 rot="3118800">
                  <a:off x="5286960" y="6456960"/>
                  <a:ext cx="27576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" name=""/>
              <p:cNvGrpSpPr/>
              <p:nvPr/>
            </p:nvGrpSpPr>
            <p:grpSpPr>
              <a:xfrm>
                <a:off x="5439960" y="6059880"/>
                <a:ext cx="614520" cy="614520"/>
                <a:chOff x="5439960" y="6059880"/>
                <a:chExt cx="614520" cy="614520"/>
              </a:xfrm>
            </p:grpSpPr>
            <p:sp>
              <p:nvSpPr>
                <p:cNvPr id="31" name=""/>
                <p:cNvSpPr/>
                <p:nvPr/>
              </p:nvSpPr>
              <p:spPr>
                <a:xfrm rot="18948000">
                  <a:off x="5529960" y="6149520"/>
                  <a:ext cx="43452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8948000">
                  <a:off x="5638680" y="6190920"/>
                  <a:ext cx="31176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5441400" y="6307920"/>
                <a:ext cx="434520" cy="434880"/>
                <a:chOff x="5441400" y="6307920"/>
                <a:chExt cx="434520" cy="43488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5441400" y="6307920"/>
                  <a:ext cx="43452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5549400" y="6387480"/>
                  <a:ext cx="31176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7569360" y="5954760"/>
              <a:ext cx="939960" cy="939240"/>
              <a:chOff x="7569360" y="5954760"/>
              <a:chExt cx="939960" cy="939240"/>
            </a:xfrm>
          </p:grpSpPr>
          <p:grpSp>
            <p:nvGrpSpPr>
              <p:cNvPr id="37" name=""/>
              <p:cNvGrpSpPr/>
              <p:nvPr/>
            </p:nvGrpSpPr>
            <p:grpSpPr>
              <a:xfrm>
                <a:off x="7868880" y="6234840"/>
                <a:ext cx="640440" cy="659160"/>
                <a:chOff x="7868880" y="6234840"/>
                <a:chExt cx="640440" cy="659160"/>
              </a:xfrm>
            </p:grpSpPr>
            <p:sp>
              <p:nvSpPr>
                <p:cNvPr id="38" name=""/>
                <p:cNvSpPr/>
                <p:nvPr/>
              </p:nvSpPr>
              <p:spPr>
                <a:xfrm flipH="1" rot="19191000">
                  <a:off x="7996320" y="6294960"/>
                  <a:ext cx="384120" cy="5382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 flipH="1" rot="19191000">
                  <a:off x="8035560" y="6414840"/>
                  <a:ext cx="275760" cy="39024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" name=""/>
              <p:cNvGrpSpPr/>
              <p:nvPr/>
            </p:nvGrpSpPr>
            <p:grpSpPr>
              <a:xfrm>
                <a:off x="7569360" y="5954760"/>
                <a:ext cx="626040" cy="637200"/>
                <a:chOff x="7569360" y="5954760"/>
                <a:chExt cx="626040" cy="637200"/>
              </a:xfrm>
            </p:grpSpPr>
            <p:sp>
              <p:nvSpPr>
                <p:cNvPr id="41" name=""/>
                <p:cNvSpPr/>
                <p:nvPr/>
              </p:nvSpPr>
              <p:spPr>
                <a:xfrm flipH="1" rot="3362400">
                  <a:off x="7644240" y="6055560"/>
                  <a:ext cx="47520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flipH="1" rot="3362400">
                  <a:off x="7666920" y="6084720"/>
                  <a:ext cx="340920" cy="315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7667280" y="6186600"/>
                <a:ext cx="554760" cy="523080"/>
                <a:chOff x="7667280" y="6186600"/>
                <a:chExt cx="554760" cy="523080"/>
              </a:xfrm>
            </p:grpSpPr>
            <p:sp>
              <p:nvSpPr>
                <p:cNvPr id="44" name=""/>
                <p:cNvSpPr/>
                <p:nvPr/>
              </p:nvSpPr>
              <p:spPr>
                <a:xfrm flipH="1" rot="710400">
                  <a:off x="7706160" y="6230520"/>
                  <a:ext cx="47556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flipH="1" rot="710400">
                  <a:off x="7719480" y="6299280"/>
                  <a:ext cx="34092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" name=""/>
            <p:cNvGrpSpPr/>
            <p:nvPr/>
          </p:nvGrpSpPr>
          <p:grpSpPr>
            <a:xfrm>
              <a:off x="7887240" y="4811400"/>
              <a:ext cx="761040" cy="739800"/>
              <a:chOff x="7887240" y="4811400"/>
              <a:chExt cx="761040" cy="739800"/>
            </a:xfrm>
          </p:grpSpPr>
          <p:sp>
            <p:nvSpPr>
              <p:cNvPr id="47" name=""/>
              <p:cNvSpPr/>
              <p:nvPr/>
            </p:nvSpPr>
            <p:spPr>
              <a:xfrm flipH="1" rot="19673400">
                <a:off x="7978680" y="4925880"/>
                <a:ext cx="577800" cy="51084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19673400">
                <a:off x="8020440" y="5048640"/>
                <a:ext cx="414360" cy="37080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7980120" y="5501880"/>
              <a:ext cx="431640" cy="287280"/>
              <a:chOff x="7980120" y="5501880"/>
              <a:chExt cx="431640" cy="28728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7979760" y="550188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7994880" y="555444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40480" y="5141520"/>
              <a:ext cx="431640" cy="287280"/>
              <a:chOff x="8340480" y="5141520"/>
              <a:chExt cx="431640" cy="287280"/>
            </a:xfrm>
          </p:grpSpPr>
          <p:sp>
            <p:nvSpPr>
              <p:cNvPr id="53" name=""/>
              <p:cNvSpPr/>
              <p:nvPr/>
            </p:nvSpPr>
            <p:spPr>
              <a:xfrm flipH="1">
                <a:off x="8340120" y="514152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8355240" y="519408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-379080" y="-178560"/>
            <a:ext cx="4112640" cy="1910880"/>
            <a:chOff x="-379080" y="-178560"/>
            <a:chExt cx="4112640" cy="1910880"/>
          </a:xfrm>
        </p:grpSpPr>
        <p:grpSp>
          <p:nvGrpSpPr>
            <p:cNvPr id="56" name=""/>
            <p:cNvGrpSpPr/>
            <p:nvPr/>
          </p:nvGrpSpPr>
          <p:grpSpPr>
            <a:xfrm>
              <a:off x="855720" y="309960"/>
              <a:ext cx="765000" cy="808560"/>
              <a:chOff x="855720" y="309960"/>
              <a:chExt cx="765000" cy="808560"/>
            </a:xfrm>
          </p:grpSpPr>
          <p:sp>
            <p:nvSpPr>
              <p:cNvPr id="57" name=""/>
              <p:cNvSpPr/>
              <p:nvPr/>
            </p:nvSpPr>
            <p:spPr>
              <a:xfrm rot="2040000">
                <a:off x="995040" y="390240"/>
                <a:ext cx="486000" cy="64764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40000">
                <a:off x="1090440" y="533520"/>
                <a:ext cx="348480" cy="4701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076480" y="101520"/>
              <a:ext cx="701640" cy="793800"/>
              <a:chOff x="2076480" y="101520"/>
              <a:chExt cx="701640" cy="793800"/>
            </a:xfrm>
          </p:grpSpPr>
          <p:sp>
            <p:nvSpPr>
              <p:cNvPr id="60" name=""/>
              <p:cNvSpPr/>
              <p:nvPr/>
            </p:nvSpPr>
            <p:spPr>
              <a:xfrm>
                <a:off x="2076480" y="101520"/>
                <a:ext cx="701640" cy="79380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51080" y="247320"/>
                <a:ext cx="503280" cy="5763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-379080" y="-178560"/>
              <a:ext cx="1603800" cy="1218600"/>
              <a:chOff x="-379080" y="-178560"/>
              <a:chExt cx="1603800" cy="121860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-379080" y="62280"/>
                <a:ext cx="966240" cy="905400"/>
                <a:chOff x="-379080" y="62280"/>
                <a:chExt cx="966240" cy="905400"/>
              </a:xfrm>
            </p:grpSpPr>
            <p:sp>
              <p:nvSpPr>
                <p:cNvPr id="64" name=""/>
                <p:cNvSpPr/>
                <p:nvPr/>
              </p:nvSpPr>
              <p:spPr>
                <a:xfrm rot="4365000">
                  <a:off x="-246600" y="11808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4365000">
                  <a:off x="-160560" y="30960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265320" y="-178560"/>
                <a:ext cx="959400" cy="1007280"/>
                <a:chOff x="265320" y="-178560"/>
                <a:chExt cx="959400" cy="1007280"/>
              </a:xfrm>
            </p:grpSpPr>
            <p:sp>
              <p:nvSpPr>
                <p:cNvPr id="67" name=""/>
                <p:cNvSpPr/>
                <p:nvPr/>
              </p:nvSpPr>
              <p:spPr>
                <a:xfrm rot="20194200">
                  <a:off x="394200" y="-7164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20194200">
                  <a:off x="577440" y="4104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9960" y="48960"/>
                <a:ext cx="937440" cy="991080"/>
                <a:chOff x="39960" y="48960"/>
                <a:chExt cx="937440" cy="991080"/>
              </a:xfrm>
            </p:grpSpPr>
            <p:sp>
              <p:nvSpPr>
                <p:cNvPr id="70" name=""/>
                <p:cNvSpPr/>
                <p:nvPr/>
              </p:nvSpPr>
              <p:spPr>
                <a:xfrm rot="1246200">
                  <a:off x="157680" y="14724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246200">
                  <a:off x="314280" y="31752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1284480" y="30240"/>
              <a:ext cx="701640" cy="793800"/>
              <a:chOff x="1284480" y="30240"/>
              <a:chExt cx="701640" cy="793800"/>
            </a:xfrm>
          </p:grpSpPr>
          <p:sp>
            <p:nvSpPr>
              <p:cNvPr id="73" name=""/>
              <p:cNvSpPr/>
              <p:nvPr/>
            </p:nvSpPr>
            <p:spPr>
              <a:xfrm>
                <a:off x="1284480" y="30240"/>
                <a:ext cx="701640" cy="79380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59080" y="176040"/>
                <a:ext cx="503280" cy="5763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685600" y="-109800"/>
              <a:ext cx="1047960" cy="1027080"/>
              <a:chOff x="2685600" y="-109800"/>
              <a:chExt cx="1047960" cy="10270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2685600" y="199800"/>
                <a:ext cx="711360" cy="717480"/>
                <a:chOff x="2685600" y="199800"/>
                <a:chExt cx="711360" cy="717480"/>
              </a:xfrm>
            </p:grpSpPr>
            <p:sp>
              <p:nvSpPr>
                <p:cNvPr id="77" name=""/>
                <p:cNvSpPr/>
                <p:nvPr/>
              </p:nvSpPr>
              <p:spPr>
                <a:xfrm rot="3118800">
                  <a:off x="2777760" y="312840"/>
                  <a:ext cx="5266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3118800">
                  <a:off x="2869200" y="438480"/>
                  <a:ext cx="37764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007080" y="-109800"/>
                <a:ext cx="726480" cy="729720"/>
                <a:chOff x="3007080" y="-109800"/>
                <a:chExt cx="726480" cy="729720"/>
              </a:xfrm>
            </p:grpSpPr>
            <p:sp>
              <p:nvSpPr>
                <p:cNvPr id="80" name=""/>
                <p:cNvSpPr/>
                <p:nvPr/>
              </p:nvSpPr>
              <p:spPr>
                <a:xfrm rot="18948000">
                  <a:off x="3153240" y="-42480"/>
                  <a:ext cx="43416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8948000">
                  <a:off x="3267360" y="25920"/>
                  <a:ext cx="31140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064680" y="173880"/>
                <a:ext cx="434520" cy="595800"/>
                <a:chOff x="3064680" y="173880"/>
                <a:chExt cx="434520" cy="5958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064680" y="17388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172680" y="28332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"/>
            <p:cNvGrpSpPr/>
            <p:nvPr/>
          </p:nvGrpSpPr>
          <p:grpSpPr>
            <a:xfrm>
              <a:off x="-278280" y="790560"/>
              <a:ext cx="1064880" cy="941760"/>
              <a:chOff x="-278280" y="790560"/>
              <a:chExt cx="1064880" cy="941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-278280" y="1042920"/>
                <a:ext cx="673560" cy="689400"/>
                <a:chOff x="-278280" y="1042920"/>
                <a:chExt cx="673560" cy="689400"/>
              </a:xfrm>
            </p:grpSpPr>
            <p:sp>
              <p:nvSpPr>
                <p:cNvPr id="87" name=""/>
                <p:cNvSpPr/>
                <p:nvPr/>
              </p:nvSpPr>
              <p:spPr>
                <a:xfrm rot="3828600">
                  <a:off x="-204840" y="1141920"/>
                  <a:ext cx="5266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3828600">
                  <a:off x="-125280" y="1270440"/>
                  <a:ext cx="37764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00440" y="790560"/>
                <a:ext cx="686160" cy="735840"/>
                <a:chOff x="100440" y="790560"/>
                <a:chExt cx="686160" cy="735840"/>
              </a:xfrm>
            </p:grpSpPr>
            <p:sp>
              <p:nvSpPr>
                <p:cNvPr id="90" name=""/>
                <p:cNvSpPr/>
                <p:nvPr/>
              </p:nvSpPr>
              <p:spPr>
                <a:xfrm rot="19657800">
                  <a:off x="226080" y="86040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9657800">
                  <a:off x="341640" y="93996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8520" y="1016280"/>
                <a:ext cx="547200" cy="672120"/>
                <a:chOff x="38520" y="1016280"/>
                <a:chExt cx="547200" cy="672120"/>
              </a:xfrm>
            </p:grpSpPr>
            <p:sp>
              <p:nvSpPr>
                <p:cNvPr id="93" name=""/>
                <p:cNvSpPr/>
                <p:nvPr/>
              </p:nvSpPr>
              <p:spPr>
                <a:xfrm rot="709800">
                  <a:off x="94680" y="105444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709800">
                  <a:off x="196200" y="117288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2652840" y="28800"/>
              <a:ext cx="431640" cy="504720"/>
              <a:chOff x="2652840" y="28800"/>
              <a:chExt cx="431640" cy="504720"/>
            </a:xfrm>
          </p:grpSpPr>
          <p:sp>
            <p:nvSpPr>
              <p:cNvPr id="96" name=""/>
              <p:cNvSpPr/>
              <p:nvPr/>
            </p:nvSpPr>
            <p:spPr>
              <a:xfrm>
                <a:off x="2652840" y="28800"/>
                <a:ext cx="431640" cy="50472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60120" y="121320"/>
                <a:ext cx="309600" cy="36648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"/>
          <p:cNvSpPr txBox="1"/>
          <p:nvPr/>
        </p:nvSpPr>
        <p:spPr>
          <a:xfrm>
            <a:off x="6084720" y="404640"/>
            <a:ext cx="19339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班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080" y="246240"/>
            <a:ext cx="9083520" cy="6225840"/>
          </a:xfrm>
          <a:custGeom>
            <a:avLst/>
            <a:gdLst/>
            <a:ahLst/>
            <a:rect l="l" t="t" r="r" b="b"/>
            <a:pathLst>
              <a:path w="5722" h="3922">
                <a:moveTo>
                  <a:pt x="40" y="3922"/>
                </a:moveTo>
                <a:cubicBezTo>
                  <a:pt x="40" y="3406"/>
                  <a:pt x="0" y="1432"/>
                  <a:pt x="37" y="816"/>
                </a:cubicBezTo>
                <a:cubicBezTo>
                  <a:pt x="74" y="200"/>
                  <a:pt x="136" y="348"/>
                  <a:pt x="264" y="227"/>
                </a:cubicBezTo>
                <a:cubicBezTo>
                  <a:pt x="392" y="106"/>
                  <a:pt x="574" y="114"/>
                  <a:pt x="808" y="91"/>
                </a:cubicBezTo>
                <a:cubicBezTo>
                  <a:pt x="1042" y="68"/>
                  <a:pt x="952" y="91"/>
                  <a:pt x="1670" y="91"/>
                </a:cubicBezTo>
                <a:cubicBezTo>
                  <a:pt x="2388" y="91"/>
                  <a:pt x="4512" y="0"/>
                  <a:pt x="5117" y="91"/>
                </a:cubicBezTo>
                <a:cubicBezTo>
                  <a:pt x="5722" y="182"/>
                  <a:pt x="5239" y="446"/>
                  <a:pt x="5299" y="635"/>
                </a:cubicBezTo>
                <a:cubicBezTo>
                  <a:pt x="5359" y="824"/>
                  <a:pt x="5495" y="983"/>
                  <a:pt x="5480" y="1225"/>
                </a:cubicBezTo>
                <a:cubicBezTo>
                  <a:pt x="5465" y="1467"/>
                  <a:pt x="5203" y="1841"/>
                  <a:pt x="5208" y="2086"/>
                </a:cubicBezTo>
                <a:cubicBezTo>
                  <a:pt x="5213" y="2331"/>
                  <a:pt x="5447" y="2567"/>
                  <a:pt x="5510" y="2694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105520" y="3917880"/>
            <a:ext cx="4125600" cy="2976120"/>
            <a:chOff x="5105520" y="3917880"/>
            <a:chExt cx="4125600" cy="2976120"/>
          </a:xfrm>
        </p:grpSpPr>
        <p:grpSp>
          <p:nvGrpSpPr>
            <p:cNvPr id="137" name=""/>
            <p:cNvGrpSpPr/>
            <p:nvPr/>
          </p:nvGrpSpPr>
          <p:grpSpPr>
            <a:xfrm>
              <a:off x="8163720" y="5298480"/>
              <a:ext cx="889920" cy="898560"/>
              <a:chOff x="8163720" y="5298480"/>
              <a:chExt cx="889920" cy="898560"/>
            </a:xfrm>
          </p:grpSpPr>
          <p:sp>
            <p:nvSpPr>
              <p:cNvPr id="138" name=""/>
              <p:cNvSpPr/>
              <p:nvPr/>
            </p:nvSpPr>
            <p:spPr>
              <a:xfrm rot="2040000">
                <a:off x="8294400" y="5417640"/>
                <a:ext cx="628560" cy="6598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40000">
                <a:off x="8421840" y="5571360"/>
                <a:ext cx="450720" cy="4791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053200" y="3917880"/>
              <a:ext cx="431640" cy="287280"/>
              <a:chOff x="8053200" y="3917880"/>
              <a:chExt cx="431640" cy="28728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8052840" y="391788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8067960" y="397044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736760" y="4057560"/>
              <a:ext cx="1494360" cy="947880"/>
              <a:chOff x="7736760" y="4057560"/>
              <a:chExt cx="1494360" cy="94788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7736760" y="4188600"/>
                <a:ext cx="910080" cy="725040"/>
                <a:chOff x="7736760" y="4188600"/>
                <a:chExt cx="910080" cy="725040"/>
              </a:xfrm>
            </p:grpSpPr>
            <p:sp>
              <p:nvSpPr>
                <p:cNvPr id="145" name=""/>
                <p:cNvSpPr/>
                <p:nvPr/>
              </p:nvSpPr>
              <p:spPr>
                <a:xfrm rot="4365000">
                  <a:off x="7935480" y="4154040"/>
                  <a:ext cx="512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4365000">
                  <a:off x="7988760" y="4326480"/>
                  <a:ext cx="36756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8356680" y="4057560"/>
                <a:ext cx="874440" cy="811440"/>
                <a:chOff x="8356680" y="4057560"/>
                <a:chExt cx="874440" cy="811440"/>
              </a:xfrm>
            </p:grpSpPr>
            <p:sp>
              <p:nvSpPr>
                <p:cNvPr id="148" name=""/>
                <p:cNvSpPr/>
                <p:nvPr/>
              </p:nvSpPr>
              <p:spPr>
                <a:xfrm rot="20194200">
                  <a:off x="8443080" y="4173120"/>
                  <a:ext cx="701640" cy="58032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0194200">
                  <a:off x="8622000" y="4246920"/>
                  <a:ext cx="503280" cy="42120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154360" y="4214160"/>
                <a:ext cx="861840" cy="791280"/>
                <a:chOff x="8154360" y="4214160"/>
                <a:chExt cx="861840" cy="791280"/>
              </a:xfrm>
            </p:grpSpPr>
            <p:sp>
              <p:nvSpPr>
                <p:cNvPr id="151" name=""/>
                <p:cNvSpPr/>
                <p:nvPr/>
              </p:nvSpPr>
              <p:spPr>
                <a:xfrm rot="1246200">
                  <a:off x="8234280" y="4319640"/>
                  <a:ext cx="701640" cy="58032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1246200">
                  <a:off x="8394840" y="4451040"/>
                  <a:ext cx="503280" cy="42120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8556840" y="4925880"/>
              <a:ext cx="412560" cy="286920"/>
              <a:chOff x="8556840" y="4925880"/>
              <a:chExt cx="412560" cy="286920"/>
            </a:xfrm>
          </p:grpSpPr>
          <p:sp>
            <p:nvSpPr>
              <p:cNvPr id="154" name=""/>
              <p:cNvSpPr/>
              <p:nvPr/>
            </p:nvSpPr>
            <p:spPr>
              <a:xfrm>
                <a:off x="8556840" y="4925880"/>
                <a:ext cx="412560" cy="28692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659440" y="4978440"/>
                <a:ext cx="29592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105520" y="6059880"/>
              <a:ext cx="948960" cy="831960"/>
              <a:chOff x="5105520" y="6059880"/>
              <a:chExt cx="948960" cy="8319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5105520" y="6286320"/>
                <a:ext cx="623880" cy="605520"/>
                <a:chOff x="5105520" y="6286320"/>
                <a:chExt cx="623880" cy="605520"/>
              </a:xfrm>
            </p:grpSpPr>
            <p:sp>
              <p:nvSpPr>
                <p:cNvPr id="158" name=""/>
                <p:cNvSpPr/>
                <p:nvPr/>
              </p:nvSpPr>
              <p:spPr>
                <a:xfrm rot="3118800">
                  <a:off x="5225040" y="6343200"/>
                  <a:ext cx="3844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3118800">
                  <a:off x="5286960" y="6456960"/>
                  <a:ext cx="27576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439960" y="6059880"/>
                <a:ext cx="614520" cy="614520"/>
                <a:chOff x="5439960" y="6059880"/>
                <a:chExt cx="614520" cy="614520"/>
              </a:xfrm>
            </p:grpSpPr>
            <p:sp>
              <p:nvSpPr>
                <p:cNvPr id="161" name=""/>
                <p:cNvSpPr/>
                <p:nvPr/>
              </p:nvSpPr>
              <p:spPr>
                <a:xfrm rot="18948000">
                  <a:off x="5529960" y="6149520"/>
                  <a:ext cx="43452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8948000">
                  <a:off x="5638680" y="6190920"/>
                  <a:ext cx="31176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441400" y="6307920"/>
                <a:ext cx="434520" cy="434880"/>
                <a:chOff x="5441400" y="6307920"/>
                <a:chExt cx="434520" cy="434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441400" y="6307920"/>
                  <a:ext cx="43452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49400" y="6387480"/>
                  <a:ext cx="31176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7569360" y="5954760"/>
              <a:ext cx="939960" cy="939240"/>
              <a:chOff x="7569360" y="5954760"/>
              <a:chExt cx="939960" cy="9392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868880" y="6234840"/>
                <a:ext cx="640440" cy="659160"/>
                <a:chOff x="7868880" y="6234840"/>
                <a:chExt cx="640440" cy="659160"/>
              </a:xfrm>
            </p:grpSpPr>
            <p:sp>
              <p:nvSpPr>
                <p:cNvPr id="168" name=""/>
                <p:cNvSpPr/>
                <p:nvPr/>
              </p:nvSpPr>
              <p:spPr>
                <a:xfrm flipH="1" rot="19191000">
                  <a:off x="7996320" y="6294960"/>
                  <a:ext cx="384120" cy="5382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rot="19191000">
                  <a:off x="8035560" y="6414840"/>
                  <a:ext cx="275760" cy="39024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569360" y="5954760"/>
                <a:ext cx="626040" cy="637200"/>
                <a:chOff x="7569360" y="5954760"/>
                <a:chExt cx="626040" cy="637200"/>
              </a:xfrm>
            </p:grpSpPr>
            <p:sp>
              <p:nvSpPr>
                <p:cNvPr id="171" name=""/>
                <p:cNvSpPr/>
                <p:nvPr/>
              </p:nvSpPr>
              <p:spPr>
                <a:xfrm flipH="1" rot="3362400">
                  <a:off x="7644240" y="6055560"/>
                  <a:ext cx="47520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rot="3362400">
                  <a:off x="7666920" y="6084720"/>
                  <a:ext cx="340920" cy="315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667280" y="6186600"/>
                <a:ext cx="554760" cy="523080"/>
                <a:chOff x="7667280" y="6186600"/>
                <a:chExt cx="554760" cy="523080"/>
              </a:xfrm>
            </p:grpSpPr>
            <p:sp>
              <p:nvSpPr>
                <p:cNvPr id="174" name=""/>
                <p:cNvSpPr/>
                <p:nvPr/>
              </p:nvSpPr>
              <p:spPr>
                <a:xfrm flipH="1" rot="710400">
                  <a:off x="7706160" y="6230520"/>
                  <a:ext cx="475560" cy="43488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rot="710400">
                  <a:off x="7719480" y="6299280"/>
                  <a:ext cx="340920" cy="31572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7887240" y="4811400"/>
              <a:ext cx="761040" cy="739800"/>
              <a:chOff x="7887240" y="4811400"/>
              <a:chExt cx="761040" cy="739800"/>
            </a:xfrm>
          </p:grpSpPr>
          <p:sp>
            <p:nvSpPr>
              <p:cNvPr id="177" name=""/>
              <p:cNvSpPr/>
              <p:nvPr/>
            </p:nvSpPr>
            <p:spPr>
              <a:xfrm flipH="1" rot="19673400">
                <a:off x="7978680" y="4925880"/>
                <a:ext cx="577800" cy="51084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9673400">
                <a:off x="8020440" y="5048640"/>
                <a:ext cx="414360" cy="37080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980120" y="5501880"/>
              <a:ext cx="431640" cy="287280"/>
              <a:chOff x="7980120" y="5501880"/>
              <a:chExt cx="431640" cy="287280"/>
            </a:xfrm>
          </p:grpSpPr>
          <p:sp>
            <p:nvSpPr>
              <p:cNvPr id="180" name=""/>
              <p:cNvSpPr/>
              <p:nvPr/>
            </p:nvSpPr>
            <p:spPr>
              <a:xfrm flipH="1">
                <a:off x="7979760" y="550188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994880" y="555444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340480" y="5141520"/>
              <a:ext cx="431640" cy="287280"/>
              <a:chOff x="8340480" y="5141520"/>
              <a:chExt cx="431640" cy="28728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8340120" y="5141520"/>
                <a:ext cx="431640" cy="28728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8355240" y="5194080"/>
                <a:ext cx="309600" cy="20844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379080" y="-178560"/>
            <a:ext cx="4112640" cy="1910880"/>
            <a:chOff x="-379080" y="-178560"/>
            <a:chExt cx="4112640" cy="1910880"/>
          </a:xfrm>
        </p:grpSpPr>
        <p:grpSp>
          <p:nvGrpSpPr>
            <p:cNvPr id="186" name=""/>
            <p:cNvGrpSpPr/>
            <p:nvPr/>
          </p:nvGrpSpPr>
          <p:grpSpPr>
            <a:xfrm>
              <a:off x="855720" y="309960"/>
              <a:ext cx="765000" cy="808560"/>
              <a:chOff x="855720" y="309960"/>
              <a:chExt cx="765000" cy="808560"/>
            </a:xfrm>
          </p:grpSpPr>
          <p:sp>
            <p:nvSpPr>
              <p:cNvPr id="187" name=""/>
              <p:cNvSpPr/>
              <p:nvPr/>
            </p:nvSpPr>
            <p:spPr>
              <a:xfrm rot="2040000">
                <a:off x="995040" y="390240"/>
                <a:ext cx="486000" cy="64764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40000">
                <a:off x="1090440" y="533520"/>
                <a:ext cx="348480" cy="4701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076480" y="101520"/>
              <a:ext cx="701640" cy="793800"/>
              <a:chOff x="2076480" y="101520"/>
              <a:chExt cx="701640" cy="793800"/>
            </a:xfrm>
          </p:grpSpPr>
          <p:sp>
            <p:nvSpPr>
              <p:cNvPr id="190" name=""/>
              <p:cNvSpPr/>
              <p:nvPr/>
            </p:nvSpPr>
            <p:spPr>
              <a:xfrm>
                <a:off x="2076480" y="101520"/>
                <a:ext cx="701640" cy="79380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51080" y="247320"/>
                <a:ext cx="503280" cy="5763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-379080" y="-178560"/>
              <a:ext cx="1603800" cy="1218600"/>
              <a:chOff x="-379080" y="-178560"/>
              <a:chExt cx="1603800" cy="1218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-379080" y="62280"/>
                <a:ext cx="966240" cy="905400"/>
                <a:chOff x="-379080" y="62280"/>
                <a:chExt cx="966240" cy="905400"/>
              </a:xfrm>
            </p:grpSpPr>
            <p:sp>
              <p:nvSpPr>
                <p:cNvPr id="194" name=""/>
                <p:cNvSpPr/>
                <p:nvPr/>
              </p:nvSpPr>
              <p:spPr>
                <a:xfrm rot="4365000">
                  <a:off x="-246600" y="11808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4365000">
                  <a:off x="-160560" y="30960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65320" y="-178560"/>
                <a:ext cx="959400" cy="1007280"/>
                <a:chOff x="265320" y="-178560"/>
                <a:chExt cx="959400" cy="1007280"/>
              </a:xfrm>
            </p:grpSpPr>
            <p:sp>
              <p:nvSpPr>
                <p:cNvPr id="197" name=""/>
                <p:cNvSpPr/>
                <p:nvPr/>
              </p:nvSpPr>
              <p:spPr>
                <a:xfrm rot="20194200">
                  <a:off x="394200" y="-7164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194200">
                  <a:off x="577440" y="4104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960" y="48960"/>
                <a:ext cx="937440" cy="991080"/>
                <a:chOff x="39960" y="48960"/>
                <a:chExt cx="937440" cy="991080"/>
              </a:xfrm>
            </p:grpSpPr>
            <p:sp>
              <p:nvSpPr>
                <p:cNvPr id="200" name=""/>
                <p:cNvSpPr/>
                <p:nvPr/>
              </p:nvSpPr>
              <p:spPr>
                <a:xfrm rot="1246200">
                  <a:off x="157680" y="147240"/>
                  <a:ext cx="701640" cy="793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246200">
                  <a:off x="314280" y="317520"/>
                  <a:ext cx="503280" cy="576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284480" y="30240"/>
              <a:ext cx="701640" cy="793800"/>
              <a:chOff x="1284480" y="30240"/>
              <a:chExt cx="701640" cy="793800"/>
            </a:xfrm>
          </p:grpSpPr>
          <p:sp>
            <p:nvSpPr>
              <p:cNvPr id="203" name=""/>
              <p:cNvSpPr/>
              <p:nvPr/>
            </p:nvSpPr>
            <p:spPr>
              <a:xfrm>
                <a:off x="1284480" y="30240"/>
                <a:ext cx="701640" cy="79380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59080" y="176040"/>
                <a:ext cx="503280" cy="57636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685600" y="-109800"/>
              <a:ext cx="1047960" cy="1027080"/>
              <a:chOff x="2685600" y="-109800"/>
              <a:chExt cx="1047960" cy="1027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685600" y="199800"/>
                <a:ext cx="711360" cy="717480"/>
                <a:chOff x="2685600" y="199800"/>
                <a:chExt cx="711360" cy="717480"/>
              </a:xfrm>
            </p:grpSpPr>
            <p:sp>
              <p:nvSpPr>
                <p:cNvPr id="207" name=""/>
                <p:cNvSpPr/>
                <p:nvPr/>
              </p:nvSpPr>
              <p:spPr>
                <a:xfrm rot="3118800">
                  <a:off x="2777760" y="312840"/>
                  <a:ext cx="5266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118800">
                  <a:off x="2869200" y="438480"/>
                  <a:ext cx="37764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007080" y="-109800"/>
                <a:ext cx="726480" cy="729720"/>
                <a:chOff x="3007080" y="-109800"/>
                <a:chExt cx="726480" cy="729720"/>
              </a:xfrm>
            </p:grpSpPr>
            <p:sp>
              <p:nvSpPr>
                <p:cNvPr id="210" name=""/>
                <p:cNvSpPr/>
                <p:nvPr/>
              </p:nvSpPr>
              <p:spPr>
                <a:xfrm rot="18948000">
                  <a:off x="3153240" y="-42480"/>
                  <a:ext cx="43416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948000">
                  <a:off x="3267360" y="25920"/>
                  <a:ext cx="31140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064680" y="173880"/>
                <a:ext cx="434520" cy="595800"/>
                <a:chOff x="3064680" y="173880"/>
                <a:chExt cx="434520" cy="595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064680" y="17388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172680" y="28332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-278280" y="790560"/>
              <a:ext cx="1064880" cy="941760"/>
              <a:chOff x="-278280" y="790560"/>
              <a:chExt cx="1064880" cy="94176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-278280" y="1042920"/>
                <a:ext cx="673560" cy="689400"/>
                <a:chOff x="-278280" y="1042920"/>
                <a:chExt cx="673560" cy="689400"/>
              </a:xfrm>
            </p:grpSpPr>
            <p:sp>
              <p:nvSpPr>
                <p:cNvPr id="217" name=""/>
                <p:cNvSpPr/>
                <p:nvPr/>
              </p:nvSpPr>
              <p:spPr>
                <a:xfrm rot="3828600">
                  <a:off x="-204840" y="1141920"/>
                  <a:ext cx="526680" cy="4914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3828600">
                  <a:off x="-125280" y="1270440"/>
                  <a:ext cx="377640" cy="3567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00440" y="790560"/>
                <a:ext cx="686160" cy="735840"/>
                <a:chOff x="100440" y="790560"/>
                <a:chExt cx="686160" cy="735840"/>
              </a:xfrm>
            </p:grpSpPr>
            <p:sp>
              <p:nvSpPr>
                <p:cNvPr id="220" name=""/>
                <p:cNvSpPr/>
                <p:nvPr/>
              </p:nvSpPr>
              <p:spPr>
                <a:xfrm rot="19657800">
                  <a:off x="226080" y="86040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9657800">
                  <a:off x="341640" y="93996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8520" y="1016280"/>
                <a:ext cx="547200" cy="672120"/>
                <a:chOff x="38520" y="1016280"/>
                <a:chExt cx="547200" cy="672120"/>
              </a:xfrm>
            </p:grpSpPr>
            <p:sp>
              <p:nvSpPr>
                <p:cNvPr id="223" name=""/>
                <p:cNvSpPr/>
                <p:nvPr/>
              </p:nvSpPr>
              <p:spPr>
                <a:xfrm rot="709800">
                  <a:off x="94680" y="1054440"/>
                  <a:ext cx="434520" cy="595800"/>
                </a:xfrm>
                <a:custGeom>
                  <a:avLst/>
                  <a:gdLst/>
                  <a:ahLst/>
                  <a:rect l="l" t="t" r="r" b="b"/>
                  <a:pathLst>
                    <a:path w="442" h="500">
                      <a:moveTo>
                        <a:pt x="106" y="77"/>
                      </a:moveTo>
                      <a:cubicBezTo>
                        <a:pt x="126" y="20"/>
                        <a:pt x="121" y="22"/>
                        <a:pt x="183" y="10"/>
                      </a:cubicBezTo>
                      <a:cubicBezTo>
                        <a:pt x="247" y="13"/>
                        <a:pt x="314" y="0"/>
                        <a:pt x="375" y="19"/>
                      </a:cubicBezTo>
                      <a:cubicBezTo>
                        <a:pt x="394" y="25"/>
                        <a:pt x="388" y="58"/>
                        <a:pt x="394" y="77"/>
                      </a:cubicBezTo>
                      <a:cubicBezTo>
                        <a:pt x="404" y="106"/>
                        <a:pt x="413" y="134"/>
                        <a:pt x="423" y="163"/>
                      </a:cubicBezTo>
                      <a:cubicBezTo>
                        <a:pt x="430" y="182"/>
                        <a:pt x="442" y="221"/>
                        <a:pt x="442" y="221"/>
                      </a:cubicBezTo>
                      <a:cubicBezTo>
                        <a:pt x="439" y="311"/>
                        <a:pt x="439" y="401"/>
                        <a:pt x="432" y="490"/>
                      </a:cubicBezTo>
                      <a:cubicBezTo>
                        <a:pt x="431" y="500"/>
                        <a:pt x="430" y="468"/>
                        <a:pt x="423" y="461"/>
                      </a:cubicBezTo>
                      <a:cubicBezTo>
                        <a:pt x="407" y="445"/>
                        <a:pt x="365" y="423"/>
                        <a:pt x="365" y="423"/>
                      </a:cubicBezTo>
                      <a:cubicBezTo>
                        <a:pt x="333" y="321"/>
                        <a:pt x="92" y="348"/>
                        <a:pt x="48" y="346"/>
                      </a:cubicBezTo>
                      <a:cubicBezTo>
                        <a:pt x="9" y="286"/>
                        <a:pt x="0" y="205"/>
                        <a:pt x="29" y="135"/>
                      </a:cubicBezTo>
                      <a:cubicBezTo>
                        <a:pt x="37" y="116"/>
                        <a:pt x="87" y="115"/>
                        <a:pt x="87" y="115"/>
                      </a:cubicBezTo>
                      <a:cubicBezTo>
                        <a:pt x="108" y="84"/>
                        <a:pt x="106" y="98"/>
                        <a:pt x="106" y="7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09800">
                  <a:off x="196200" y="1172880"/>
                  <a:ext cx="311760" cy="432360"/>
                </a:xfrm>
                <a:custGeom>
                  <a:avLst/>
                  <a:gdLst/>
                  <a:ahLst/>
                  <a:rect l="l" t="t" r="r" b="b"/>
                  <a:pathLst>
                    <a:path w="317" h="363">
                      <a:moveTo>
                        <a:pt x="0" y="0"/>
                      </a:moveTo>
                      <a:cubicBezTo>
                        <a:pt x="68" y="26"/>
                        <a:pt x="136" y="53"/>
                        <a:pt x="181" y="91"/>
                      </a:cubicBezTo>
                      <a:cubicBezTo>
                        <a:pt x="226" y="129"/>
                        <a:pt x="249" y="182"/>
                        <a:pt x="272" y="227"/>
                      </a:cubicBezTo>
                      <a:cubicBezTo>
                        <a:pt x="295" y="272"/>
                        <a:pt x="310" y="340"/>
                        <a:pt x="317" y="363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2652840" y="28800"/>
              <a:ext cx="431640" cy="504720"/>
              <a:chOff x="2652840" y="28800"/>
              <a:chExt cx="431640" cy="504720"/>
            </a:xfrm>
          </p:grpSpPr>
          <p:sp>
            <p:nvSpPr>
              <p:cNvPr id="226" name=""/>
              <p:cNvSpPr/>
              <p:nvPr/>
            </p:nvSpPr>
            <p:spPr>
              <a:xfrm>
                <a:off x="2652840" y="28800"/>
                <a:ext cx="431640" cy="504720"/>
              </a:xfrm>
              <a:custGeom>
                <a:avLst/>
                <a:gdLst/>
                <a:ahLst/>
                <a:rect l="l" t="t" r="r" b="b"/>
                <a:pathLst>
                  <a:path w="442" h="500">
                    <a:moveTo>
                      <a:pt x="106" y="77"/>
                    </a:moveTo>
                    <a:cubicBezTo>
                      <a:pt x="126" y="20"/>
                      <a:pt x="121" y="22"/>
                      <a:pt x="183" y="10"/>
                    </a:cubicBezTo>
                    <a:cubicBezTo>
                      <a:pt x="247" y="13"/>
                      <a:pt x="314" y="0"/>
                      <a:pt x="375" y="19"/>
                    </a:cubicBezTo>
                    <a:cubicBezTo>
                      <a:pt x="394" y="25"/>
                      <a:pt x="388" y="58"/>
                      <a:pt x="394" y="77"/>
                    </a:cubicBezTo>
                    <a:cubicBezTo>
                      <a:pt x="404" y="106"/>
                      <a:pt x="413" y="134"/>
                      <a:pt x="423" y="163"/>
                    </a:cubicBezTo>
                    <a:cubicBezTo>
                      <a:pt x="430" y="182"/>
                      <a:pt x="442" y="221"/>
                      <a:pt x="442" y="221"/>
                    </a:cubicBezTo>
                    <a:cubicBezTo>
                      <a:pt x="439" y="311"/>
                      <a:pt x="439" y="401"/>
                      <a:pt x="432" y="490"/>
                    </a:cubicBezTo>
                    <a:cubicBezTo>
                      <a:pt x="431" y="500"/>
                      <a:pt x="430" y="468"/>
                      <a:pt x="423" y="461"/>
                    </a:cubicBezTo>
                    <a:cubicBezTo>
                      <a:pt x="407" y="445"/>
                      <a:pt x="365" y="423"/>
                      <a:pt x="365" y="423"/>
                    </a:cubicBezTo>
                    <a:cubicBezTo>
                      <a:pt x="333" y="321"/>
                      <a:pt x="92" y="348"/>
                      <a:pt x="48" y="346"/>
                    </a:cubicBezTo>
                    <a:cubicBezTo>
                      <a:pt x="9" y="286"/>
                      <a:pt x="0" y="205"/>
                      <a:pt x="29" y="135"/>
                    </a:cubicBezTo>
                    <a:cubicBezTo>
                      <a:pt x="37" y="116"/>
                      <a:pt x="87" y="115"/>
                      <a:pt x="87" y="115"/>
                    </a:cubicBezTo>
                    <a:cubicBezTo>
                      <a:pt x="108" y="84"/>
                      <a:pt x="106" y="98"/>
                      <a:pt x="106" y="7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60120" y="121320"/>
                <a:ext cx="309600" cy="366480"/>
              </a:xfrm>
              <a:custGeom>
                <a:avLst/>
                <a:gdLst/>
                <a:ahLst/>
                <a:rect l="l" t="t" r="r" b="b"/>
                <a:pathLst>
                  <a:path w="317" h="363">
                    <a:moveTo>
                      <a:pt x="0" y="0"/>
                    </a:moveTo>
                    <a:cubicBezTo>
                      <a:pt x="68" y="26"/>
                      <a:pt x="136" y="53"/>
                      <a:pt x="181" y="91"/>
                    </a:cubicBezTo>
                    <a:cubicBezTo>
                      <a:pt x="226" y="129"/>
                      <a:pt x="249" y="182"/>
                      <a:pt x="272" y="227"/>
                    </a:cubicBezTo>
                    <a:cubicBezTo>
                      <a:pt x="295" y="272"/>
                      <a:pt x="310" y="340"/>
                      <a:pt x="317" y="363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 txBox="1"/>
          <p:nvPr/>
        </p:nvSpPr>
        <p:spPr>
          <a:xfrm>
            <a:off x="755640" y="2421000"/>
            <a:ext cx="241128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规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0360" y="177336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游戏规则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4720" y="3213000"/>
            <a:ext cx="15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放学不站队，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没有红绿灯，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</a:rPr>
              <a:t>自己用过的东西随意乱放，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050920" y="4941720"/>
            <a:ext cx="4667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校里有哪些规则呢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96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《小学生行为规范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升国旗 要敬礼 唱国歌 要肃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尊长辈 爱幼小 孝父母 遵教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会使用 文明语 遇外宾 要知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帮残疾 乐助人 不打架 不骂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要诚实 不说谎 损公物 要赔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捡东西 要上交 借东西 要归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不挑吃 不挑穿 惜粮物 节水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爱整洁 常洗澡 勤刷牙 习惯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不旷课 不迟到 对老师 有礼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上课时 用品齐 敢发言 多动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-396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《小学生行为规范》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做作业 写工整 按时完 卷面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广播操 要做好 炼身体 争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保视力 做眼操 三个一 要做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集合时 快静齐 做值日 要积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个人事 应自理 家务活 要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3967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《小学生行为规范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衣和物 放整齐 学做饭 会洗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过马路 走横道 乘车船 要买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买东西 按顺序 看影剧 不吵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保古迹 爱益鸟 护庄稼 爱花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迷信事 要反对 坏书刊 不去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烟酒赌 不能沾 不玩火 防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好与坏 要分清 坏行为 敢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好习惯 早养成 有教养 益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-396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《小学生行为规范》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6:36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2:06Z</dcterms:modified>
  <cp:revision>6</cp:revision>
  <dc:subject>主题班会课件(分28大类): http://shop62905894.taobao.com</dc:subject>
  <dc:title>主题班会课件(分28大类): http://shop62905894.taobao.com</dc:title>
</cp:coreProperties>
</file>