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C96-6BD5-4653-A9C1-564CE372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6C8-4E52-41B9-BDE0-7CC60B8D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193-86FF-4D76-8FA3-FEFB31E9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50C-AFE6-484B-A8D8-0BB257B8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56AA-6623-4165-AD14-C59C9D96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92FE-86AD-4846-9055-A6EE3722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A277-3208-420E-85B0-1C74A5C4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7F41-1D83-4DCD-B69F-4827029F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0F00-82D1-47C1-AA18-8F9EFA1A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EC02-9F72-4349-86F5-F167D5A7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770A-3042-48C7-A6B4-B554577E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DE0-ECF0-4A58-BF26-0F12A795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48B6-9E48-4D5B-9F99-0B085B73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2178-84A3-4788-BFB7-CEED1C59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89B9-BEAA-4F8C-9548-1EC92D89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F43F-BCDB-4A71-8DE3-863D600E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E423-1883-46CD-AC03-3A316C32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81F-4CC1-401A-B60B-2EF7B86E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060-CC20-4F5C-A900-EE239154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4D0-2C81-47D9-B464-808F1EBA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EF3-D87D-49DF-89AD-A10D6DB3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4C3-C3FE-4076-B470-BAE61976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5C9-BC01-428E-A9F4-EAFFEA6C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9AE-A01D-4FE1-B781-B5C75CD1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B4AF-D9F8-4D39-9D1D-BBC92FBC2B4F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4C80-5BF4-4B17-9E71-49FABAB71CD7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:/Documents%20and%20Settings/Administrator/Local%20Settings/Temp/Rar$DI00.468/cxjlm.mp3" TargetMode="External"/><Relationship Id="rId3" Type="http://schemas.openxmlformats.org/officeDocument/2006/relationships/hyperlink" Target="file:///C:/Documents%20and%20Settings/Administrator/Local%20Settings/Temp/Rar$DI00.468/cxjlm.mp3" TargetMode="External"/><Relationship Id="rId4" Type="http://schemas.openxmlformats.org/officeDocument/2006/relationships/hyperlink" Target="file:///C:/Documents%20and%20Settings/Administrator/Local%20Settings/Temp/Rar$DI00.468/cxjlm.mp3" TargetMode="External"/><Relationship Id="rId5" Type="http://schemas.openxmlformats.org/officeDocument/2006/relationships/hyperlink" Target="file:///C:/Documents%20and%20Settings/Administrator/Local%20Settings/Temp/Rar$DI00.468/cxjlm.mp3" TargetMode="External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47640" y="765000"/>
            <a:ext cx="6553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人人讲礼貌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,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处处有文明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"/>
          <p:cNvSpPr/>
          <p:nvPr/>
        </p:nvSpPr>
        <p:spPr>
          <a:xfrm>
            <a:off x="5424120" y="4869000"/>
            <a:ext cx="24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高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(11)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班主题班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94440" y="5877000"/>
            <a:ext cx="24696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播放歌曲</a:t>
            </a:r>
            <a:r>
              <a:rPr b="0" lang="zh-CN" sz="24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《</a:t>
            </a:r>
            <a:r>
              <a:rPr b="0" lang="zh-CN" sz="24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咱们从小讲礼貌</a:t>
            </a:r>
            <a:r>
              <a:rPr b="0" lang="zh-CN" sz="2400" spc="-1" strike="noStrike" u="sng">
                <a:solidFill>
                  <a:srgbClr val="0066ff"/>
                </a:solidFill>
                <a:uFillTx/>
                <a:latin typeface="Arial"/>
                <a:hlinkClick r:id="rId5"/>
              </a:rPr>
              <a:t>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1392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文明礼貌主题班会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920" y="549360"/>
            <a:ext cx="9144000" cy="5843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267760" cy="5052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6000" y="507960"/>
            <a:ext cx="8532720" cy="5451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30040" y="8064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7880" y="692280"/>
            <a:ext cx="805176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244000" cy="528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8281800" cy="529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8424720" cy="538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17080" cy="5429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-73080" y="333360"/>
            <a:ext cx="939816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3333ff"/>
                </a:solidFill>
                <a:latin typeface="Arial"/>
                <a:ea typeface="华文隶书"/>
              </a:rPr>
              <a:t>班会的主要目的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讲文明，懂礼貌是同学们健康成长的需要，是走向社会进行交往的必备素质。我们针对一些不文明的现象，采取一些生动活泼的形式，对同学们进行礼貌用语，文明行为的教育，并懂得哪些是文明的行为，哪些是不文明的行为。通过学习讨论，对现实生活中的一些不文明的行为进行批判，使同学们明确今后努力的方向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7632720" cy="628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404640"/>
            <a:ext cx="6545160" cy="6286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00000" y="115920"/>
            <a:ext cx="7272360" cy="6642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62120" y="247680"/>
            <a:ext cx="7619760" cy="6362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14680" y="590400"/>
            <a:ext cx="5715000" cy="5677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6560" y="1555920"/>
            <a:ext cx="820908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请回答以下问题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7921800" cy="5902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41200"/>
            <a:ext cx="7619760" cy="6375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62120" y="374760"/>
            <a:ext cx="7619760" cy="6108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62120" y="374760"/>
            <a:ext cx="7619760" cy="6108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62120" y="374760"/>
            <a:ext cx="7619760" cy="6108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52280" y="1600200"/>
            <a:ext cx="8686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迷你简蝶语"/>
              </a:rPr>
              <a:t>如何让文明的鲜花盛开？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迷你简蝶语"/>
              <a:ea typeface="迷你简蝶语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201080" cy="5810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291960"/>
            <a:ext cx="7416720" cy="5983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209520"/>
            <a:ext cx="8459640" cy="6315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704360" cy="618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4000" y="695160"/>
            <a:ext cx="8424720" cy="542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176040"/>
            <a:ext cx="8136000" cy="6562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7128000" cy="5321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这些行为文明吗？看看……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490160" cy="5618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8244000" cy="5267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7618680" cy="4846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80118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30040" y="476280"/>
            <a:ext cx="8663040" cy="553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592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5:34:1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0:49Z</dcterms:modified>
  <cp:revision>41</cp:revision>
  <dc:subject>主题班会课件(分28大类): http://shop62905894.taobao.com</dc:subject>
  <dc:title>主题班会课件(分28大类): http://shop62905894.taobao.com</dc:title>
</cp:coreProperties>
</file>