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type.wav" ContentType="audio/x-wav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661-03CB-4D0C-B98D-81E8AA5D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993-B1BB-4A01-AB8D-FE0DCDFC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C4A-8122-40AC-8DB2-EC28D97D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95B-DD96-43A4-B677-23A6DC97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420E-179E-4EE2-8045-3309D041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AA92-32D3-430F-87EE-3E8D0B49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2438-967D-481F-A9D4-A055384E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A4F4-FB8E-41A8-91EE-EBE573CD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5C8F-4099-4377-8738-E5E41065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7DF5-1661-4B4B-B436-CAE6C30F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82AC-8426-4522-80EF-7063E7F5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B2B-15AE-4B86-87E9-0BB7C8C8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8F99-4D5A-45AA-9E2F-C539E4A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6557-896D-4A09-8911-49F41619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0B8E-1583-42A6-A841-6EB82A84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0962-99CC-43E4-A4AC-073BDBD5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2B10-F7AE-4253-9FA6-C66FCBD1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9A8-577A-4851-8AD5-5B502EE9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B6B-4337-4F7A-BA16-EC82304B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DDD-1748-46B6-85FC-D0D3F18A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803-F0BF-4D8D-963B-02CA930B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87F-196D-44D4-BE53-6C3764AA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77E-0CA1-4620-80FF-6E59783E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60C-8C4B-4F33-BE04-74131258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0F74-5E65-477D-8510-020FC1EC3DBB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FE3B-5C28-45AD-BB8D-697BE1D373EC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苏中名城南通正积极开展创卫生文明城市群，南通以什么样的城市形象来迎接各方友人？为响应上级领导，配合如东开发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如东现在创建卫生城市。作为如东的一分子，你该为如东作些什么；作为一个卫生城市的主人，你该是怎样的一形象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;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作为如东高级中学的光荣一员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你又是如何展示个人的风采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533520" y="0"/>
            <a:ext cx="10439640" cy="6875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04920" y="457200"/>
            <a:ext cx="8991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修身，齐家，治国，                     平天下！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自尊自爱，注重仪表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教育家孔子要求他的学生站立有样，彬彬有礼。荀子也说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:“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人无礼而不坐，事无礼而不成，国无礼而不宁。”中国是礼仪之邦，我们应传承文明，提高自身素质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762120" y="5791320"/>
            <a:ext cx="761760" cy="228600"/>
          </a:xfrm>
          <a:custGeom>
            <a:avLst/>
            <a:gdLst>
              <a:gd name="textAreaLeft" fmla="*/ 133200 w 761760"/>
              <a:gd name="textAreaRight" fmla="*/ 552240 w 7617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隶书"/>
              </a:rPr>
              <a:t>诚实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_x000b__x000c_"/>
              </a:rPr>
              <a:t>守信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_x000b__x000c_"/>
                <a:hlinkClick r:id="rId1" action="ppaction://hlinksldjump"/>
              </a:rPr>
              <a:t>高尔基曾经说过“让我们做一个大写的人吧”，而诚实和守信就好象人字的一撇和一捺，支撑起我们每个人的道德准则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486400" y="1981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高一（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8360" y="190512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创建行为规范示范学校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31240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高一（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）良好行为养成教育主题班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838080" y="-628560"/>
            <a:ext cx="9982080" cy="7486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53352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99"/>
                </a:solidFill>
                <a:latin typeface="Times New Roman"/>
                <a:ea typeface="华文行楷"/>
              </a:rPr>
              <a:t>黑夜给了我黑色的眼睛，我却用它寻找</a:t>
            </a:r>
            <a:r>
              <a:rPr b="0" lang="zh-CN" sz="4000" spc="-1" strike="noStrike">
                <a:solidFill>
                  <a:srgbClr val="b0db25"/>
                </a:solidFill>
                <a:latin typeface="Times New Roman"/>
                <a:ea typeface="华文行楷"/>
              </a:rPr>
              <a:t>“文明”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828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99"/>
                </a:solidFill>
                <a:latin typeface="Times New Roman"/>
                <a:ea typeface="方正舒体"/>
              </a:rPr>
              <a:t>讨论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方正舒体"/>
              </a:rPr>
              <a:t>：</a:t>
            </a:r>
            <a:r>
              <a:rPr b="1" lang="zh-CN" sz="3600" spc="-1" strike="noStrike">
                <a:solidFill>
                  <a:srgbClr val="b0db25"/>
                </a:solidFill>
                <a:latin typeface="Times New Roman"/>
                <a:ea typeface="新宋体"/>
              </a:rPr>
              <a:t>我们身边有哪些不文明的现象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 rot="900000">
            <a:off x="1219320" y="990360"/>
            <a:ext cx="54338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一滴水折射太阳的光辉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581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一个细节反映一个人的品质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05120" y="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63ec2"/>
                </a:solidFill>
                <a:latin typeface="Times New Roman"/>
                <a:ea typeface="华文新魏"/>
              </a:rPr>
              <a:t>勿以恶小而为之，勿以善小而不为。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36840" y="1684440"/>
            <a:ext cx="85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cccc"/>
                </a:solidFill>
                <a:latin typeface="Times New Roman"/>
                <a:ea typeface="华文新魏"/>
              </a:rPr>
              <a:t>他律－－自律。慎独。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65560" y="18576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60600" y="190512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457200" y="-838080"/>
            <a:ext cx="10820520" cy="8800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中学生行为规范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新增加的符合时代特征的内容</a:t>
            </a:r>
            <a:r>
              <a:rPr b="1" lang="zh-CN" sz="4400" spc="-1" strike="noStrike">
                <a:solidFill>
                  <a:srgbClr val="66ff33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42920" y="3076560"/>
            <a:ext cx="678816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新宋体"/>
                <a:hlinkClick r:id="rId3" action="ppaction://hlinksldjump"/>
              </a:rPr>
              <a:t>自尊自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新宋体"/>
                <a:hlinkClick r:id="rId4" action="ppaction://hlinksldjump"/>
              </a:rPr>
              <a:t>诚实守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加强实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合作意识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创新意识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网络文明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安全自护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远离毒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新宋体"/>
              </a:rPr>
              <a:t>等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华文中宋"/>
              </a:rPr>
              <a:t>十个一，五个无，三个轻轻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十个一”是一次网吧不去，一次打骂不沾，一句谎言不说，一个脏物不扔，一件公物不损，一点他物不拿，一次烟酒不沾，一次荣誉不丢，一分一秒不舍，一角一分不费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五个无”是身边无废纸，周围无痰迹，桌面无刻画，墙面无脚印、球印，出言无脏话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“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三个轻轻”是说话轻轻，走路轻轻，举止轻轻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-457200" y="-2286000"/>
            <a:ext cx="9601200" cy="93726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362320" y="12952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知者行之始，行者知之成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2860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23623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不知不行不为真知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>
            <a:lum contrast="-36000"/>
          </a:blip>
          <a:stretch/>
        </p:blipFill>
        <p:spPr>
          <a:xfrm>
            <a:off x="-762120" y="-57168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143000" y="1523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做人第一，做学问第二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43000" y="23623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先做人，后做学问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02:50:1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41:57Z</dcterms:modified>
  <cp:revision>46</cp:revision>
  <dc:subject>主题班会课件(分28大类): http://shop62905894.taobao.com</dc:subject>
  <dc:title>主题班会课件(分28大类): http://shop62905894.taobao.com</dc:title>
</cp:coreProperties>
</file>