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5.gif" ContentType="image/gif"/>
  <Override PartName="/ppt/media/image11.jpeg" ContentType="image/jpeg"/>
  <Override PartName="/ppt/media/image9.jpeg" ContentType="image/jpeg"/>
  <Override PartName="/ppt/media/image21.gif" ContentType="image/gif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335-9ED0-4F91-9FD9-586EB667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AD3-D591-4C6B-988B-3E111D88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42C-0445-4E45-AF8D-A9648A55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776-BCC3-4EE6-B5B3-86EBBB55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D3F-7A61-45DD-8BC3-2C7FEBFD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EB4-E08A-4633-8EBA-2D31D273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0B6-B182-4DEA-A989-7FCE64A7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BDC-6D20-4B29-ADD6-4A7D6481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F3D-217E-4F6E-B8CB-E0A5BCEB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833-008D-4553-9CD6-A93EA86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35C-E510-4354-8531-DF7E3EB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A77-8C6A-4D37-96D5-7B47CCA2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CBFE-20D7-4CE7-BDD6-B0B7862094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2133720"/>
            <a:ext cx="6858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明在我心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608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</a:rPr>
              <a:t>综合实践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971800"/>
            <a:ext cx="2514600" cy="129528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323640 h 1295280"/>
              <a:gd name="textAreaBottom" fmla="*/ 1257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1280" y="1523880"/>
            <a:ext cx="22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fafc">
                    <a:alpha val="85000"/>
                  </a:srgbClr>
                </a:solidFill>
                <a:latin typeface="宋体"/>
              </a:rPr>
              <a:t>请选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fafc">
                  <a:alpha val="85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3124080"/>
            <a:ext cx="2514600" cy="1219320"/>
          </a:xfrm>
          <a:custGeom>
            <a:avLst/>
            <a:gdLst>
              <a:gd name="textAreaLeft" fmla="*/ 628560 w 2514600"/>
              <a:gd name="textAreaRight" fmla="*/ 1886040 w 2514600"/>
              <a:gd name="textAreaTop" fmla="*/ 304920 h 1219320"/>
              <a:gd name="textAreaBottom" fmla="*/ 118332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724280"/>
            <a:ext cx="2362320" cy="152424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380880 h 1524240"/>
              <a:gd name="textAreaBottom" fmla="*/ 14792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4800600"/>
            <a:ext cx="2361960" cy="1447920"/>
          </a:xfrm>
          <a:custGeom>
            <a:avLst/>
            <a:gdLst>
              <a:gd name="textAreaLeft" fmla="*/ 590400 w 2361960"/>
              <a:gd name="textAreaRight" fmla="*/ 1771560 w 2361960"/>
              <a:gd name="textAreaTop" fmla="*/ 361800 h 1447920"/>
              <a:gd name="textAreaBottom" fmla="*/ 14050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23003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838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时间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: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981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地点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北京奥运会主馆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124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人物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中国人和外国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3434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情景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问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334120"/>
            <a:ext cx="1905120" cy="12952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1295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时间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:2006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年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1337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地点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公交车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8954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人物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两个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8098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情景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一个人踩了一个人的脚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被踩得人破口大骂请发挥想象演小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5334120"/>
            <a:ext cx="1905120" cy="12952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762120"/>
            <a:ext cx="67057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时间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星期五课堂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地点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教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人物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小强和老师等同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情景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上课时小强在讲话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老师看见了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叫小强站到校门外去小强该怎么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5334120"/>
            <a:ext cx="1905120" cy="12952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990720"/>
            <a:ext cx="6400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时间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星期一的早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地点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人物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小小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小晶和小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情景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小晶和小王打架了小小去劝架的情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5334120"/>
            <a:ext cx="1905120" cy="12952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一步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209680" y="2057400"/>
            <a:ext cx="4114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抢答题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62120" y="99072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.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你说出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0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字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&lt;&lt;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公民道德规范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&gt;&gt;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905120"/>
            <a:ext cx="609624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391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爱国守法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礼诚信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团结友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勤俭自强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敬业奉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00280" y="320364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2.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当一个盲人要过马路时你应该怎么办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362320" y="3809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言之有理即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472428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你说出三室一厅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哪三室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哪一厅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56386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室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台球室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网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舞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71600" y="457200"/>
            <a:ext cx="5334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4.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说说你对文明的理解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828800" y="182880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言之有理即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4142520" y="2819520"/>
            <a:ext cx="109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我们如何做一个文明的学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57400" y="3809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言之有理即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2328480" y="4572000"/>
            <a:ext cx="468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Arial"/>
              </a:rPr>
              <a:t>6.</a:t>
            </a:r>
            <a:r>
              <a:rPr b="0" lang="zh-CN" sz="4000" spc="-1" strike="noStrike">
                <a:solidFill>
                  <a:srgbClr val="9900cc"/>
                </a:solidFill>
                <a:latin typeface="Arial"/>
              </a:rPr>
              <a:t>看见课室地面上有纸屑，应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562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捡起来扔进垃圾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533520"/>
            <a:ext cx="86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不小心损坏了他人的物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应该怎么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1600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666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余姚正在争创什么荣誉称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5812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省示范文明城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5720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校校训是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715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正直友爱求实进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85840" y="441360"/>
            <a:ext cx="405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民道德规范有哪些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371600"/>
            <a:ext cx="81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国守法，明礼诚信，团结友善，勤俭自强，敬业奉献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351960"/>
            <a:ext cx="749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校学生的道德规范有哪些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14800"/>
            <a:ext cx="810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尊师爱校，文明礼貌，勤奋学习，崇尚科学，遵纪守法，勤俭自强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2160" y="5253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2952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文明交往我也会嘛！！见到人说你好，谢谢，再见，多简单啊！！不用学啦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971800"/>
            <a:ext cx="3809880" cy="1371600"/>
          </a:xfrm>
          <a:prstGeom prst="wedgeRoundRectCallout">
            <a:avLst>
              <a:gd name="adj1" fmla="val -43583"/>
              <a:gd name="adj2" fmla="val 78472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那可不一定哦！！你会说，并不代表你会用哦！让我们同学比一比吧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1.gif (6812 字节)"/>
          <p:cNvPicPr/>
          <p:nvPr/>
        </p:nvPicPr>
        <p:blipFill>
          <a:blip r:embed="rId2"/>
          <a:stretch/>
        </p:blipFill>
        <p:spPr>
          <a:xfrm>
            <a:off x="838080" y="4191120"/>
            <a:ext cx="213372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781680" y="76212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71604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生的文明行为规范有哪些？说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条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82880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出校门    佩戴校徽    尊重校警    服从纠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教室听课    集中精力    刻苦钻研    勤奋好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食堂用餐    讲究公德    先人后己    谦让有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公寓休息    遵守制度    保持安静    爱护公物 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校园活动    积极参与    关心集体    珍惜荣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举止端庄    语言文明    服饰整洁    大方得体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尊敬师长    问候致意    同学之间    互相勉励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 戒烟禁酒    自爱自律    遵纪守法    表里如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2818440"/>
            <a:ext cx="59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道德规范是指调整人们之间利益关系，判断人们行为是非、善恶的一种准则。道德规范是一个历史范畴，它是随着社会物质生活条件变化和发展而不断变化和发展的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92280" y="428760"/>
            <a:ext cx="34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什么是道德规范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4840" y="1447200"/>
            <a:ext cx="39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28600"/>
            <a:ext cx="843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何时正式成为世界贸易组织的一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12920" y="1889280"/>
            <a:ext cx="466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世界贸易组织有多少成员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6668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0160" y="3840840"/>
            <a:ext cx="597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入公寓    服从管理     保持安静     遵章守法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 室内物品    置放有序     讲究卫生     按时作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 团结友爱    诚信明理     生活俭朴     不搞攀比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 戒烟戒酒    举止文明     修身养性     严格自律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 安全隐患    时时警惕     公寓文明     从我做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66720" y="3124080"/>
            <a:ext cx="49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公寓文明行为规范有哪些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8080" y="83808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7.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中国自古以来就是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...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之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47920" y="160020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礼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438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请说出四大文明古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81280"/>
            <a:ext cx="6705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巴比伦、古埃及、古代中国、古印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5720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能否谈谈其他国家的文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43000" y="5410080"/>
          <a:ext cx="3581280" cy="70020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玛雅文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6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685800" y="609480"/>
          <a:ext cx="9144000" cy="700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华优秀传统是说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</a:t>
                      </a: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990720" y="1600200"/>
            <a:ext cx="60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社会道义感、使命感、责任感；气节精神、爱国主义精神；厚德载物、自强不息、艰苦奋斗、尊师重教的精神等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16360" y="141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希望同学们通过这次学习，学会在生活中文明交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20574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6629400" y="2666880"/>
            <a:ext cx="1345320" cy="914400"/>
            <a:chOff x="6629400" y="2666880"/>
            <a:chExt cx="1345320" cy="914400"/>
          </a:xfrm>
        </p:grpSpPr>
        <p:sp>
          <p:nvSpPr>
            <p:cNvPr id="162" name=""/>
            <p:cNvSpPr/>
            <p:nvPr/>
          </p:nvSpPr>
          <p:spPr>
            <a:xfrm>
              <a:off x="7791120" y="2666880"/>
              <a:ext cx="183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6629400" y="2666880"/>
              <a:ext cx="1176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228600" y="380880"/>
            <a:ext cx="8458200" cy="4953240"/>
          </a:xfrm>
          <a:prstGeom prst="verticalScroll">
            <a:avLst>
              <a:gd name="adj" fmla="val 12500"/>
            </a:avLst>
          </a:prstGeom>
          <a:solidFill>
            <a:srgbClr val="008000">
              <a:alpha val="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990720"/>
            <a:ext cx="4572000" cy="28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04920" y="457200"/>
            <a:ext cx="2895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  <a:solidFill>
                  <a:srgbClr val="ff0000">
                    <a:alpha val="19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游戏规则</a:t>
            </a:r>
            <a:endParaRPr b="0" lang="en-US" sz="1800" spc="1" strike="noStrike"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solidFill>
                <a:srgbClr val="ff0000">
                  <a:alpha val="19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905120"/>
            <a:ext cx="69339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班级分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小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组选出一位代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为主答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答手在答题过程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有同组成员才能发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其他组员不安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取消此次比赛资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赛一共分为三大部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别为必答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综合实践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抢答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必答题每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综合实践题每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抢答题每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后加起来分数最多者为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0" y="2057400"/>
            <a:ext cx="397188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开始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752480" y="3657600"/>
            <a:ext cx="4953240" cy="12952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ST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5335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-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必答题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1219320" y="1752480"/>
            <a:ext cx="5790960" cy="83844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第一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800600"/>
            <a:ext cx="5791320" cy="83808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第四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1143000" y="2666880"/>
            <a:ext cx="5791320" cy="83844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第二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1219320" y="3733920"/>
            <a:ext cx="5790960" cy="83808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第三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10666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的妈妈叫什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676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286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你说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礼貌用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0481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谢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不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您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再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733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请你用英语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礼貌用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343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OLLE,SORRY,PLEASE,HI,THANKS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4952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觉抵制反动、低级、荒诞、淫秽的报刊、影视录象、音乐，做到“四不”，问：哪“四不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79132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看、不听、不抄、不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6705720" y="5334120"/>
            <a:ext cx="1981080" cy="121896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163080 h 1218960"/>
              <a:gd name="textAreaBottom" fmla="*/ 10558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5400000">
            <a:off x="6970320" y="1335240"/>
            <a:ext cx="2212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第一组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644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53341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您好！谢谢！请！对不起！再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648320"/>
            <a:ext cx="54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学生行为规范中礼貌用语有哪十个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 rot="5400000">
            <a:off x="7186680" y="1576440"/>
            <a:ext cx="20858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第二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6858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的爸爸的爸爸叫什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219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爷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828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升国旗整队要做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438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、静、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200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学校见到老师时应该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962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问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6705720" y="4876920"/>
            <a:ext cx="1447560" cy="12952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6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 rot="5400000">
            <a:off x="6779520" y="1373040"/>
            <a:ext cx="20606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第三组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2755440" y="928800"/>
            <a:ext cx="6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当你走路时不小心被人撞了一下，你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600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对他说不要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4880" y="2286000"/>
            <a:ext cx="30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有人向你问路时你会怎么办（你认识路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19120" y="289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认真指路给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72640" y="3581280"/>
            <a:ext cx="33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当你有垃圾想丢又没看见垃圾桶时，你应怎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32240" y="419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留着有垃圾桶时再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8640" y="4800600"/>
            <a:ext cx="25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我们应该为老、 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_____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残、孕、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_____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让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562720"/>
            <a:ext cx="1447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幼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6705720" y="5334120"/>
            <a:ext cx="1981080" cy="121896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163080 h 1218960"/>
              <a:gd name="textAreaBottom" fmla="*/ 10558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5400000">
            <a:off x="7315200" y="121896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四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838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升旗正在进行，你应该</a:t>
            </a: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4280" y="16002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00cc"/>
                </a:solidFill>
                <a:latin typeface="Arial"/>
              </a:rPr>
              <a:t>肃立，向国旗行注目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4040" y="2209680"/>
            <a:ext cx="1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ff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9933ff"/>
                </a:solidFill>
                <a:latin typeface="Arial"/>
              </a:rPr>
              <a:t>乘车时我们应该怎样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按次序上车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给人让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75120" y="3505320"/>
            <a:ext cx="41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你不小心损坏了他人的物品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你应该用什么礼貌用语道歉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4038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对不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4160" y="4648320"/>
            <a:ext cx="48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如果你对他人交给你的任务感到困难或做不到时，你觉得应怎样推辞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5410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不好意思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我做不到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cc66ff"/>
                </a:solidFill>
                <a:latin typeface="Arial"/>
              </a:rPr>
              <a:t>言之有理即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51:19Z</dcterms:modified>
  <cp:revision>5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