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DDA-8ADD-486F-A935-795C6E00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523-0B07-48E6-AE5C-5CAD5EC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D12-151C-4901-A797-462D8468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179-B7F9-49D3-8D57-63EEB35D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2118-BEFE-41FC-908E-0C4B88CC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A10-6EF7-437B-8456-9F14267D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69E5-6991-411F-86F0-44E5472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3D73-8FF1-4ED2-AF8D-1CFF2F7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D7DF-DCCD-4946-A8FA-92A0EED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385D-4736-41DB-9745-23B9DEAE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0BC-4C65-44BF-B7AF-EF49D41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512-14F3-480B-AF95-1CE277DE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F015-85DA-4E05-8693-7EB8BDE1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1D22-E61F-49D3-8F7C-6AF8AA2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90E0-D445-4FF7-BBCD-1875010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9BB-80BF-4FEC-9F41-108162FF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3C5-0560-4CB2-9A0E-AF337BBE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B87-A21B-47FC-AD2F-893143E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773-BFF6-49AF-917A-02A8FFB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C3F-D34C-482E-A59C-621CA00A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F72-842E-4824-B9DA-31CDD77F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7A1-C8CF-4EB0-8E4D-4DFBFA2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3AD-B285-4C49-A261-B185357F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DA0-496E-4629-AC3B-D7C89BE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5508-98B1-44C8-B67D-E3126344F5A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702-F0BC-4D0F-BC80-C2C53A9B48C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Local%20Settings/Temp/Rar$DI00.734/&#21681;&#20204;&#20174;&#23567;&#35762;&#31036;&#35980;.wma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红队回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毛泽东主席为雷锋同志的题词是什么？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“四有新人”指的是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427032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绿队回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升降国旗、奏唱国歌时我们应该怎样做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下面小品违反了哪条《中学生日常行为规范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蓝队回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961236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“为中华崛起而读书”是谁提出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“五讲四美三热爱”指的是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00000" y="0"/>
            <a:ext cx="6696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欣赏小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95640" y="3284640"/>
            <a:ext cx="399564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796000" y="479736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836640"/>
            <a:ext cx="88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道德规范知多少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414972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抢答题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35200" y="41544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第二环节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有一天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小军和奶奶一起乘车到公园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下车的时候人很拥挤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他随着奶奶下了车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他看见奶奶只买了一张车票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他问奶奶怎么只买一张票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奶奶说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:"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你还是小学生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少买一张没关系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小军听了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4000" y="0"/>
            <a:ext cx="35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抢答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2421000"/>
            <a:ext cx="88930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小华当值日生打扫教室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它应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一个人的文明仪表主要表现在</a:t>
            </a:r>
            <a:r>
              <a:rPr b="0" lang="zh-CN" sz="4400" spc="-1" strike="noStrike">
                <a:solidFill>
                  <a:srgbClr val="001e1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当你和同学闹矛盾时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你应该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0"/>
            <a:ext cx="35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抢答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于山的表弟被同学小玉打了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于山应该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春游同学们在草坪上吃自备的午餐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对于食品包装纸等一类的废物正确的处理方法是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0"/>
            <a:ext cx="352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抢答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258920" y="0"/>
            <a:ext cx="6408720" cy="33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文明，就差这一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9f"/>
                </a:solidFill>
                <a:uFillTx/>
                <a:latin typeface="Arial"/>
              </a:rPr>
              <a:t>发人深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00000" y="0"/>
            <a:ext cx="66963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欣赏小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195640" y="3284640"/>
            <a:ext cx="3995640" cy="26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796000" y="479736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828720" y="-243000"/>
            <a:ext cx="10441080" cy="748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492360" y="2516040"/>
            <a:ext cx="5651640" cy="4341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5400000">
            <a:off x="-1439640" y="2384280"/>
            <a:ext cx="58323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怎么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学生代表发言次序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１．李静婷《做一个文明之人》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２．张曼静《养文明习惯，做文明学生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728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学生，家之学子，国之未来。我们应该以德律已，扫除不良行为习惯。只要我们有恒心，有毅力，没有攻不破的难关；只要我们真正有“创文明校园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做文明学生”这个信念，就能清除掉所有的“问题”，完善自我。踏踏实实做事，正正当当做人，积极树立校园新风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68280"/>
            <a:ext cx="42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亲爱的同学们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4046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750565"/>
                </a:solidFill>
                <a:uFillTx/>
                <a:latin typeface="Arial"/>
              </a:rPr>
              <a:t>倡  议  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只有这样，我们才能从根源上发现到自己的问题所在，提高个人修养，只有这样才能真正成为一个和谐发展的人，一个文明合格的当代中学生。在此，我们呼吁大家以文明为己任，从现在做起，从自身做起，从自己身旁点滴小事开始，以德律已，争做文明中学生。因此，班委倡议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爱班爱校，说文明话，做文明人，塑造坪中学子文明形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以校为家，爱护公共设施，杜绝损坏公物，拒绝课桌文化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遵守公共规则，维护正常的校园秩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戒除抽烟、酗酒，严守校规校纪。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服饰整洁大方，不得染发、不配带耳环、项链等饰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男女同学，自尊自爱，正常交往，举止文明，言行得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）、讲究卫生，不乱扔垃圾，不吃口香糖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06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3399"/>
                </a:solidFill>
                <a:uFillTx/>
                <a:latin typeface="Arial"/>
              </a:rPr>
              <a:t>班主任寄语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同学们，通过这次班会，我想我们每一个人都提高了对文明的认识。你们是不是都在暗暗的下决心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今后要做文明人、做文明事？这就对了！作为一名中学生，就要严格遵守《中学生守则》和《中学生日常行为规范》，提高自律、文明的意识。从小养成良好的文明行为习惯，更重要的是不要让文明拘泥于一种形式，而是要从我们身边力所能及的小事做起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3765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3399"/>
                </a:solidFill>
                <a:uFillTx/>
                <a:latin typeface="Arial"/>
              </a:rPr>
              <a:t>班主任寄语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74872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最后，我希望同学们用自己的实际行动去影响周围的每一个人，让文明之花开遍我们的班级，开遍我们的校园，使每一个</a:t>
            </a:r>
            <a:r>
              <a:rPr b="1" lang="zh-CN" sz="4000" spc="-1" strike="noStrike">
                <a:solidFill>
                  <a:srgbClr val="750565"/>
                </a:solidFill>
                <a:latin typeface="Arial"/>
              </a:rPr>
              <a:t>坪地中学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的学生都成为</a:t>
            </a:r>
            <a:r>
              <a:rPr b="1" lang="zh-CN" sz="4000" spc="-1" strike="noStrike">
                <a:solidFill>
                  <a:srgbClr val="fa041c"/>
                </a:solidFill>
                <a:latin typeface="Arial"/>
              </a:rPr>
              <a:t>懂礼仪，讲文明</a:t>
            </a:r>
            <a:r>
              <a:rPr b="1" lang="zh-CN" sz="4000" spc="-1" strike="noStrike">
                <a:solidFill>
                  <a:srgbClr val="001e1d"/>
                </a:solidFill>
                <a:latin typeface="Arial"/>
              </a:rPr>
              <a:t>的人。让我们每个人都生活在一个文明温馨的大家庭里。让我们这个大家庭中的每一个人永远相亲相爱在一起。大家一起欣赏</a:t>
            </a:r>
            <a:r>
              <a:rPr b="1" lang="zh-CN" sz="4000" spc="-1" strike="noStrike">
                <a:solidFill>
                  <a:srgbClr val="76045e"/>
                </a:solidFill>
                <a:latin typeface="Arial"/>
              </a:rPr>
              <a:t>《相亲相爱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792360" cy="66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7734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435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dc5900"/>
                </a:solidFill>
                <a:uFillTx/>
                <a:latin typeface="Arial"/>
                <a:ea typeface="隶书"/>
                <a:hlinkClick r:id="rId2"/>
              </a:rPr>
              <a:t>咱们从小讲礼貌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864720" cy="52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晨风吹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阳光照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红领巾胸前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小朋友呀欢欢喜喜进学校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见了老师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敬个礼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见了同学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问声</a:t>
            </a:r>
            <a:r>
              <a:rPr b="0" lang="zh-CN" sz="4400" spc="-1" strike="noStrike">
                <a:solidFill>
                  <a:srgbClr val="fa041c"/>
                </a:solidFill>
                <a:latin typeface="Arial"/>
              </a:rPr>
              <a:t>好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老师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您好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!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同学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你早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!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团结友爱心一条！团结友爱心一条！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好儿童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志气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讲文明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懂礼貌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8423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小朋友呀咱们一定要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记牢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！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不骂人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来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不打架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果皮纸屑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不能抛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纪律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要遵守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卫生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要做到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咱们从小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讲文明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咱们从小</a:t>
            </a:r>
            <a:r>
              <a:rPr b="1" lang="zh-CN" sz="4400" spc="-1" strike="noStrike">
                <a:solidFill>
                  <a:srgbClr val="fa041c"/>
                </a:solidFill>
                <a:latin typeface="Arial"/>
              </a:rPr>
              <a:t>讲礼貌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Arial"/>
              </a:rPr>
              <a:t>第一阶段：知识竞答</a:t>
            </a:r>
            <a:br>
              <a:rPr sz="4800"/>
            </a:b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060640"/>
            <a:ext cx="842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道德规范知多少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836640"/>
            <a:ext cx="88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道德规范知多少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414972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必答题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97320" y="4154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第一环节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44276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黄队回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对中学生重点是加强五爱教育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,“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五爱”是指 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1e1d"/>
                </a:solidFill>
                <a:latin typeface="Arial"/>
              </a:rPr>
              <a:t>、下面小品违反了哪条《中学生日常行为规范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24:4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8:03Z</dcterms:modified>
  <cp:revision>60</cp:revision>
  <dc:subject>主题班会课件(分28大类): http://shop62905894.taobao.com</dc:subject>
  <dc:title>主题班会课件(分28大类): http://shop62905894.taobao.com</dc:title>
</cp:coreProperties>
</file>