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7A78-CF40-491A-91FB-67542DEE7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3581-CAE3-42BB-934B-40681DF10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CC04-3456-42B7-B252-6A87624FB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06C2-D83D-4CA3-9FE9-5A166C9A6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5984-BE7F-4ECA-A0F7-3DA633C10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7219-057C-4827-8D6A-631A18C4E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82A2-3F31-4062-BACA-C25264EC9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196D-835E-43EB-839E-AF50C07ED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2DF0-710D-46A6-A03C-12834BEB1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CB6F-85DF-41EC-B4E5-18D382190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B85D-650F-41E8-A19E-FCDB8EDFF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467E-4F14-4EE0-8C0B-1B70C504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2197B-FD0D-433B-9233-72A18EC6C00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38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95640" y="566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85342"/>
                </a:solidFill>
                <a:latin typeface="Arial"/>
              </a:rPr>
              <a:t>七一班班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85342"/>
                </a:solidFill>
                <a:latin typeface="Arial"/>
              </a:rPr>
              <a:t>主持人：骆    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826920" y="1238400"/>
            <a:ext cx="4249800" cy="21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楷体_GB2312"/>
              </a:rPr>
              <a:t>我与班规</a:t>
            </a:r>
            <a:endParaRPr b="1" lang="en-US" sz="72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24000" y="260280"/>
            <a:ext cx="66960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没有规矩，不成方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abd3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5babd3"/>
                </a:solidFill>
                <a:latin typeface="楷体_GB2312"/>
                <a:ea typeface="楷体_GB2312"/>
              </a:rPr>
              <a:t>中国入世首席谈判代表龙永图曾经讲过这么一件事：“我有个中国同事在联合国任职，他的孩子从小在瑞士长大。有一次大家在日内瓦湖上划船，我们代表团有个成员喝完可乐以后，顺手就把可乐瓶扔到湖里了，这在国内司空见惯。可是这个在瑞士长大的小孩当时脸色都白了，告诉了他的母亲，好像扔可乐瓶的人犯了很大的罪恶似的。”</a:t>
            </a:r>
            <a:r>
              <a:rPr b="1" lang="zh-CN" sz="2800" spc="-1" strike="noStrike">
                <a:solidFill>
                  <a:srgbClr val="5babd3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 rot="19848000">
            <a:off x="0" y="1844280"/>
            <a:ext cx="32828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你们知道吗？</a:t>
            </a:r>
            <a:endParaRPr b="1" lang="en-US" sz="8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5babd3"/>
                </a:solidFill>
                <a:latin typeface="Arial"/>
                <a:ea typeface="楷体_GB2312"/>
              </a:rPr>
              <a:t>班规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a8e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a8ec4"/>
                </a:solidFill>
                <a:latin typeface="Arial"/>
                <a:ea typeface="楷体_GB2312"/>
              </a:rPr>
              <a:t>不乱让垃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a8e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a8ec4"/>
                </a:solidFill>
                <a:latin typeface="Arial"/>
                <a:ea typeface="楷体_GB2312"/>
              </a:rPr>
              <a:t>上课遵守纪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a8e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a8ec4"/>
                </a:solidFill>
                <a:latin typeface="Arial"/>
                <a:ea typeface="楷体_GB2312"/>
              </a:rPr>
              <a:t>不讲脏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a8ec4"/>
                </a:solidFill>
                <a:latin typeface="Arial"/>
                <a:ea typeface="楷体_GB2312"/>
              </a:rPr>
              <a:t>等等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-252720" y="1432080"/>
            <a:ext cx="93963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babd3"/>
                </a:solidFill>
                <a:latin typeface="Arial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5babd3"/>
                </a:solidFill>
                <a:latin typeface="Arial"/>
                <a:ea typeface="楷体_GB2312"/>
              </a:rPr>
              <a:t>你觉得我们的班规还有什么要改善的地方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 rot="559200">
            <a:off x="1332000" y="3068640"/>
            <a:ext cx="4219560" cy="19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楷体_GB2312"/>
              </a:rPr>
              <a:t>议一议</a:t>
            </a:r>
            <a:endParaRPr b="1" lang="en-US" sz="96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 rot="184800">
            <a:off x="1474560" y="2276640"/>
            <a:ext cx="619272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楷体_GB2312"/>
              </a:rPr>
              <a:t>有请班主任讲话</a:t>
            </a:r>
            <a:endParaRPr b="0" lang="en-US" sz="66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205080" y="1844640"/>
            <a:ext cx="2733840" cy="20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楷体_GB2312"/>
              </a:rPr>
              <a:t>Bye-Bye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80-01-07T03:46:14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1:33:15Z</dcterms:modified>
  <cp:revision>3</cp:revision>
  <dc:subject>主题班会课件(分28大类): http://shop62905894.taobao.com</dc:subject>
  <dc:title>主题班会课件(分28大类): http://shop62905894.taobao.com</dc:title>
</cp:coreProperties>
</file>