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654A-51D5-4B33-98CD-77A72C4955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0274-77AA-472F-BBB9-BE38D8E0CDF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99F5-1468-4BDB-82C0-395D82D4B7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0DB-ADF3-4A9E-885D-538C0A30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56A-0DDD-45DC-B7DE-6C42BAE7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3BC-AD63-454A-A3D7-E145F028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9E1-6505-4CCD-AA69-64FC7C81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03A5-F35B-4EBD-B7AB-756D7D74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D643-7603-493B-9F98-DB2A22D7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EC04-D9B3-45ED-BCBE-B29E0BEB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D18C-EBFB-458E-BAA7-D9F059C4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02D3-5964-47D3-8D59-25E417BF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2215-FA49-4964-97BA-6FE867F4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5587-7A7E-47B4-A4E2-09585274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2101-F2C2-4447-88EF-16C5AAED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8794-92B0-42F4-84EA-712546B2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0C9E-7794-4333-9D94-877AFF66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9E82-1377-4298-BEB1-9FCA1EF9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80F2-E554-42A1-9607-BEC32837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8E6D-1B9B-4714-830B-7BF33F81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6E0-6547-4298-899A-DC2E68FC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B72-BF10-486A-AF8C-671346F4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2D5D-7446-4C8D-9C8E-646751BC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261-3911-4521-99EA-239BD599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ABC-1EB1-465F-9A03-D4556E8C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6B1-961D-40BF-A484-D203BE7F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4A27-71F9-4AB5-8AB7-5ACA289F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B444-B5B4-40D2-A5AC-C675E0DB6B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C9C0-A6E4-46A6-9869-833D9573AF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00.125/&#36935;&#35265;&#20320;&#26159;&#25105;&#30340;&#32536;-&#22830;&#37329;&#20848;&#27901;.mp3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00.125/&#39134;&#24471;&#26356;&#39640;.swf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5715000" y="5334120"/>
            <a:ext cx="3200400" cy="1143000"/>
          </a:xfrm>
          <a:prstGeom prst="flowChartPunchedTap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  <a:ea typeface="GungsuhChe"/>
              </a:rPr>
              <a:t>Let </a:t>
            </a:r>
            <a:r>
              <a:rPr b="0" lang="en-US" sz="4400" spc="-1" strike="noStrike" u="sng">
                <a:solidFill>
                  <a:srgbClr val="0066cc"/>
                </a:solidFill>
                <a:uFillTx/>
                <a:latin typeface="Bookman Old Style"/>
                <a:ea typeface="GungsuhChe"/>
                <a:hlinkClick r:id="rId1"/>
              </a:rPr>
              <a:t>me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Bookman Old Style"/>
                <a:ea typeface="GungsuhChe"/>
              </a:rPr>
              <a:t> t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0880" y="20574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做一名有思想、合格的高二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802-891C-42C5-9C2D-7B8A56D27D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高二（23）班</a:t>
            </a: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高中生应该养成的几种学习习惯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独立完成作业的习惯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做作业是为了及时检查学习的效果，经过预习、上课、课后复习，知识究竟有没有领会，有没有记住，记到什么程度，知识能否应用，应用的能力有多强，这些学习效果问题，单凭自我感受是不准确的。真正懂没懂，记住没记住，会不会应用，要在做作业时通过对知识的应用才能得到及时的检验。做作业可以加深对知识的理解和记忆；实际上，不少学生正是通过做作业，把容易混淆的概念区别开来，对事物之间的关系了解得更清楚，公式的变换更灵活。可以说做作业促进了知识的“消化”过程，使知识的掌握进入到应用的高级阶段。做作业可以提高思维能力；面对作业中出现的问题，就会引起积极的思考，在分析和解决问题的过程中，不仅使新学的知识得到了应用，面且得到了“思维的锻炼”，使思维能力在解答作业问题的过程中，迅速得到提高。遗憾的是，抄作业是很多同学的家常便饭，甚至有同学在别班测试完后迫不急待的找别人拿题目，要答案。这种事希望以后不要发生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38D-99E2-459F-916F-846F2C2861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高二（23）班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高中生应该养成的几种学习习惯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5960" y="12952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练后反思的习惯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读书和学习过程中，尤其是复习备考过程中，每个同学都进行过强度较大的练习，但做完题目并非大功告成，重要的在于将知识引申、扩展、深化，因此，反思是解题之后的重要环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阅读自学习惯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学是获取知识的主要途径。就学习过程而言，教师只是引路人，学生是学习的真正主体，学习中的大量问题，主要靠自己去解决。阅读是自学的一种主要形式，通过阅读教科书，可以独立领会知识，把握概念本质内涵，分析知识前后联系，反复推敲，理解教材，深化知识，形成能力。学习层次越高，自学的意义越重要，目前我国的高考为选拔有学习潜能的学生，对考生的自学能力有较高的要求。我们每天的自主自习就给同学习提供了自学的空间，一部分同学显得无所事事，成绩也就一步步下降了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当培养的优良习惯还有许多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诸如有疑必问的习惯，有错必改的习惯，动手实验习惯，查找工具书的习惯，积极探究的习惯等等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是这些习惯决定了我们的明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1BB-3D4D-4526-B602-B58075C471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高二（23）班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怎样做一个合格的高二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四点，希望同学们都能展现文明礼貌的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该说，我们绝大多数同学是很注意文明礼貌的，但有些同学对文明礼貌的认识可能比较片面，觉得学校强调文明礼貌，不过是要求见到老师打招呼，排队就餐讲秩序，果皮纸屑不乱抛，多说“谢谢”“对不起”等等，我想，这样理解是远远不够的。文明礼貌是指我们做人做事要符合社会的道德规范，符合学校的规章制度，言谈举止要合乎身份，待人接物要真诚友善。单说一点，言谈举止要合乎身份，这似乎是最简单的，可恰恰是同学们最容易忽视的，也是最难做好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F5F-957B-4296-9090-7862C38F95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高二（23）班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小结：怎样做一个合格的高二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首先要树立理想，做一名优秀高中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次，需要具备勤奋刻苦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，希望同学们有一个好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认真预习习惯；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专心听课的习惯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及时复习的习惯；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独立完成作业的习惯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练后反思的习惯；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阅读自学习惯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四点，希望同学们都能展现文明礼貌的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0ED-65EC-416F-8FA2-E603DA4A72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高二（23）班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做一名有思想、合格的高二生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后，预祝大家在新的学期里人事皆牛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情牛，万事不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身体牛，健康长留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业牛，更进一筹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，让我们秉承冷静理智、不知疲倦，稳重智慧、不屈不挠的作风，为做一名有思想、合格的高二生而奋然前行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3B6-D738-41BF-A053-26690B83AA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高二（23）班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362320" y="1447920"/>
            <a:ext cx="4267080" cy="2743200"/>
          </a:xfrm>
          <a:prstGeom prst="flowChartPunchedTap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Bookman Old Style"/>
              </a:rPr>
              <a:t>谢谢大家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2C4-DBD2-4FFD-B97D-B3BA862662B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高二（23）班</a:t>
            </a: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班会程序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生发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教师发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班主任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6185-A24E-4D6E-9F62-32B92D0A37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高二（23）班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9844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做一个有思想的高中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、为什么高中生要有思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界上最伟大的人是思想者，有思想的人是哲人、是智慧的人。用思想武装起来的人是战无不胜的人，用思想支配行动的人是攻无不克的人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用思想学习的高中生是一往无前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今社会，生产力高速发展。在鳞次栉比的高楼大厦里，多的是浮躁、轻狂，少的是冷静、思考；在日新月异的新农村，多的是盲目、顺从，少的是科学、理性；在焕然一新的校园里，多的是负担、麻木，少的是理想、朝气。作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纪的一代新人，最不缺少的是物质，而最缺少的是思想，是独立见解，是精神上的力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班的同学们一定要有思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思想就是能冲破种种藩篱，有自己的独立见解，知道我的行为不是功利的，而是富有前瞻性、具有远见卓识的。有思想的人就是明白我为什么要做这件事、该如何做？凡做事都要多动脑筋想一想，有良好的意志力和良好的自我控制能力，而不是人云亦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E8DD-AA9B-465A-BD36-DF50F96473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高二（23）班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15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做一个有思想的高中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80520" y="1215720"/>
            <a:ext cx="8458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、怎样的高中生才有思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理想、善动脑、会思考，就是有思想，即知道事情的来龙去脉，明白事物的发展进程，懂得问题的前因后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可以展开说一说，为什么学习优秀的同学在行为习惯、卫生、性格、品德、身体素质、为人处事方面都比较优秀？为什么行为习惯不好的学生在学习文化科学知识上也不怎么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里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最关键的地方就是有无思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知道了什么事情该做，什么事情不该做，就是有思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知道我为什么要做这件事就去做就是没有思想的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想，如果你真的很认真地想过我为什么要学习？为什么必须要通过我自己的努力考上一所大学？你还会发愁自己的基础不好吗？你还会发愁课堂上自己不专心吗？你还会发愁自己不能独立完成作业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962-A674-4C1B-94B7-B52BEAAF6A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高二（23）班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做一个有思想的高中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9280" y="1368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、高中生有思想的表现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一名高中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思想就是懂规矩、明事理、解人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规矩无以成方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遵守起码的校纪班规是做人的根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白人情世故是为人的基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人生的真谛是成人的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969-E015-482F-B744-5679CB47BE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高二（23）班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怎样做一个合格的高二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5960" y="11890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首先要树立理想，做一名优秀高中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应该有理想。没有理想，没有雄心壮志的人必将一事无成。高考牵动着莘莘学子和千家万户的神经，能考上一所理想的大学，是我们孜孜以求的目标，也是我们学校的神圣责任，是我们父母的期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定下的目标，就要为之不懈努力，不能遇到了一些困难就改变了志向。人应该立长志，万万不可常立志。我们一些同学正是由于缺乏“长志”，今天想这样，明天想那样，以致三年高中毕业文化知识没学好，其它兴趣爱好也一无所成。当然，树立了远大理想，还应该有近期的奋斗目标，或者可以说，人有一生为之奋斗的理想，也应该有某一阶段，某一学期甚至于每一天的努力目标。只有这样，你才会永远有成功的喜悦，永远不会迷失方向。我希望在座的同学们，尽快确立人生的理想，制订近期的奋斗目标，并一步一个脚印地去为实现理想和目标而努力奋斗！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C48B-C521-43F6-BD69-B091742918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高二（23）班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怎样做一个合格的高二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其次，需要具备勤奋刻苦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一个老话题，但却是永恒的真理。勤奋刻苦不仅是一种工作、学习的态度，更是一种生活态度。不敢说它是走向成功的唯一道路，但可以说它是令人叹服的成功之路。 爱因斯坦说：“在天才和勤奋之间，我毫不迟疑地选择勤奋。她几乎是世上一切成就的催生婆。”鲁迅说：“哪里有天才，我是把别人喝咖啡的时间都用在工作上的。”大科学家大文豪尚且如此勤奋，何况我们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勤奋刻苦和所在年级没有关系，并不是说，高三同学才需要它，高一高二就不需要。因此我们不要等上了高三，再用功，因为，学习是一个不断积累的过程，积累越早，基础越扎实，假如高一高二时也像高三那样勤奋刻苦，未来就可以不那么被动了吗？ 是不是勤奋刻苦，只看自己，只看自己班级，只看自己学校还不够。既需要纵向比较，更需要横向比较，我们现在是在和全省几十万同学竞争，所以我们要常常想到这几十万同学中还有多少人比我们付出更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422-8285-49A6-934B-D295D07FFD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高二（23）班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怎样做一个合格的高二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三，希望同学们有一个好的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中学习是一个系统的过程，它不像初中的课程，可以凭借小聪明在考试前突击一下就把成绩提上去，对于难度更大、覆盖面更广的高中内容来说，预习、听课、复习、作业、笔记等等都是必不可少的环节。并不是每一个优生都是用挑灯夜读换来了，而是用了一些不起眼的时间在学习，也就是我们常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播种一个习惯，收获一个命运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57F-2590-42A2-9769-95353A6FEA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高二（23）班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高中生应该养成的几种学习习惯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28600" y="1444320"/>
            <a:ext cx="8763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认真预习习惯，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课间十分钟，把别人闲聊的时间利用起来，三五分钟的预习，可以扫除课堂学习的知识障碍，提高听课效果；还能够复习、巩固已学的知识，最重要的是能发展学生的自学能力，减少对老师的依赖，增强独立性；预习可以加强记课堂笔记的针对性，改变学习的被动局面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专心听课的习惯，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有相当多的学生认为，上课听不懂没有关系，反正有书，课下可以看书。抱有这种想法的学生，听课时往往不求甚解，或者稍遇听课障碍，就不想听了，结果浪费了上课的宝贵时间，增加了课下的学习负担，时间一久，就入不门了，这是很多学生转科的原因之一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及时复习的习惯，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及时复习的优点在于可加深和巩固对学习内容的理解，防止通常在学习后发生的急速遗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7B7-67D4-4D51-B852-8DCC82EFB34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高二（23）班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03:17Z</dcterms:modified>
  <cp:revision>72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