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gif" ContentType="image/gif"/>
  <Override PartName="/ppt/media/image9.png" ContentType="image/png"/>
  <Override PartName="/ppt/media/driveby.wav" ContentType="audio/x-wav"/>
  <Override PartName="/ppt/media/chimes.wav" ContentType="audio/x-wav"/>
  <Override PartName="/ppt/media/image14.gif" ContentType="image/gif"/>
  <Override PartName="/ppt/media/image13.jpeg" ContentType="image/jpeg"/>
  <Override PartName="/ppt/media/image4.png" ContentType="image/png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E4A-3729-4420-8C11-0D450114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86532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CE9-D2E5-4C8D-8661-92C5BFA7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8653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1680" y="38653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EC7A-9F3D-4DD4-A720-92600F45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400" y="16761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6920" y="16761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8653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400" y="38653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6920" y="38653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27C-DF17-4670-9676-6C1BD0DA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299A-4457-4AF1-B285-60DB512D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4896-B188-481A-AF91-1E1A35FE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AB2C-E591-479F-86A0-E806950A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0808-8661-4A48-A8B9-E0AE5CB4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7B55-99A4-4B47-980F-7456E763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1532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7E87-B0A5-4207-9680-B17979DA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8653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B2DD-0C19-4C15-A1BA-E0952A9A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621-5B19-4015-ABB4-38F164C1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11680" y="38653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064A-AAA5-45B1-B73C-E54A9AF1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86532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7C55-8007-4FFA-97AF-1D855123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520" y="386532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1FB1-5BF4-4220-8E3A-6FDBAE4F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8653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11680" y="38653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FC4C-BE13-40C8-ADF5-0D2A34AF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90400" y="16761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6920" y="16761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33520" y="38653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90400" y="38653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6920" y="38653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C704-2002-4319-ADD6-BBEA7CC6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BCFA-9758-462E-8A1D-8D16467B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857-9093-4FBD-9CFF-95CB2626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50D-21C8-4BDC-AA59-C1309020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1532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3B0-9752-484D-9364-17E96143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8653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C5C-51C1-4FF4-B95C-54334AF5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1680" y="38653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6F0-38DC-45DB-BB71-E47E8413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1680" y="16761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86532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FF0-03F7-4390-84C6-E5242314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299E-4F50-48A6-B31E-E19E2BAE83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914400" y="685800"/>
            <a:ext cx="7316640" cy="5487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567E-82BE-40DC-AE9F-1B03883153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主题班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☆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6600" spc="-1" strike="noStrike">
                <a:solidFill>
                  <a:srgbClr val="0000ff"/>
                </a:solidFill>
                <a:latin typeface="Times New Roman"/>
              </a:rPr>
              <a:t>对自己负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请自问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某同学是你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曾经有这样的行为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觉得这样的行为无所谓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觉得学校的各项规章制度是对你的桎梏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364500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aramond"/>
                <a:ea typeface="华文行楷"/>
              </a:rPr>
              <a:t>古语云：修身、齐家、治国、平天下。倘若连第一层的“修身”都做不好，能算高素质的人吗？这样所谓“不拘小节”的人，能有所作为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自律？他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从级里规定班规很长时间了我班迟到现象仍时有发生，地下扔东西的常常存在。。。。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从量化考核进行管理、竞争，自修纪律有所好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班虽然是文科班，女生多，可是教室卫生总不很理想，很少的流动红旗，虽然我班小伙子很帅，但是有的同学的个人卫生以及班级卫生比较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看来，卫生、纪律成了我们学习的障碍了，正在抢占我们高三的学习的主题，你们愿意我们天天都把时间和精力浪费到这上面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2440" y="406440"/>
            <a:ext cx="78818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或许有人这样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都长这么大了，有些东西不用那么细致认真了，有些地方放松一下也无伤大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学习好就行了，其他的方面不用太在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些规定反正我做不到，就算违反了又怎样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听听金石良言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美德是灵魂的一种健康、美貌和良好的习惯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古希腊 柏拉图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彬彬有礼的风度，主要是自我克制的表现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美国  爱默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学问而无道德，如一恶汉；有道德而无学问，如一鄙夫                            （美国  罗斯福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十全十美是上天的尺度，而要达到十全十美的这种愿望，则是人类的尺度               （德国 歌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但老师们想说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147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个好学生的评价标准是什么？只有好的成绩，没有高尚的人格，永远不是一个好学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行为的松散，是侵蚀良好学风的慢性毒药，其恶果最终必将在你最关注的学习上体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根据木桶效应：一个人的品格有多高，不是由你最优秀的方面来衡量，而是被你日常最忽略的缺陷所制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本事，学做人——就是先成人，再成才。不要越长大了，越写不好一个“人”字，学做人是终身的追求，必须由小事做起，从点滴做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8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与你共勉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放眼古今，凡造就大学问的人，无不具备高尚的人格和严谨的自我塑造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生活点滴影响学习习惯，影响为人处事的风格。千里之堤，溃于蚁穴，莫让小节的不在意，成为你走向成功的绊脚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厚德载物，作为省实的学生更应在做学问上，在做人上不断自我完善，精益求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486900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千教万教，教人求真；</a:t>
            </a:r>
            <a:br>
              <a:rPr sz="4800"/>
            </a:b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千学万学，学做真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NTH-Exam is coming so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间：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周 上半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科目：本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考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数 语 外 政  史 地  理  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合理安排时间进行全面细致的复习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下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人奋斗目标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全班每人都要比上次考试有进步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制定复习计划，严格执行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结束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学们：“梦在心中 路在脚下”一个似乎遥远却又很现实的话题，即使是渺渺宇宙中一颗最平凡、最黯淡的小星星，它们也期待有一天，大星星会注意到自己，会把自己的光芒照耀到它们的身上！更何况正处于“花季”的你们呢！ 有几点你们共勉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11080" y="964080"/>
            <a:ext cx="7648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我们不再为老师的一句批评而愁眉苦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也不在轻易为一点点成绩而欢天喜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以懂得“成熟”和“稳重”的含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aramond"/>
              </a:rPr>
              <a:t>以开始为青春的理想而努力！</a:t>
            </a: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14560" y="1056960"/>
            <a:ext cx="4978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我们正处在明媚的阳光季节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即使偶尔落下几颗酸酸涩涩的“太阳雨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也是美丽的。因为雨后会是更蔚蓝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天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更明媚的阳光，更清新的气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更绚丽的梦想！</a:t>
            </a:r>
            <a:r>
              <a:rPr b="0" lang="zh-CN" sz="3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3880" y="990720"/>
            <a:ext cx="723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00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日下午，二名同学在教室内发生了一起打架斗殴事件，事情的起因是因为两位同学因一件小事因而引起了一场“口枪舌战”，最终发展为“拳脚相加”，在全班和邻近班级都产生了很坏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那么同学之间应如何相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760" y="630360"/>
            <a:ext cx="855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3880" y="304920"/>
            <a:ext cx="446040" cy="388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52480" y="457200"/>
            <a:ext cx="6477120" cy="444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057400" y="6019920"/>
            <a:ext cx="624852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077560" y="1614600"/>
            <a:ext cx="49888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让我们携起手来，迎接希望的朝霞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让我们把握每一天，用勤劳和智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　　　　创造不平凡的人生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请让我们在今后的学习、生活中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　　　　为我们的梦想而努力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　　　因为我们相信明天会更好！</a:t>
            </a: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高一、四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  <a:ea typeface="幼圆"/>
              </a:rPr>
              <a:t>加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aramond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75320" y="1557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0000"/>
                </a:solidFill>
                <a:latin typeface="Garamond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43280" y="3500280"/>
            <a:ext cx="1866960" cy="25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8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创造辉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8600" y="16765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建议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同学之间应该学会宽容，我应将心胸放宽一些，不去理会那些闲言碎语，这样，就可以避免一场不应该发生的“悲剧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447920" y="228600"/>
            <a:ext cx="571500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6094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建议二：同学之间应该互敬互助。我认为前两位同学应学会互相尊重。要知道，被人侮辱的滋味不好受，也许，在你认为这是一句开玩笑的话，并无针对性，但是，它就像是一把利剑，在你不经意时，深深地刺伤了别人的心，那么，一场“战争”在所难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447920" y="228600"/>
            <a:ext cx="5715000" cy="380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6094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建议三：应该理智行事。其实，这次打架事件是可以完全避免的。假如当时二位同学理智一些，考虑一下后果，那大家就不会一发不可收拾。但是二位不理智打架，被愤怒冲昏了头，现在都知道错了，但既伤了同学们之间的感情又影响了班级的荣誉多不划算呀！做事要三思而后行呀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447920" y="228600"/>
            <a:ext cx="5715000" cy="380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" y="6094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建议四：两位同学为了达到某种目的而对对方进行了人身伤害。我们都是高中生了，足以分辨出什么是该做的，什么不该做，根本就可以理解对方的话，懂得冲动会带来不良的甚至严重的后果。试想如果每个人都能宽容和理解别人，这样的事还会发生吗？其实，每个人的心，都像一把上了的铁门，我们只有给予他们足够的理解，才能取得打开铁门的钥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447920" y="228600"/>
            <a:ext cx="5715000" cy="380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54480" y="6707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33336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总结：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总之：人海茫茫，我们能有幸成为这个大家庭中的一员，是大家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缘分。我们为什么不能和睦相处，而要针锋相对呢？多一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关爱，少一些争执；多一份宽容，少一些伤害。让不和谐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音符通通消失，让我们用缤纷的友谊奏出美妙的交响乐，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我们珍惜着缘分，愉快地度过这短暂的高三生涯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43000" y="533520"/>
            <a:ext cx="6781680" cy="484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6553080"/>
            <a:ext cx="7696080" cy="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千里之行，始于“做人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会做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你看过这样的现象吗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同学早读迟到不断，某同学把早餐带到课室，一边早读，一边吃早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同学在眼操时去上厕所或装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同学总因“恋床”而早读迟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同学仍然在自修期间玩手机，听耳机，说话，玩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同学习惯了在晚修问问题的时候顺便说几句多余的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同学总喜欢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在宿舍说话聊天，也不认真搞好宿舍的内务和卫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1:16:4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23:42Z</dcterms:modified>
  <cp:revision>20</cp:revision>
  <dc:subject>主题班会课件(分28大类): http://shop62905894.taobao.com</dc:subject>
  <dc:title>主题班会课件(分28大类): http://shop62905894.taobao.com</dc:title>
</cp:coreProperties>
</file>