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48B-F2B7-4531-A426-CE2B3BB6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87B-1CB6-4A25-96AE-94E29FD3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79D-C8C7-4847-B73D-F7AD91F1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A23-65DB-49E3-AD9B-13445179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C21-24D0-46B4-848E-B6164BBE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4CC-4D2A-4C47-A512-B7DBF2DF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D59-CA5D-42E0-BC9B-7F96799E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F8A-CDE7-4691-934E-EB78A7A9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D48-3A62-43DD-9662-E4223C50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E36-C938-421A-BFD2-E163D277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7B4-0C54-4463-A141-2FEDB02B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1CA-D5C9-4B5D-823A-FDF88502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980C-5C91-4FAA-8310-B136539D7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5334120"/>
            <a:ext cx="472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9112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彩云"/>
                <a:ea typeface="华文彩云"/>
              </a:rPr>
              <a:t>告别陋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</a:t>
            </a:r>
            <a:r>
              <a:rPr b="0" lang="zh-CN" sz="5400" spc="-1" strike="noStrike">
                <a:solidFill>
                  <a:srgbClr val="ffffff"/>
                </a:solidFill>
                <a:latin typeface="华文彩云"/>
                <a:ea typeface="华文彩云"/>
              </a:rPr>
              <a:t>走向文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４、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3240" y="3333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４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他人宿舍，非请莫进；他人财物，未准莫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0526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班的课室、宿舍、老师的办公室乃至器材仪器室、实验室等地，需进入时应先征得老师同意；当这些场所没有人时，非特殊批准，不要进入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这是对他人的尊重，也是一种自我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他人的财物、日记、作文等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应尊重他人的权益和隐私，不随意拿用，翻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31360" y="3860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５、走道楼梯，人来人往，你谦我让，主动留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9440" y="4508640"/>
            <a:ext cx="121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校道、走廊、楼梯是公共通道，要相互谦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留道给他人通过，不在这些通道上聚集、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闹，也不将自行车车停放在校道、走廊或运动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上，以免影响他人通行和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153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６、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24240" y="404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６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弱小贫困，帮扶资助；残疾病患，文明相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6040" y="1197000"/>
            <a:ext cx="105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对于有困难，需要帮助的同学、老师，应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予帮助，对于身体有缺陷、有疾病的同学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文明相待，给予关心，而不应讽刺、讥笑、捉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恶意模仿，做出不文明的举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66480" y="328464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７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桌面墙面，莫乱涂画；垃圾杂物，弃置有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4076640"/>
            <a:ext cx="487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桌面、墙面、黑板、衣服或学校、班、级的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贴物，各有各的用途，不应在上面乱涂乱画，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杂物，脏水污物应扔在垃圾筐、垃圾筒、垃圾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倒在剩饭菜筒里，而不应随意丢弃、将残羹剩饭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在饭桌上或倒在地上，污染校园环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８、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1400" y="26028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８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进出校门，主动下车，微笑致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31120" y="907920"/>
            <a:ext cx="51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进出校门、宿舍大门时，骑自行车的同学应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下车推行，并出示或在显眼位置佩带校牌。不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值日的同学、老师，还是生活导师、保安人员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点头微笑致意，主动接受检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66480" y="292428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９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上课考试，休息时间，尊重他人，保持安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350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上课考试时，不在校园内喧哗、吵闹，更不该在课室附近聚集、玩闹，或在正在上课、考试的课室门口、窗前向内观望、召唤、言谈吵闹，影响老师和同学的上课或考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午休、晚休，应按时就寝，不在宿舍和宿舍内玩耍、吵闹，或发出惊扰他人的声响。迟归的同学，应轻手轻脚，避免扰人清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１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26480" y="5493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０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升旗仪式，庄严肃穆，着装整齐，端正严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7680" y="1557360"/>
            <a:ext cx="159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参加升旗仪式，是爱国主义的一项重要体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仪式上，应统一穿着校服，态度要严谨，站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端正，安静，整齐，精神饱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用文明礼貌用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413000"/>
            <a:ext cx="54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初次见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客人到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好久不见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欢迎购物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求人解答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赞人见解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请人帮助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表示谦意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麻烦别人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与人分手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47240" y="1341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您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75600" y="17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欢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144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久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4976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欢迎光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144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95040" y="350028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高见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2536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多关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44440" y="44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对不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1280" y="4797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拜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530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再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用文明礼貌用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44360" y="2133720"/>
            <a:ext cx="21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表示答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21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谢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05680" y="27097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表示礼让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7772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您先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01720" y="33577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接受感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09920" y="328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这是我应该做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01720" y="400536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助人为乐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28280" y="393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我能帮您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81360" y="4726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征求意见时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360" y="472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指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77320" y="5518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表示慰问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4960" y="544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给您添麻烦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36080" y="148428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途先走时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760" y="14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失陪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告别陋习，走向文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024360" cy="2244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284200" cy="244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1730520" cy="223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651640" y="0"/>
            <a:ext cx="1911240" cy="2879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619280" y="2852640"/>
            <a:ext cx="5657760" cy="16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汉仪魏碑简"/>
              </a:rPr>
              <a:t>告别陋习，走向文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汉仪魏碑简"/>
              <a:ea typeface="汉仪魏碑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62072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陋习集中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1866960" cy="271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2880000" cy="211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2868480" cy="218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48360" y="3933720"/>
            <a:ext cx="1801800" cy="23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724280" y="914400"/>
            <a:ext cx="31687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陋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习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集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224820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219400" cy="1771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224784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867280" y="2637000"/>
            <a:ext cx="2233800" cy="194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867280" y="4724280"/>
            <a:ext cx="2219400" cy="1729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55640" y="4724280"/>
            <a:ext cx="23763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令人深恶痛绝的生活陋习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7400" y="1125360"/>
            <a:ext cx="21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乱抛垃圾倒污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6240" y="1916280"/>
            <a:ext cx="487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有的人将生活垃圾和污水不按照规定的地点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进行处理，随便乱扔乱倒；有的人从自家的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或窗户直接将垃圾抛到楼下；有的人从汽车内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皮、纸屑、烟头等扔到车外；还有的人外出游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用过的东西随手乱扔。这些现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增加了环卫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人的劳动量，给路人带来了危险，同时也会破坏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围的环境，对河流、土壤等都造成严重污染；长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堆积的垃圾和存留的污水还会腐烂变臭，使其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致病菌孳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令人深恶痛绝的生活陋习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38400" y="1197000"/>
            <a:ext cx="21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随地吐痰擤鼻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17240" y="1916280"/>
            <a:ext cx="4874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生活中经常可以看到一些人走在大街上或在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里，一声咳嗽后一口浓痰飞射而出，随后用鞋一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事；一些人在公共场所毫无顾忌地用手指挖鼻孔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擤鼻涕，甚至将污物到处乱抹，用刚挖过鼻孔的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他人接触或直接拿东西。痰和鼻涕是呼吸道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泌物，研究表明，一口痰中会“驻扎”着成千上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菌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患传染性非典型肺炎、肺结核、流行性感冒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霍乱、麻疹等疾病的患者，其痰中的致病微生物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发到空气中，可使健康人通过呼吸这些带有病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空气而受到传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令人深恶痛绝的生活陋习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18880" y="2133720"/>
            <a:ext cx="506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常生活中，有些人吃东西和饮水前后、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后、接触不洁物品、打扫卫生、接触钱币、户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动、购物后不爱洗手。尽管“饭前便后要洗手”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从口入”的道理人人皆知，但并不是每个人都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真遵守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洗手是预防呼吸道传染病和食源性传染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的重要措施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同时，不勤洗澡和不常换衣，也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引起皮肤的炎症，降低机体的抵抗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15440" y="126828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饭前便后懒洗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令人深恶痛绝的生活陋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79920" y="1289160"/>
            <a:ext cx="7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大声喧哗、干扰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34936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许多人在公共汽车、火车、飞机以及车站、机场、医院、餐厅等公共场所，高谈阔论、口若悬河，或者大声叫喊他人，与他人争论，根本无视他人的反应。这些行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严重地破坏了他人和谐的工作和生活环境，是一种不尊重他人和不礼貌的行为，也是个人素质修养不高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9960" y="5493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言语要文明，见面问声好。友善共相处热情礼相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68480" y="1628640"/>
            <a:ext cx="5171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“请”、“你好”、“对不起”、“谢谢”等文明用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应常挂嘴边，不说污言秽语，不给别人起不文明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绰号。文明礼貌的言语往往能拉近人与人的距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缓和矛盾，增进团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走在楼梯、校道上，遇到自己的同学、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等都应主动问声好，让一声问候温暖彼此的心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对同学、老师、父母、亲人态度要友善、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诚、守时守信，不弄虚作假；对来宾、客人热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相待，回答询问大方得体、知无不言、不卑不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２、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81720" y="476280"/>
            <a:ext cx="6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衣着应端庄，仪态要规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1520" y="1341360"/>
            <a:ext cx="487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作为学生，应该有学生的衣着、仪表。不穿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装异服，不袒露躯体，束好皮带，不穿拖鞋，不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首饰，不化妆，不纹身，不剃光头或留古怪发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男同学不留长发，女同学不披头散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89680" y="364500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领物取物，主动排队，相互礼让，井然有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6520" y="4724280"/>
            <a:ext cx="494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领取物品，饭堂打饭，水房打水，应主动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队，不插队，不推撞，不起哄，相互礼让，井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有序才能提高效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0:00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00:30Z</dcterms:modified>
  <cp:revision>17</cp:revision>
  <dc:subject>主题班会课件(分28大类): http://shop62905894.taobao.com</dc:subject>
  <dc:title>主题班会课件(分28大类): http://shop62905894.taobao.com</dc:title>
</cp:coreProperties>
</file>