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80B-A86B-4479-9F2D-5DDC4609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E61-EB04-4C35-BF20-8E50FC2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E43-1371-49E1-BDFE-CDD23111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063-942C-4D73-9CF6-7C21FEA5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5C4-28AB-495C-982B-94071F7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B7A-8676-4103-B2C1-11D6BFF6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F7E-D8FD-40E7-8057-54D41FE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CDF4-BE9D-4D3D-9F51-63B0E65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895-0BF5-4599-9EEE-08990EB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C2B-F981-48A9-9140-C0CD32B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A4A-8A8A-4712-802F-8336D467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334-A106-40C2-8A9E-AECC0C0A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AF9-72BC-42D2-BB56-A57F5B00C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5342"/>
                </a:solidFill>
                <a:latin typeface="Arial"/>
              </a:rPr>
              <a:t>八</a:t>
            </a:r>
            <a:r>
              <a:rPr b="1" lang="zh-CN" sz="3200" spc="-1" strike="noStrike">
                <a:solidFill>
                  <a:srgbClr val="f8534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85342"/>
                </a:solidFill>
                <a:latin typeface="Arial"/>
              </a:rPr>
              <a:t>班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238400"/>
            <a:ext cx="424980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我与班规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0" y="260280"/>
            <a:ext cx="669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没有规矩，不成方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中国入世首席谈判代表龙永图曾经讲过这么一件事：“我有个中国同事在联合国任职，他的孩子从小在瑞士长大。有一次大家在日内瓦湖上划船，我们代表团有个成员喝完可乐以后，顺手就把可乐瓶扔到湖里了，这在国内司空见惯。可是这个在瑞士长大的小孩当时脸色都白了，告诉了他的母亲，好像扔可乐瓶的人犯了很大的罪恶似的。”</a:t>
            </a:r>
            <a:r>
              <a:rPr b="1" lang="zh-CN" sz="2800" spc="-1" strike="noStrike">
                <a:solidFill>
                  <a:srgbClr val="5babd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9848000">
            <a:off x="0" y="1844280"/>
            <a:ext cx="32828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你们知道吗？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babd3"/>
                </a:solidFill>
                <a:latin typeface="Arial"/>
                <a:ea typeface="楷体_GB2312"/>
              </a:rPr>
              <a:t>班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不乱让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上课遵守纪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a8e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不讲脏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a8ec4"/>
                </a:solidFill>
                <a:latin typeface="Arial"/>
                <a:ea typeface="楷体_GB2312"/>
              </a:rPr>
              <a:t>等等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52720" y="1432080"/>
            <a:ext cx="9396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abd3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5babd3"/>
                </a:solidFill>
                <a:latin typeface="Arial"/>
                <a:ea typeface="楷体_GB2312"/>
              </a:rPr>
              <a:t>你觉得我们的班规还有什么要改善的地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559200">
            <a:off x="1332000" y="3068640"/>
            <a:ext cx="421956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议一议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184800">
            <a:off x="1474560" y="2276640"/>
            <a:ext cx="61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有请班主任讲话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5080" y="1844640"/>
            <a:ext cx="273384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Bye-By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7T03:46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3:05Z</dcterms:modified>
  <cp:revision>4</cp:revision>
  <dc:subject>主题班会课件(分28大类): http://shop62905894.taobao.com</dc:subject>
  <dc:title>主题班会课件(分28大类): http://shop62905894.taobao.com</dc:title>
</cp:coreProperties>
</file>