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png" ContentType="image/png"/>
  <Override PartName="/ppt/media/image13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E62-1D25-4B02-92AF-1AFDECAA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991-58F4-460F-8833-729EEB70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D53-4C9B-4C48-9E37-84BC53D3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4FC-56EB-40FF-A086-BEE1A7B2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A3D-346B-494A-A197-EDF35165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FCD-64AF-44D2-9910-895E23A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6F4-7549-4933-8D20-F449932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CBE-4F3F-45DB-BE68-9F1188D2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FD8-6E4B-4885-B8E6-35E4AC2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4E2-D50B-4A2D-9559-21E8FF3D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BCE-89B7-4C0F-B274-0234045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F1B-ED8F-4C54-B93B-19976919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8D4-A0B4-45D6-8663-8F82F3A24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" Target="slide3.xm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20960" y="1752480"/>
            <a:ext cx="516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千里之行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始于规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7640" y="53989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八（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）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3160" y="11764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二、自由发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89548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举例说明或者以表演的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表现出良好的行为及不好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05720" y="11890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三、讨论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1360" y="205740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请小组讨论，并举例说明，良好的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为对我们的学习生活的影响以及不良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行为习惯对我们的学习生活的影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84840" y="1568520"/>
            <a:ext cx="1631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《我为规范开药方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69880" cy="1417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87800" y="125244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歌曲欣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9080" y="2743200"/>
            <a:ext cx="333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&lt;&lt;</a:t>
            </a: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真我英雄</a:t>
            </a: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&gt;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820520" cy="8229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42760" y="2520360"/>
            <a:ext cx="1521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《 我们从小讲规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  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快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17720" y="1600200"/>
            <a:ext cx="359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说千条，道万条，讲规范是第一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千件宝，万件宝，不如规范价更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是颗水晶石，遵守规范心灵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是盏红绿灯，人生道路它引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中学生们守规范，思想品德往上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成年人们守规范，世界变得更美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从我来做起，小事体现新风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我们从小讲规范，精心培育规范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明日长成参天树，规范花香四季飘。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335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倡导规范、告别陋习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人人争做规范中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一、倡导文明礼貌用语，反对讲粗话、脏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二、倡导讲卫生，按时做值日，反对偷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三、倡导文明休息，反对追逐打闹、无故喧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四、倡导注重个人仪表，男生不留长发，女生不穿高跟鞋，             不佩带首饰，反对奇装异服，衣冠不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五、倡导上课专心听讲，积极参与，按时完成作业，反对拖        欠抄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六、倡导养成良好卫生习惯，反对随地吐痰，乱扔废弃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七、倡导爱校护校，维护学校声誉，反对歪曲学校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八、倡导同学间友好相处，互相帮助，反对破坏团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20960" y="1752480"/>
            <a:ext cx="516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千里之行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始于规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3200400" y="-304920"/>
            <a:ext cx="11925360" cy="3809880"/>
            <a:chOff x="-3200400" y="-304920"/>
            <a:chExt cx="11925360" cy="3809880"/>
          </a:xfrm>
        </p:grpSpPr>
        <p:sp>
          <p:nvSpPr>
            <p:cNvPr id="45" name=""/>
            <p:cNvSpPr/>
            <p:nvPr/>
          </p:nvSpPr>
          <p:spPr>
            <a:xfrm>
              <a:off x="-3200400" y="38088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2387520" y="-30492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9760" y="121896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773720" y="233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方正舒体"/>
              </a:rPr>
              <a:t>我选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62520" y="12193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58000" y="35812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133720" y="3429000"/>
            <a:ext cx="190476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19720" y="3581280"/>
            <a:ext cx="2057400" cy="242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6705720" y="1219320"/>
            <a:ext cx="1981080" cy="163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02760" y="954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一、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4240" y="28954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行为规范共分哪五大部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36400" y="364968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一、自尊自爱，注重仪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二、诚实守信，礼貌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三、遵规守纪，勤奋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四、勤劳俭朴，孝敬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五、严于律己，遵守公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10108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6560" y="274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上下课时同学们应如何做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4840" y="37339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上、下课起立向老师致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下课时，请老师先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76320" y="2590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交通方面应注意哪些事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6560" y="35812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遵守交通法规，不闯红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违章骑车，过马路走人行横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跨越隔离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14400" y="2560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校的校风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34686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崇德健康，立志博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89200" y="248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上课迟到了，该怎么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24560" y="32004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教室门口立正喊“报告”，经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同意后，再进入教室，动作要轻、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90720" y="2560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请说出五种文明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2040" y="35812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请，谢谢，对不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没关系，再见。。。。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1440" y="25909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降国旗时，奏唱国歌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们应该怎样，老师应该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24120" y="380988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老师肃立，脱帽、行注目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少先队员行队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5815080"/>
            <a:ext cx="1195560" cy="1042920"/>
          </a:xfrm>
          <a:custGeom>
            <a:avLst/>
            <a:gdLst>
              <a:gd name="textAreaLeft" fmla="*/ 67320 w 1195560"/>
              <a:gd name="textAreaRight" fmla="*/ 1128240 w 11955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4760" h="21600">
                <a:moveTo>
                  <a:pt x="0" y="0"/>
                </a:moveTo>
                <a:lnTo>
                  <a:pt x="24760" y="0"/>
                </a:lnTo>
                <a:lnTo>
                  <a:pt x="24760" y="21600"/>
                </a:lnTo>
                <a:lnTo>
                  <a:pt x="0" y="21600"/>
                </a:lnTo>
                <a:close/>
              </a:path>
              <a:path fill="lightenLess" w="24760" h="21600">
                <a:moveTo>
                  <a:pt x="0" y="0"/>
                </a:moveTo>
                <a:lnTo>
                  <a:pt x="24760" y="0"/>
                </a:lnTo>
                <a:lnTo>
                  <a:pt x="23360" y="1400"/>
                </a:lnTo>
                <a:lnTo>
                  <a:pt x="1400" y="1400"/>
                </a:lnTo>
                <a:close/>
              </a:path>
              <a:path fill="darken" w="24760" h="21600">
                <a:moveTo>
                  <a:pt x="24760" y="0"/>
                </a:moveTo>
                <a:lnTo>
                  <a:pt x="24760" y="21600"/>
                </a:lnTo>
                <a:lnTo>
                  <a:pt x="23360" y="20200"/>
                </a:lnTo>
                <a:lnTo>
                  <a:pt x="23360" y="1400"/>
                </a:lnTo>
                <a:close/>
              </a:path>
              <a:path fill="darkenLess" w="24760" h="21600">
                <a:moveTo>
                  <a:pt x="2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0" y="20200"/>
                </a:lnTo>
                <a:close/>
              </a:path>
              <a:path fill="lighten" w="2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60" h="21600">
                <a:moveTo>
                  <a:pt x="5374" y="10800"/>
                </a:moveTo>
                <a:lnTo>
                  <a:pt x="19387" y="3794"/>
                </a:lnTo>
                <a:lnTo>
                  <a:pt x="193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4:18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2:55Z</dcterms:modified>
  <cp:revision>17</cp:revision>
  <dc:subject>主题班会课件(分28大类): http://shop62905894.taobao.com</dc:subject>
  <dc:title>主题班会课件(分28大类): http://shop62905894.taobao.com</dc:title>
</cp:coreProperties>
</file>