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27.gif" ContentType="image/gif"/>
  <Override PartName="/ppt/media/image29.jpeg" ContentType="image/jpeg"/>
  <Override PartName="/ppt/media/image28.png" ContentType="image/png"/>
  <Override PartName="/ppt/media/image25.gif" ContentType="image/gif"/>
  <Override PartName="/ppt/media/image5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0.jpeg" ContentType="image/jpeg"/>
  <Override PartName="/ppt/media/image31.png" ContentType="image/png"/>
  <Override PartName="/ppt/media/image6.gif" ContentType="image/gif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png" ContentType="image/png"/>
  <Override PartName="/ppt/media/image2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B1C-8E0A-4755-AE58-B9E62021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948-9BA0-48B4-8C92-1427B169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42DE-89E7-4C94-B244-F1324A36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F01-5759-4737-8B75-6481C703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459-4F13-49B8-B03B-52EFF7DD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437-FA9E-4DAA-A44B-A6ED6926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A2E-2518-46F3-B986-F0F6D9E0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C02-19F9-43A4-9193-595FB9B5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ECEB-3C14-40FE-B2B6-1550800F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4C5-03C6-40E9-928F-D2A7C349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404-A5BC-4704-A838-70C4E12C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177-8F25-41A9-8D32-ABFE58B7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66B8-04BD-44E4-B785-770FF72889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5.png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6.gif"/><Relationship Id="rId27" Type="http://schemas.openxmlformats.org/officeDocument/2006/relationships/image" Target="../media/image6.gif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84560" y="4299120"/>
            <a:ext cx="397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66880" y="3168720"/>
            <a:ext cx="7362720" cy="12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做有责任的人</a:t>
            </a:r>
            <a:endParaRPr b="1" lang="en-US" sz="96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1066680" y="609480"/>
            <a:ext cx="7696080" cy="5771880"/>
            <a:chOff x="1066680" y="609480"/>
            <a:chExt cx="7696080" cy="577188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1066680" y="609480"/>
              <a:ext cx="7696080" cy="57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666880" y="609480"/>
              <a:ext cx="4267080" cy="6426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她需要你的呵护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066680" y="609480"/>
            <a:ext cx="7696080" cy="5771880"/>
            <a:chOff x="1066680" y="609480"/>
            <a:chExt cx="7696080" cy="577188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1066680" y="609480"/>
              <a:ext cx="7696080" cy="57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971440" y="609480"/>
              <a:ext cx="3429000" cy="6426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需要你的付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066680" y="609480"/>
            <a:ext cx="7696080" cy="5771880"/>
            <a:chOff x="1066680" y="609480"/>
            <a:chExt cx="7696080" cy="5771880"/>
          </a:xfrm>
        </p:grpSpPr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1066680" y="609480"/>
              <a:ext cx="7696080" cy="57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276360" y="609480"/>
              <a:ext cx="4495680" cy="6426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需要优秀的成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066680" y="609480"/>
            <a:ext cx="7696080" cy="5771880"/>
            <a:chOff x="1066680" y="609480"/>
            <a:chExt cx="7696080" cy="5771880"/>
          </a:xfrm>
        </p:grpSpPr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1066680" y="609480"/>
              <a:ext cx="7696080" cy="57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728840" y="761760"/>
              <a:ext cx="729000" cy="541008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需要你有爱心、有责任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7696080" y="6477120"/>
            <a:ext cx="838440" cy="152280"/>
          </a:xfrm>
          <a:prstGeom prst="leftArrow">
            <a:avLst>
              <a:gd name="adj1" fmla="val 50000"/>
              <a:gd name="adj2" fmla="val 13764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90720" y="16002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Times New Roman"/>
                <a:ea typeface="华文细黑"/>
              </a:rPr>
              <a:t>只要人人都献出一份责任，我们班将变得更美好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 flipH="1">
            <a:off x="1066320" y="0"/>
            <a:ext cx="3962520" cy="1336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23888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943600" y="3249720"/>
            <a:ext cx="2743200" cy="1245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4572000" y="5562720"/>
            <a:ext cx="1371600" cy="1234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2819520" y="609480"/>
            <a:ext cx="3535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57240">
                  <a:solidFill>
                    <a:srgbClr val="ff0000"/>
                  </a:solidFill>
                  <a:miter/>
                </a:ln>
                <a:solidFill>
                  <a:srgbClr val="ffccff"/>
                </a:solidFill>
                <a:latin typeface="宋体"/>
              </a:rPr>
              <a:t>对 社 会 负 责</a:t>
            </a:r>
            <a:endParaRPr b="1" lang="en-US" sz="1800" spc="1" strike="noStrike">
              <a:ln w="57240">
                <a:solidFill>
                  <a:srgbClr val="ff0000"/>
                </a:solidFill>
                <a:miter/>
              </a:ln>
              <a:solidFill>
                <a:srgbClr val="ffccff"/>
              </a:solidFill>
              <a:latin typeface="宋体"/>
              <a:ea typeface="宋体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60020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一天，兼讲修身课的魏校长问学生为什么而读书，一位同学回答了：“为光耀门楣而读书。”另一位回答：“为明礼而读书。”当问到周恩来时，周恩来庄重的回答：“为中华之崛起！”校长为之一震，同学们投去惊异和钦佩的目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685800"/>
            <a:ext cx="35053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向榜样学习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16668" t="0" r="30002" b="0"/>
          <a:stretch/>
        </p:blipFill>
        <p:spPr>
          <a:xfrm>
            <a:off x="5029200" y="1676520"/>
            <a:ext cx="359712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338040"/>
            <a:ext cx="9144000" cy="63590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责      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责任是你犹豫时的勇气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责任是你成长中的课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责任很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但要从身边小事做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责任很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但要从自己做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责任是你认真的态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责任是你实干的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9144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52280" y="4521240"/>
            <a:ext cx="762012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让别人因我的存在而感到幸福！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</a:rPr>
              <a:t>对自己负责</a:t>
            </a:r>
            <a:br>
              <a:rPr sz="4000"/>
            </a:b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——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中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学</a:t>
            </a:r>
            <a:r>
              <a:rPr b="1" lang="zh-TW" sz="4000" spc="-1" strike="noStrike">
                <a:solidFill>
                  <a:srgbClr val="0066ff"/>
                </a:solidFill>
                <a:latin typeface="Arial"/>
              </a:rPr>
              <a:t>生的責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（一）努力学习是我的责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态度端正、习惯良好、方法得当、坚持不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2743200"/>
            <a:ext cx="76960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（二）做文明少年是我的责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PMingLiU"/>
              </a:rPr>
              <a:t>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PMingLiU"/>
              </a:rPr>
              <a:t>礼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PMingLiU"/>
              </a:rPr>
              <a:t>待人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PMingLiU"/>
              </a:rPr>
              <a:t>尊重他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40200" y="3886200"/>
            <a:ext cx="4082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（三）维护班级环境是我的责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PMingLiU"/>
              </a:rPr>
              <a:t>要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PMingLiU"/>
              </a:rPr>
              <a:t>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PMingLiU"/>
              </a:rPr>
              <a:t>不怕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PMingLiU"/>
              </a:rPr>
              <a:t>亏”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PMingLiU"/>
              </a:rPr>
              <a:t>的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4952880"/>
            <a:ext cx="7089840" cy="33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（四）自觉遵守纪律是我的责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PMingLiU"/>
              </a:rPr>
              <a:t>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PMingLiU"/>
              </a:rPr>
              <a:t>众场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PMingLiU"/>
              </a:rPr>
              <a:t>合表現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PMingLiU"/>
              </a:rPr>
              <a:t>体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PMingLiU"/>
              </a:rPr>
              <a:t>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PMingLiU"/>
              </a:rPr>
              <a:t>顾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PMingLiU"/>
              </a:rPr>
              <a:t>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要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勇于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担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的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积极参与学校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1809720"/>
            <a:ext cx="7837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通过今天的班会，我希望大家对于“责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重于泰山”这句话能有更深刻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是的，责任的分量是沉甸甸的 。他不仅体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在重大的事件上，更体现在日常生活的点滴小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上。拥有一份责任心，再大的困难也能克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没有这一份责任心，即使再小的事情也不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做好。让我们心中时刻 装着“责任重于泰山”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句话，从小事做起，从小培养自己的责任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使自己成为一个敢于负责的人。这样 ，你一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会拥有一个更加美好的未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457200"/>
            <a:ext cx="1123920" cy="9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乔治做了一辈子的木匠工作，并且以其敬业和勤奋而深得老板的信任。年老力衰，乔治对老板说，自己想退休回家与妻子儿女享受天伦之乐。老板十分舍不得他，再三挽留，但是他去意已决，不为所动。老板只好答应他的请辞，但希望他能再帮助自己盖一座房子。乔治自然无法推辞。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乔治已归心似箭，心思全不在工作上了。用料也不那么严格，做出的活也全无往日的水准。老板看在眼里，但却什么也没说。等到房子盖好后，老板将钥匙交给了乔治。 “这是你的房子，”老板说，“我送给你的礼物。”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老木匠愣住了，悔恨和羞愧溢于言表。他这一生盖了那么多华亭豪宅，最后却为自己建了这样一座粗制滥造的房子。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65760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样一个人，可以盖出华亭好宅，也可以建造出粗制滥造的房子，不是因为技艺减退，而仅仅是失去了责任感。如果一个人希望自己一直有杰出的表现，就必须在心中种下责任的种子，让责任感成为鞭策、激励、监督自己的力量，使自己在工作上没有丝毫的懈怠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——一个人的学识、能力、才华确实很重要，但责任感、责任意识、责任心更重要。责任感是一个人精神境界的反映。有责任感的人，对什么事情不会袖手旁观，而是负重前行，敢与说真话，关键时刻要敢表态。虽然我们都不是法官，但是我们每个人都有最基本的道德观，是非分明，对就是对，错就是错，一清二白。紧要关头，危急时刻，要敢于负起自己的责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1754280"/>
            <a:ext cx="779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责任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”这个词在字典中的 解释是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内应做的事。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在生活中，每个人都有自己分内应该做的事。如：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教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责任是教书育人，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医生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责任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是救死扶伤，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父母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责任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是抚养子女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那么，作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生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，我们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责任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又是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3440" y="457200"/>
            <a:ext cx="6477120" cy="1447920"/>
          </a:xfrm>
          <a:prstGeom prst="horizontalScroll">
            <a:avLst>
              <a:gd name="adj" fmla="val 12500"/>
            </a:avLst>
          </a:prstGeom>
          <a:solidFill>
            <a:srgbClr val="333399">
              <a:alpha val="50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660033"/>
                </a:solidFill>
                <a:latin typeface="Times New Roman"/>
                <a:ea typeface="华文琥珀"/>
              </a:rPr>
              <a:t>责任与我们同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1828800"/>
            <a:ext cx="7617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2362320"/>
            <a:ext cx="5029200" cy="7171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99ff"/>
                </a:solidFill>
                <a:latin typeface="Times New Roman"/>
                <a:ea typeface="隶书"/>
              </a:rPr>
              <a:t>           </a:t>
            </a:r>
            <a:r>
              <a:rPr b="1" i="1" lang="zh-CN" sz="3600" spc="-1" strike="noStrike">
                <a:solidFill>
                  <a:srgbClr val="3399ff"/>
                </a:solidFill>
                <a:latin typeface="Times New Roman"/>
                <a:ea typeface="隶书"/>
              </a:rPr>
              <a:t>对家庭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1" action="ppaction://hlinksldjump"/>
              </a:rPr>
              <a:t>负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3048120"/>
            <a:ext cx="7617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3809880"/>
            <a:ext cx="5105160" cy="7171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99ff"/>
                </a:solidFill>
                <a:latin typeface="Times New Roman"/>
                <a:ea typeface="隶书"/>
              </a:rPr>
              <a:t>         </a:t>
            </a:r>
            <a:r>
              <a:rPr b="1" i="1" lang="zh-CN" sz="3600" spc="-1" strike="noStrike">
                <a:solidFill>
                  <a:srgbClr val="3399ff"/>
                </a:solidFill>
                <a:latin typeface="Times New Roman"/>
                <a:ea typeface="隶书"/>
              </a:rPr>
              <a:t>对集体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负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4343400"/>
            <a:ext cx="7617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5029200"/>
            <a:ext cx="5105520" cy="7171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99ff"/>
                </a:solidFill>
                <a:latin typeface="Times New Roman"/>
                <a:ea typeface="隶书"/>
              </a:rPr>
              <a:t>           </a:t>
            </a:r>
            <a:r>
              <a:rPr b="1" i="1" lang="zh-CN" sz="3600" spc="-1" strike="noStrike">
                <a:solidFill>
                  <a:srgbClr val="3399ff"/>
                </a:solidFill>
                <a:latin typeface="Times New Roman"/>
                <a:ea typeface="隶书"/>
              </a:rPr>
              <a:t>对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3" action="ppaction://hlinksldjump"/>
              </a:rPr>
              <a:t>社会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4" action="ppaction://hlinksldjump"/>
              </a:rPr>
              <a:t>负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8686800" cy="3048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05120" y="1523880"/>
            <a:ext cx="4952880" cy="119124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对家庭负责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930320"/>
            <a:ext cx="9144000" cy="4927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676520" y="1066680"/>
            <a:ext cx="5562360" cy="190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572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对集体负责</a:t>
            </a:r>
            <a:endParaRPr b="0" lang="en-US" sz="1800" spc="1" strike="noStrike">
              <a:ln w="5724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14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105520" y="5334120"/>
            <a:ext cx="549000" cy="457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162920" y="4038480"/>
            <a:ext cx="54900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733920" y="5029200"/>
            <a:ext cx="54900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819520" y="5029200"/>
            <a:ext cx="549000" cy="549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352680" y="541008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4038480" y="525780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5715000" y="518148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6781680" y="5105520"/>
            <a:ext cx="549360" cy="549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3581280" y="457200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1"/>
          <a:stretch/>
        </p:blipFill>
        <p:spPr>
          <a:xfrm>
            <a:off x="3733920" y="472428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2"/>
          <a:stretch/>
        </p:blipFill>
        <p:spPr>
          <a:xfrm>
            <a:off x="3886200" y="48769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3"/>
          <a:stretch/>
        </p:blipFill>
        <p:spPr>
          <a:xfrm>
            <a:off x="2666880" y="46483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4"/>
          <a:stretch/>
        </p:blipFill>
        <p:spPr>
          <a:xfrm>
            <a:off x="3200400" y="502920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5"/>
          <a:stretch/>
        </p:blipFill>
        <p:spPr>
          <a:xfrm>
            <a:off x="7010280" y="358128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6"/>
          <a:stretch/>
        </p:blipFill>
        <p:spPr>
          <a:xfrm>
            <a:off x="4876920" y="495288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7"/>
          <a:stretch/>
        </p:blipFill>
        <p:spPr>
          <a:xfrm>
            <a:off x="6629400" y="480060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8"/>
          <a:stretch/>
        </p:blipFill>
        <p:spPr>
          <a:xfrm>
            <a:off x="5562720" y="472428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9"/>
          <a:stretch/>
        </p:blipFill>
        <p:spPr>
          <a:xfrm>
            <a:off x="7353360" y="476244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0"/>
          <a:stretch/>
        </p:blipFill>
        <p:spPr>
          <a:xfrm>
            <a:off x="3048120" y="48769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1"/>
          <a:stretch/>
        </p:blipFill>
        <p:spPr>
          <a:xfrm>
            <a:off x="7543800" y="5181480"/>
            <a:ext cx="549360" cy="609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2"/>
          <a:stretch/>
        </p:blipFill>
        <p:spPr>
          <a:xfrm>
            <a:off x="5867280" y="5334120"/>
            <a:ext cx="549360" cy="549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3"/>
          <a:stretch/>
        </p:blipFill>
        <p:spPr>
          <a:xfrm>
            <a:off x="6172200" y="518148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4"/>
          <a:stretch/>
        </p:blipFill>
        <p:spPr>
          <a:xfrm>
            <a:off x="6172200" y="502920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5"/>
          <a:stretch/>
        </p:blipFill>
        <p:spPr>
          <a:xfrm>
            <a:off x="4495680" y="518148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6"/>
          <a:stretch/>
        </p:blipFill>
        <p:spPr>
          <a:xfrm>
            <a:off x="6019920" y="45720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7"/>
          <a:stretch/>
        </p:blipFill>
        <p:spPr>
          <a:xfrm>
            <a:off x="4343400" y="480060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8"/>
          <a:stretch/>
        </p:blipFill>
        <p:spPr>
          <a:xfrm>
            <a:off x="152280" y="380880"/>
            <a:ext cx="400320" cy="6080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9"/>
          <a:stretch/>
        </p:blipFill>
        <p:spPr>
          <a:xfrm>
            <a:off x="8744040" y="380880"/>
            <a:ext cx="399960" cy="6080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800" y="914400"/>
            <a:ext cx="76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一个人若没有热情，他将一事无成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；</a:t>
            </a:r>
            <a:r>
              <a:rPr b="1" i="1" lang="zh-CN" sz="4800" spc="-1" strike="noStrike">
                <a:solidFill>
                  <a:srgbClr val="ff0066"/>
                </a:solidFill>
                <a:latin typeface="华文隶书"/>
                <a:ea typeface="华文隶书"/>
              </a:rPr>
              <a:t>而热情的基点正是责任心</a:t>
            </a:r>
            <a:r>
              <a:rPr b="1" lang="zh-CN" sz="4800" spc="-1" strike="noStrike">
                <a:solidFill>
                  <a:srgbClr val="ff0066"/>
                </a:solidFill>
                <a:latin typeface="华文隶书"/>
                <a:ea typeface="华文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03480" y="3733920"/>
            <a:ext cx="420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华文隶书"/>
                <a:ea typeface="华文隶书"/>
              </a:rPr>
              <a:t>——</a:t>
            </a:r>
            <a:r>
              <a:rPr b="1" lang="zh-CN" sz="4800" spc="-1" strike="noStrike">
                <a:solidFill>
                  <a:srgbClr val="cc00ff"/>
                </a:solidFill>
                <a:latin typeface="华文隶书"/>
                <a:ea typeface="华文隶书"/>
              </a:rPr>
              <a:t>列夫</a:t>
            </a:r>
            <a:r>
              <a:rPr b="1" lang="zh-CN" sz="4800" spc="-1" strike="noStrike">
                <a:solidFill>
                  <a:srgbClr val="cc00ff"/>
                </a:solidFill>
                <a:latin typeface="华文隶书"/>
                <a:ea typeface="华文隶书"/>
              </a:rPr>
              <a:t>·</a:t>
            </a:r>
            <a:r>
              <a:rPr b="1" lang="zh-CN" sz="4800" spc="-1" strike="noStrike">
                <a:solidFill>
                  <a:srgbClr val="cc00ff"/>
                </a:solidFill>
                <a:latin typeface="华文隶书"/>
                <a:ea typeface="华文隶书"/>
              </a:rPr>
              <a:t>托尔斯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990720" y="533520"/>
            <a:ext cx="7315200" cy="5486400"/>
            <a:chOff x="990720" y="533520"/>
            <a:chExt cx="7315200" cy="548640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990720" y="533520"/>
              <a:ext cx="73152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676520" y="762120"/>
              <a:ext cx="5029200" cy="6426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有时也许你毫不在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990720" y="762120"/>
            <a:ext cx="7315200" cy="5486400"/>
            <a:chOff x="990720" y="762120"/>
            <a:chExt cx="7315200" cy="548640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990720" y="762120"/>
              <a:ext cx="73152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752840" y="838440"/>
              <a:ext cx="6095880" cy="6426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也许你想，别人会来处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14400" y="533520"/>
            <a:ext cx="7391160" cy="5714640"/>
            <a:chOff x="914400" y="533520"/>
            <a:chExt cx="7391160" cy="571464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914400" y="533520"/>
              <a:ext cx="7391160" cy="57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531160" y="612720"/>
              <a:ext cx="4080600" cy="6426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也许你视而不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914400" y="380880"/>
            <a:ext cx="7391160" cy="5867280"/>
            <a:chOff x="914400" y="380880"/>
            <a:chExt cx="7391160" cy="5867280"/>
          </a:xfrm>
        </p:grpSpPr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914400" y="380880"/>
              <a:ext cx="739116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2531160" y="625320"/>
              <a:ext cx="4850640" cy="6426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也许你觉得事不关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066680" y="380880"/>
            <a:ext cx="7315200" cy="5486400"/>
            <a:chOff x="1066680" y="380880"/>
            <a:chExt cx="7315200" cy="548640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1066680" y="380880"/>
              <a:ext cx="73152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047760" y="380880"/>
              <a:ext cx="4953240" cy="6426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其实，只要你伸伸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066680" y="380880"/>
            <a:ext cx="7315200" cy="5486400"/>
            <a:chOff x="1066680" y="380880"/>
            <a:chExt cx="7315200" cy="5486400"/>
          </a:xfrm>
        </p:grpSpPr>
        <p:pic>
          <p:nvPicPr>
            <p:cNvPr id="112" name="" descr=""/>
            <p:cNvPicPr/>
            <p:nvPr/>
          </p:nvPicPr>
          <p:blipFill>
            <a:blip r:embed="rId2">
              <a:lum bright="-30000"/>
            </a:blip>
            <a:stretch/>
          </p:blipFill>
          <p:spPr>
            <a:xfrm>
              <a:off x="1066680" y="380880"/>
              <a:ext cx="73152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971800" y="415800"/>
              <a:ext cx="3429000" cy="6426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只需你弯弯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066680" y="380880"/>
            <a:ext cx="7315200" cy="5486400"/>
            <a:chOff x="1066680" y="380880"/>
            <a:chExt cx="7315200" cy="5486400"/>
          </a:xfrm>
        </p:grpSpPr>
        <p:pic>
          <p:nvPicPr>
            <p:cNvPr id="115" name="" descr=""/>
            <p:cNvPicPr/>
            <p:nvPr/>
          </p:nvPicPr>
          <p:blipFill>
            <a:blip r:embed="rId3">
              <a:lum bright="-24000"/>
            </a:blip>
            <a:stretch/>
          </p:blipFill>
          <p:spPr>
            <a:xfrm>
              <a:off x="1066680" y="380880"/>
              <a:ext cx="73152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590560" y="380880"/>
              <a:ext cx="5105520" cy="6426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只要你把事情记在心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066680" y="380880"/>
            <a:ext cx="7315200" cy="5486400"/>
            <a:chOff x="1066680" y="380880"/>
            <a:chExt cx="7315200" cy="5486400"/>
          </a:xfrm>
        </p:grpSpPr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1066680" y="380880"/>
              <a:ext cx="73152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971800" y="380880"/>
              <a:ext cx="3657600" cy="6426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你只要心细一些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066680" y="380880"/>
            <a:ext cx="7315200" cy="5486400"/>
            <a:chOff x="1066680" y="380880"/>
            <a:chExt cx="7315200" cy="5486400"/>
          </a:xfrm>
        </p:grpSpPr>
        <p:pic>
          <p:nvPicPr>
            <p:cNvPr id="121" name="" descr=""/>
            <p:cNvPicPr/>
            <p:nvPr/>
          </p:nvPicPr>
          <p:blipFill>
            <a:blip r:embed="rId5"/>
            <a:stretch/>
          </p:blipFill>
          <p:spPr>
            <a:xfrm>
              <a:off x="1066680" y="380880"/>
              <a:ext cx="73152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514600" y="380880"/>
              <a:ext cx="4647960" cy="6426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你只要心中装着集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066680" y="380880"/>
            <a:ext cx="7315200" cy="5486400"/>
            <a:chOff x="1066680" y="380880"/>
            <a:chExt cx="7315200" cy="5486400"/>
          </a:xfrm>
        </p:grpSpPr>
        <p:pic>
          <p:nvPicPr>
            <p:cNvPr id="124" name="" descr=""/>
            <p:cNvPicPr/>
            <p:nvPr/>
          </p:nvPicPr>
          <p:blipFill>
            <a:blip r:embed="rId6"/>
            <a:stretch/>
          </p:blipFill>
          <p:spPr>
            <a:xfrm>
              <a:off x="1066680" y="380880"/>
              <a:ext cx="73152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143000" y="457200"/>
              <a:ext cx="7162560" cy="6426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你只要记住时刻维护班级的形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21:46Z</dcterms:modified>
  <cp:revision>14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