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3D69-33B5-4639-8553-342F19D58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90A6-46E9-42FD-9468-D83A12AE1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6C14-F427-4BC8-AD47-D5207AC0F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3113-6257-441C-B4D1-8148743F1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1CB19-2EA2-4C4F-A9EA-C9B51DB32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2CC1B-7DE8-4D38-AB32-6F79D46F7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B2AFB-94F8-49B4-B48C-B5B9C1751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118D3-7977-4095-9C0E-13F93D71E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4B9EE-931D-40C0-ADD8-2BC550AAE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8EA26-D817-40E7-BECE-A97E5A6A3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BC984-76DD-46A4-A807-8FB9285A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1AC6-C08E-47CB-B46A-CE8EE47A1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28BC8-154F-4D42-9EAE-D57C83F3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EDC14-6BA2-4C6F-9A3E-B6C5744C8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9A468-D2A4-40DE-8888-93D7830CB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33635-E749-4CE8-A30D-6E3DE6964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66D88-3C1A-4AEE-9B55-4C2B4F60C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BB0C-4FDC-457D-91FC-9EAB0E6E1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3FA8-003A-49D5-AED6-8BCE752AA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E708-2AE5-4E4E-82FE-193515319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7EC6-AAFD-4FE3-8558-710CAF379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4322-8AC6-475B-A220-ED9EDC12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AE5C-2BCB-444E-B6D1-CBEA6DFF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3C00-79D0-4B90-B862-B0E44CB3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8772B-2038-49B4-9383-04E3294D7CA5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C69DC-7C6D-4BC7-A6C3-3996D6C24F2F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572"/>
                </a:solidFill>
                <a:latin typeface="Arial"/>
              </a:rPr>
              <a:t>做有责任心的人</a:t>
            </a:r>
            <a:endParaRPr b="0" lang="en-US" sz="48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962160" y="3212640"/>
            <a:ext cx="51814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高一（六）班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主题班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情景剧表演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情景一：对学习负责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情景二：对工作、对他人、对班集体负责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情景三：对家庭、对自己的生活负责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情景四：对校规、对自己身体健康负责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情景五：对社会负责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责    任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联系实际，列举班级“责任心”强的典型事例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怎样才能做一个有责任心的人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012000" y="0"/>
            <a:ext cx="3132000" cy="1984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804000" y="4046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讨  论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50920" y="333360"/>
            <a:ext cx="849780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大家一起来测一测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选“是”得一分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、与人约会，你通常准时赴约吗？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A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是。 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B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否。 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、你认为你这个人可靠吗？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A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是。 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B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否。 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、你会因未雨绸缪而储蓄吗？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A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是。 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B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否。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、发现朋友犯法，你会通知警察吗？ 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A 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是。 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B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否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、出外旅行，找不到垃圾桶时，你会把垃圾带回家去吗？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A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是。 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B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否。 </a:t>
            </a:r>
            <a:br>
              <a:rPr sz="2800"/>
            </a:br>
            <a:r>
              <a:rPr b="1" lang="zh-CN" sz="1800" spc="-1" strike="noStrike">
                <a:solidFill>
                  <a:srgbClr val="0033cc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、你经常运动以保持健康吗？ 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A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是。 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B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否。 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、你忌吃垃圾食物、脂肪性过高或其他有害健康的食物吗？ 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A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是。 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B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否。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8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、你永远将正事列为优先，再做其他休闲吗？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A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是。 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B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否。 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9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、你从来没有放弃过任何选举权利吗？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A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是。 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B</a:t>
            </a: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否。</a:t>
            </a:r>
            <a:r>
              <a:rPr b="0" lang="zh-CN" sz="18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95280" y="836640"/>
            <a:ext cx="8353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收到别人的信，你总会在一两天内就回信吗？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A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是。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B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否。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11</a:t>
            </a:r>
            <a:r>
              <a:rPr b="1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、“既然决定做一件事情，那么就要把它做好。”你相信这句话吗？</a:t>
            </a:r>
            <a:r>
              <a:rPr b="1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A</a:t>
            </a:r>
            <a:r>
              <a:rPr b="1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是。 </a:t>
            </a:r>
            <a:r>
              <a:rPr b="1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B</a:t>
            </a:r>
            <a:r>
              <a:rPr b="1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否。 </a:t>
            </a: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12</a:t>
            </a:r>
            <a:r>
              <a:rPr b="1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、与人相约，你从来不会耽误，即使自己生病时也不例外吗？ </a:t>
            </a:r>
            <a:r>
              <a:rPr b="1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A</a:t>
            </a:r>
            <a:r>
              <a:rPr b="1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是。 </a:t>
            </a:r>
            <a:r>
              <a:rPr b="1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B</a:t>
            </a:r>
            <a:r>
              <a:rPr b="1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否。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13</a:t>
            </a:r>
            <a:r>
              <a:rPr b="1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、你从没有犯过法吗？</a:t>
            </a:r>
            <a:r>
              <a:rPr b="1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A</a:t>
            </a:r>
            <a:r>
              <a:rPr b="1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是。 </a:t>
            </a:r>
            <a:r>
              <a:rPr b="1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B</a:t>
            </a:r>
            <a:r>
              <a:rPr b="1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否。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14</a:t>
            </a:r>
            <a:r>
              <a:rPr b="1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、在求学时代，你从不拖延作业吗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是。 </a:t>
            </a:r>
            <a:r>
              <a:rPr b="1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B</a:t>
            </a:r>
            <a:r>
              <a:rPr b="1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否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15</a:t>
            </a:r>
            <a:r>
              <a:rPr b="1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、小时候，你经常帮忙做家务吗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是。 </a:t>
            </a:r>
            <a:r>
              <a:rPr b="1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B </a:t>
            </a:r>
            <a:r>
              <a:rPr b="1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否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42472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◆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分数为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10—15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：你是个非常有责任感的人。你行事谨慎、懂礼貌、为人可靠，并且相当诚实。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◆分数为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3—9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：大多数情况下，你都很有责任感，只是偶尔有些率性而为，没有考虑得很周到。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◆分数为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以下：你是个完全不负责任的人。有些朋友的父母可能会对你有成见，力劝儿女少跟你来往。你一次又一次地逃避责任，造成每个工作经常干不长，手上的钱也老是不够用。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68360" y="2421000"/>
            <a:ext cx="82296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华文新魏"/>
              </a:rPr>
              <a:t>生命</a:t>
            </a: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华文新魏"/>
              </a:rPr>
              <a:t>,</a:t>
            </a:r>
            <a:r>
              <a:rPr b="1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华文新魏"/>
              </a:rPr>
              <a:t>让我们隆重登场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华文新魏"/>
              </a:rPr>
              <a:t>责任</a:t>
            </a: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华文新魏"/>
              </a:rPr>
              <a:t>,</a:t>
            </a:r>
            <a:r>
              <a:rPr b="1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华文新魏"/>
              </a:rPr>
              <a:t>让我们璀璨生光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华文新魏"/>
              <a:ea typeface="华文新魏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8172360" y="33336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2124000" y="1989000"/>
            <a:ext cx="4824360" cy="16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再见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09:51:44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1:35:47Z</dcterms:modified>
  <cp:revision>47</cp:revision>
  <dc:subject>主题班会课件(分28大类): http://shop62905894.taobao.com</dc:subject>
  <dc:title>主题班会课件(分28大类): http://shop62905894.taobao.com</dc:title>
</cp:coreProperties>
</file>